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0B8-AF64-4605-8DDB-A211D9B7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AAD-CF2D-46E1-A4A7-20CD78B0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07E-4484-43A9-AA18-F8789551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A1E-FEF2-4DCB-BA60-BA40BF2C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425-E1D9-46C3-820B-A2CBD20F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033-E527-42E8-BD7B-3B9ABA30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441-01F2-4AB3-9147-1F2489CD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353-9D48-424A-A8D9-E049239E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8FB-4C09-4BA4-9DC1-1D02EFAD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9F3-7ECF-4FE9-A4D8-D28978FC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093-3E76-4544-BF70-94ECFDF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8A8-E151-45B1-BF42-07468F83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C1A0-E2B3-443C-943E-AA71EF445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76400" y="890640"/>
          <a:ext cx="7867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67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27080" y="743040"/>
          <a:ext cx="754560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743040"/>
                    <a:ext cx="7545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65080" y="692280"/>
          <a:ext cx="792972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9297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336680" y="878040"/>
          <a:ext cx="7062840" cy="55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88920" y="655560"/>
          <a:ext cx="721224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21224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779400"/>
          <a:ext cx="8388360" cy="628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779400"/>
                    <a:ext cx="838836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14480" y="668160"/>
          <a:ext cx="77436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68160"/>
                    <a:ext cx="77436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52560" y="668160"/>
          <a:ext cx="7372440" cy="56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68160"/>
                    <a:ext cx="737244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717480"/>
          <a:ext cx="81518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717480"/>
                    <a:ext cx="81518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79400" y="655560"/>
          <a:ext cx="8077320" cy="549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55560"/>
                    <a:ext cx="8077320" cy="54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92280" y="803160"/>
          <a:ext cx="8089920" cy="5418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803160"/>
                    <a:ext cx="8089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7480" y="531720"/>
          <a:ext cx="8177400" cy="60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31720"/>
                    <a:ext cx="817740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16120" y="692280"/>
          <a:ext cx="81151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151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77760" y="606600"/>
          <a:ext cx="737244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06600"/>
                    <a:ext cx="737244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53920" y="531720"/>
          <a:ext cx="82630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82630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77760" y="717480"/>
          <a:ext cx="742176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717480"/>
                    <a:ext cx="742176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14480" y="692280"/>
          <a:ext cx="743436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92280"/>
                    <a:ext cx="743436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7480" y="557280"/>
          <a:ext cx="81644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1644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5-01-21T13:53:40Z</cp:lastPrinted>
  <dcterms:modified xsi:type="dcterms:W3CDTF">2005-01-21T14:29:58Z</dcterms:modified>
  <cp:revision>9</cp:revision>
  <dc:subject/>
  <dc:title>Sin título de diapositiva</dc:title>
</cp:coreProperties>
</file>