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BC4-570D-42E6-AF61-0DCCEBF6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FBD-A0A4-4679-B069-77A9B5C9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1AC-D60F-4B6F-9AD3-7DFA918E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45C-EBAD-4B08-A6E6-9A8F2E4C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D7A-7953-4709-8E10-499C72FE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9102-5452-4794-8C43-0B88F20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534-FA42-4F5B-A65C-884F7947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8A1-7906-4AFB-A32C-2A87BB92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B4C-0FD8-405F-AADB-0A8002E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220-A70F-4006-A9B8-4AE4FED2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935-1B8F-44C4-8A6E-839A21DE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DA4-43CF-4BC5-8A91-FCE8EBF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358F-35FD-4722-9506-068837DFA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76400" y="890640"/>
          <a:ext cx="7867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67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27080" y="743040"/>
          <a:ext cx="754560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743040"/>
                    <a:ext cx="75456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65080" y="692280"/>
          <a:ext cx="792972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92972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336680" y="878040"/>
          <a:ext cx="7062840" cy="55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88920" y="655560"/>
          <a:ext cx="721224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2122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779400"/>
          <a:ext cx="838836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779400"/>
                    <a:ext cx="83883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14480" y="668160"/>
          <a:ext cx="77436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68160"/>
                    <a:ext cx="77436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668160"/>
          <a:ext cx="7372440" cy="56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68160"/>
                    <a:ext cx="737244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717480"/>
          <a:ext cx="81518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17480"/>
                    <a:ext cx="81518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79400" y="655560"/>
          <a:ext cx="8077320" cy="549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55560"/>
                    <a:ext cx="8077320" cy="549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92280" y="803160"/>
          <a:ext cx="8089920" cy="5418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803160"/>
                    <a:ext cx="808992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7480" y="531720"/>
          <a:ext cx="8177400" cy="60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31720"/>
                    <a:ext cx="817740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16120" y="692280"/>
          <a:ext cx="81151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151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77760" y="60660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0660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53920" y="531720"/>
          <a:ext cx="82630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82630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77760" y="717480"/>
          <a:ext cx="742176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717480"/>
                    <a:ext cx="742176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692280"/>
          <a:ext cx="743436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43436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7480" y="557280"/>
          <a:ext cx="816444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1-21T13:53:40Z</cp:lastPrinted>
  <dcterms:modified xsi:type="dcterms:W3CDTF">2005-01-21T14:29:58Z</dcterms:modified>
  <cp:revision>9</cp:revision>
  <dc:subject/>
  <dc:title>Sin título de diapositiva</dc:title>
</cp:coreProperties>
</file>