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EBB-27B6-4998-A0E2-CDC76A91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93A-F1FE-49B8-BB2E-7FBE8672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68C-2F24-4139-9786-F4F194AF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3AE-C7D3-4045-B1CB-CAAF33E1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43A-6500-413C-8437-D7DD3C8C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587-7430-4141-BC51-3101DC7D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CD7-0817-4FA6-BE4B-FA89F6AD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D7B-35B5-43AB-BDF1-140B8436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690-708E-4467-B6B4-AF17C845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2CA-1DC9-48C8-BCF9-ABD8DDA0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4D7-24BF-4C66-BF49-8D091E27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2E4-1B5C-4365-A87E-BC8D9439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9C6B-D183-4FDF-B3D0-8D28528A6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42960" y="519120"/>
          <a:ext cx="8263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19120"/>
                    <a:ext cx="8263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8040" y="841320"/>
          <a:ext cx="774360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841320"/>
                    <a:ext cx="774360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55560"/>
          <a:ext cx="82645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82645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890640"/>
          <a:ext cx="822672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890640"/>
                    <a:ext cx="822672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7760" y="668160"/>
          <a:ext cx="756936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668160"/>
                    <a:ext cx="756936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25360" y="890640"/>
          <a:ext cx="766944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890640"/>
                    <a:ext cx="766944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27000" y="743040"/>
          <a:ext cx="7769160" cy="56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3040"/>
                    <a:ext cx="776916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39680" y="803160"/>
          <a:ext cx="748368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803160"/>
                    <a:ext cx="748368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9960" y="717480"/>
          <a:ext cx="76327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6327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50920" y="1039680"/>
          <a:ext cx="726120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039680"/>
                    <a:ext cx="726120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81120"/>
          <a:ext cx="79534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1120"/>
                    <a:ext cx="79534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15840" y="655560"/>
          <a:ext cx="74581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4581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5-01-19T12:40:11Z</cp:lastPrinted>
  <dcterms:modified xsi:type="dcterms:W3CDTF">2005-01-19T15:10:26Z</dcterms:modified>
  <cp:revision>7</cp:revision>
  <dc:subject/>
  <dc:title>Sin título de diapositiva</dc:title>
</cp:coreProperties>
</file>