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235-F5DD-4AC3-9825-574D45A1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E0AF-B847-4A82-9681-86D4C483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3166-05F6-485C-AD68-F2EBDB77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5FA-BBE0-43BC-8817-2B08B4C9D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B78-04A1-4E69-B205-60D046F5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75C1-37F4-4409-8696-9C7768D4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418-CF31-4D1C-AB2A-49AE3F6D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FFEC-9B60-4DBA-8BE1-DF1BF0FE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562-D993-42F7-8808-7FBC4A42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631-2260-4534-AB6A-421EF49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D4C-3B39-4D2C-B4A7-C659D182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72D4-93A9-4F54-A8B9-FD0368D5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FE1B-7AD0-4FA9-B97A-A0E9EA0FF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42960" y="519120"/>
          <a:ext cx="8263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19120"/>
                    <a:ext cx="8263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78040" y="841320"/>
          <a:ext cx="77436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841320"/>
                    <a:ext cx="77436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55560"/>
          <a:ext cx="82645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55560"/>
                    <a:ext cx="82645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68160" y="890640"/>
          <a:ext cx="822672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890640"/>
                    <a:ext cx="822672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7760" y="668160"/>
          <a:ext cx="756936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668160"/>
                    <a:ext cx="756936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125360" y="890640"/>
          <a:ext cx="7669440" cy="52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890640"/>
                    <a:ext cx="766944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27000" y="743040"/>
          <a:ext cx="7769160" cy="56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3040"/>
                    <a:ext cx="77691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39680" y="803160"/>
          <a:ext cx="748368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803160"/>
                    <a:ext cx="748368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39960" y="717480"/>
          <a:ext cx="76327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17480"/>
                    <a:ext cx="76327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0920" y="1039680"/>
          <a:ext cx="726120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039680"/>
                    <a:ext cx="726120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81120"/>
          <a:ext cx="79534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81120"/>
                    <a:ext cx="79534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15840" y="655560"/>
          <a:ext cx="74581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4581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5-01-19T12:40:11Z</cp:lastPrinted>
  <dcterms:modified xsi:type="dcterms:W3CDTF">2005-01-19T15:10:26Z</dcterms:modified>
  <cp:revision>7</cp:revision>
  <dc:subject/>
  <dc:title>Sin título de diapositiva</dc:title>
</cp:coreProperties>
</file>