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83A-9DB2-4B75-BDC0-80901E18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C04-33F3-44FF-9D58-7B64EA11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109-04D2-4E9E-B9BD-594B9B84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D6E-DC25-434F-8806-B84E3C2C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6EA-04BF-45C0-BDD3-6D0C1290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C64-4D37-4B70-A9DD-B8780DF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32B-34EA-4273-AB45-4D0572E0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A0E-622E-469E-ABBB-AEE67369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DD7-CDF0-4004-BE7A-C1822F3D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EC8-0736-4F0B-8787-C24414C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524-41CF-45BD-8D0A-D310DBC3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0AE-52E8-4801-A337-0903273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72C6-C85E-4B47-AA97-CA2D73262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841320"/>
          <a:ext cx="77436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841320"/>
                    <a:ext cx="77436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22672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22672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7000" y="743040"/>
          <a:ext cx="776916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803160"/>
          <a:ext cx="748368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03160"/>
                    <a:ext cx="748368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5-01-19T12:40:11Z</cp:lastPrinted>
  <dcterms:modified xsi:type="dcterms:W3CDTF">2005-01-19T15:10:26Z</dcterms:modified>
  <cp:revision>7</cp:revision>
  <dc:subject/>
  <dc:title>Sin título de diapositiva</dc:title>
</cp:coreProperties>
</file>