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40D-C37A-4B27-875C-2BBA2B11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510-E34B-4A7E-BF2F-14EF5F28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ED7-AE22-4B48-87D7-01A24913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0A6-49F3-47A4-B98A-6C580BAC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6F5-0630-4CB1-BA46-315D2F72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ED0-468C-44B8-B609-573C88B6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0BD0-D70C-4B05-9358-724F11FA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331-FF0D-4685-8865-8C8F8232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106-6446-4599-8C6F-D2010F37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2F45-112E-4381-9AB5-195A5836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871-2BF3-4524-ACB1-1B9764D7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CE64-55D3-4BBE-941D-1012655A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5B5B-05F1-4076-AFD2-C4AE0C94E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42960" y="519120"/>
          <a:ext cx="8263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19120"/>
                    <a:ext cx="8263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8040" y="841320"/>
          <a:ext cx="774360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841320"/>
                    <a:ext cx="774360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655560"/>
          <a:ext cx="82645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55560"/>
                    <a:ext cx="82645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890640"/>
          <a:ext cx="822672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890640"/>
                    <a:ext cx="822672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7760" y="668160"/>
          <a:ext cx="756936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668160"/>
                    <a:ext cx="756936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25360" y="890640"/>
          <a:ext cx="766944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890640"/>
                    <a:ext cx="766944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27000" y="743040"/>
          <a:ext cx="7769160" cy="56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3040"/>
                    <a:ext cx="776916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39680" y="803160"/>
          <a:ext cx="748368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803160"/>
                    <a:ext cx="748368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39960" y="717480"/>
          <a:ext cx="76327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6327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50920" y="1039680"/>
          <a:ext cx="726120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039680"/>
                    <a:ext cx="726120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81120"/>
          <a:ext cx="79534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81120"/>
                    <a:ext cx="79534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15840" y="655560"/>
          <a:ext cx="745812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45812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5-01-19T12:40:11Z</cp:lastPrinted>
  <dcterms:modified xsi:type="dcterms:W3CDTF">2005-01-19T15:10:26Z</dcterms:modified>
  <cp:revision>7</cp:revision>
  <dc:subject/>
  <dc:title>Sin título de diapositiva</dc:title>
</cp:coreProperties>
</file>