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DFB-9FE4-49FA-8CFD-C3356344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2F5-C1AA-4000-B6E4-3F7DA6C9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963-85A4-44FA-BF53-04A9AC62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18C-5C2F-4A6C-9F51-8662BD0F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692-B07F-436B-A1E2-2311C55E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C6C-D667-45B6-BAF0-F3ED6C19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4FF-D9E5-4FE8-8B19-9845511D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55E-79FC-4C3F-B01A-76C013C7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662-2B83-4571-9EF6-ECBF0DE3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208-F90D-4E74-8876-FE908F7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89E-9FA2-4003-AE86-E4261309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F3B-E241-4A2F-A9DA-5CBF60D2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DE58-9BAF-473D-BADF-2F4C2C4B8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92000" y="581040"/>
          <a:ext cx="7829640" cy="674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82964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52560" y="754200"/>
          <a:ext cx="778032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754200"/>
                    <a:ext cx="778032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52560" y="593640"/>
          <a:ext cx="77072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593640"/>
                    <a:ext cx="77072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30080" y="692280"/>
          <a:ext cx="8337600" cy="832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080" y="692280"/>
                    <a:ext cx="8337600" cy="83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681120"/>
          <a:ext cx="797868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797868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77760" y="841320"/>
          <a:ext cx="75819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841320"/>
                    <a:ext cx="75819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1-17T14:22:16Z</cp:lastPrinted>
  <dcterms:modified xsi:type="dcterms:W3CDTF">2005-01-17T14:38:17Z</dcterms:modified>
  <cp:revision>5</cp:revision>
  <dc:subject/>
  <dc:title>Sin título de diapositiva</dc:title>
</cp:coreProperties>
</file>