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C510-452E-44EC-95EE-56AC7A88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D15B-C2E2-4859-BCF6-0D81BB5B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A75-8B75-412A-B3B9-A8BA819C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164-33D6-4722-8972-AD990164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D317-848C-4907-8411-01875359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7E4-A0B2-464F-BA92-CF804E26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18A-839A-4CA3-A81A-E16DB277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586F-DD70-4FC4-A5B6-61260752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D492-682D-401D-8BDB-D1350B90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C95-7192-420B-9C34-0B8AE034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8E6-ACB9-45C1-AD87-A4B43B3E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BBC3-E1AC-416B-BCCF-B8C3042B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4A3C-F06B-419E-A058-AAA14C8F6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7480" y="841320"/>
          <a:ext cx="81518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841320"/>
                    <a:ext cx="81518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65080" y="692280"/>
          <a:ext cx="758376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92280"/>
                    <a:ext cx="758376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39960" y="717480"/>
          <a:ext cx="741024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4102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76400" y="816120"/>
          <a:ext cx="7372440" cy="52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16120"/>
                    <a:ext cx="737244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41320" y="803160"/>
          <a:ext cx="8028000" cy="572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803160"/>
                    <a:ext cx="8028000" cy="57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92000" y="581040"/>
          <a:ext cx="7829640" cy="674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81040"/>
                    <a:ext cx="7829640" cy="67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27080" y="890640"/>
          <a:ext cx="766908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890640"/>
                    <a:ext cx="7669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52560" y="754200"/>
          <a:ext cx="778032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754200"/>
                    <a:ext cx="778032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52560" y="593640"/>
          <a:ext cx="770724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593640"/>
                    <a:ext cx="77072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4200" y="681120"/>
          <a:ext cx="804060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804060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2080" y="841320"/>
          <a:ext cx="725004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841320"/>
                    <a:ext cx="725004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1600" y="803160"/>
          <a:ext cx="76564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803160"/>
                    <a:ext cx="76564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878040"/>
          <a:ext cx="74962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78040"/>
                    <a:ext cx="74962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30080" y="692280"/>
          <a:ext cx="8337600" cy="8326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080" y="692280"/>
                    <a:ext cx="8337600" cy="83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681120"/>
          <a:ext cx="7978680" cy="59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81120"/>
                    <a:ext cx="797868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77760" y="841320"/>
          <a:ext cx="75819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841320"/>
                    <a:ext cx="75819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5-01-17T14:22:16Z</cp:lastPrinted>
  <dcterms:modified xsi:type="dcterms:W3CDTF">2005-01-17T14:38:17Z</dcterms:modified>
  <cp:revision>5</cp:revision>
  <dc:subject/>
  <dc:title>Sin título de diapositiva</dc:title>
</cp:coreProperties>
</file>