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132-73C0-4942-8CC1-E04E09744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1693-1D4D-488D-B143-436309D3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A9A4-31C8-4C87-BADB-64A1385B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646-9FF9-419C-A43E-B8F3AAF2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32C-57D0-4379-98CD-9ED1778D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40BC-0766-483D-8B2E-468CACF9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43F9-4D40-48B6-8FA7-4CE1F40E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1D1D-E50A-408B-9264-8050C16F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17E-443B-419F-930F-6465AF34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7A1-B81F-4267-92A5-FF127C43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2CE-FBF5-4E64-AB2A-C2E7186F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482-0D6C-450B-9693-B18050BE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31D9-548C-4D0B-B909-415B85189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49200" y="965160"/>
          <a:ext cx="7236000" cy="531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965160"/>
                    <a:ext cx="7236000" cy="53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17480" y="841320"/>
          <a:ext cx="81518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841320"/>
                    <a:ext cx="81518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65080" y="692280"/>
          <a:ext cx="758376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92280"/>
                    <a:ext cx="758376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39960" y="717480"/>
          <a:ext cx="741024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4102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76400" y="816120"/>
          <a:ext cx="7372440" cy="52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816120"/>
                    <a:ext cx="737244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41320" y="803160"/>
          <a:ext cx="8028000" cy="572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803160"/>
                    <a:ext cx="8028000" cy="572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92000" y="581040"/>
          <a:ext cx="7829640" cy="674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81040"/>
                    <a:ext cx="7829640" cy="67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027080" y="890640"/>
          <a:ext cx="766908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890640"/>
                    <a:ext cx="76690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52560" y="754200"/>
          <a:ext cx="778032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754200"/>
                    <a:ext cx="778032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52560" y="593640"/>
          <a:ext cx="770724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593640"/>
                    <a:ext cx="77072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54200" y="681120"/>
          <a:ext cx="804060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81120"/>
                    <a:ext cx="804060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2080" y="841320"/>
          <a:ext cx="725004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841320"/>
                    <a:ext cx="725004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1600" y="803160"/>
          <a:ext cx="765648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803160"/>
                    <a:ext cx="765648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878040"/>
          <a:ext cx="749628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78040"/>
                    <a:ext cx="749628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30080" y="692280"/>
          <a:ext cx="8337600" cy="8326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0080" y="692280"/>
                    <a:ext cx="8337600" cy="83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681120"/>
          <a:ext cx="7978680" cy="591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81120"/>
                    <a:ext cx="797868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77760" y="841320"/>
          <a:ext cx="75819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841320"/>
                    <a:ext cx="75819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5-01-17T14:22:16Z</cp:lastPrinted>
  <dcterms:modified xsi:type="dcterms:W3CDTF">2005-01-17T14:38:17Z</dcterms:modified>
  <cp:revision>5</cp:revision>
  <dc:subject/>
  <dc:title>Sin título de diapositiva</dc:title>
</cp:coreProperties>
</file>