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BDD-A3E6-4DC9-852C-034A6A32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CA5-AB28-4097-B159-A5240A49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C8D-2540-42B2-933A-DA832209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217-31F5-4A00-A878-F94A3C40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2C8-47F3-4FC3-A394-7AF7F0CD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790-1CE2-40F8-B35B-F9E88492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D03-BBA1-4A22-BB6B-035AFC30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C86-6B59-4477-8164-FF9149A2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190-B3C8-4077-B917-82B5D7E2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705-8AAA-4600-8F45-49D18855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03E-5B8B-4551-BADA-E70C6B45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739-D06F-4D67-A106-EA1AC111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7531-F8EA-48FB-8181-F75EF1691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9000" y="606600"/>
          <a:ext cx="7334280" cy="76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606600"/>
                    <a:ext cx="7334280" cy="76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730080"/>
          <a:ext cx="801540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730080"/>
                    <a:ext cx="801540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65080" y="743040"/>
          <a:ext cx="8016840" cy="550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743040"/>
                    <a:ext cx="8016840" cy="55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112760" y="890640"/>
          <a:ext cx="716292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890640"/>
                    <a:ext cx="71629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89000" y="841320"/>
          <a:ext cx="7558200" cy="528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841320"/>
                    <a:ext cx="755820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200240" y="828720"/>
          <a:ext cx="665460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28720"/>
                    <a:ext cx="665460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4480" y="816120"/>
          <a:ext cx="76690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690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54200" y="681120"/>
          <a:ext cx="8115120" cy="73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115120" cy="73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27000" y="792000"/>
          <a:ext cx="7880400" cy="560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2000"/>
                    <a:ext cx="7880400" cy="56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2160" y="792000"/>
          <a:ext cx="706284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792000"/>
                    <a:ext cx="706284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890640" y="630360"/>
          <a:ext cx="786744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30360"/>
                    <a:ext cx="786744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063800" y="730080"/>
          <a:ext cx="758340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730080"/>
                    <a:ext cx="75834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5560" y="792000"/>
          <a:ext cx="8301240" cy="555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792000"/>
                    <a:ext cx="8301240" cy="55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841320" y="988920"/>
          <a:ext cx="813924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88920"/>
                    <a:ext cx="813924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766800" y="803160"/>
          <a:ext cx="805320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03160"/>
                    <a:ext cx="80532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76400" y="704880"/>
          <a:ext cx="7286400" cy="580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704880"/>
                    <a:ext cx="728640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704880"/>
          <a:ext cx="7619760" cy="691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04880"/>
                    <a:ext cx="7619760" cy="691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4200" y="642960"/>
          <a:ext cx="791676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42960"/>
                    <a:ext cx="791676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27080" y="803160"/>
          <a:ext cx="7372440" cy="59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03160"/>
                    <a:ext cx="7372440" cy="59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5920" y="681120"/>
          <a:ext cx="687852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681120"/>
                    <a:ext cx="687852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1-14T13:37:04Z</cp:lastPrinted>
  <dcterms:modified xsi:type="dcterms:W3CDTF">2005-01-14T14:02:06Z</dcterms:modified>
  <cp:revision>9</cp:revision>
  <dc:subject/>
  <dc:title>Sin título de diapositiva</dc:title>
</cp:coreProperties>
</file>