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2218-4ECB-437B-B995-CA2A9721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727-CFAB-4BDF-B6D5-B208A5E3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ED7-68E6-45F6-A423-4CC29657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5ED-9BA4-4E95-82E2-311B7E99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8F3-DEB5-44CC-80D7-326C5DBF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BFFB-02BC-465E-840A-66B38B41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A4F-AF13-464A-9310-C6D1CC72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546-D9CC-41E9-A365-31A7CDA4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7D8-94AA-471E-8B27-69326E80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B40-FC67-444F-BC5C-14BC8E2E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5AA-E67E-49F0-B574-53CB65EA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38A-A635-487B-BDD7-AA19469B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390C-52C8-4350-AE1B-02DC4B0CF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89000" y="606600"/>
          <a:ext cx="7334280" cy="76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606600"/>
                    <a:ext cx="7334280" cy="76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79400" y="730080"/>
          <a:ext cx="801540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730080"/>
                    <a:ext cx="801540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65080" y="743040"/>
          <a:ext cx="8016840" cy="550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743040"/>
                    <a:ext cx="8016840" cy="55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112760" y="890640"/>
          <a:ext cx="7162920" cy="51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890640"/>
                    <a:ext cx="716292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89000" y="841320"/>
          <a:ext cx="7558200" cy="528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841320"/>
                    <a:ext cx="755820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200240" y="828720"/>
          <a:ext cx="665460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28720"/>
                    <a:ext cx="665460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14480" y="816120"/>
          <a:ext cx="76690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690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54200" y="681120"/>
          <a:ext cx="8115120" cy="73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115120" cy="73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27000" y="792000"/>
          <a:ext cx="7880400" cy="560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2000"/>
                    <a:ext cx="7880400" cy="56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2160" y="792000"/>
          <a:ext cx="706284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792000"/>
                    <a:ext cx="706284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890640" y="630360"/>
          <a:ext cx="786744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30360"/>
                    <a:ext cx="786744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063800" y="730080"/>
          <a:ext cx="758340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730080"/>
                    <a:ext cx="75834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55560" y="792000"/>
          <a:ext cx="8301240" cy="555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792000"/>
                    <a:ext cx="8301240" cy="55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841320" y="988920"/>
          <a:ext cx="8139240" cy="51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88920"/>
                    <a:ext cx="813924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766800" y="803160"/>
          <a:ext cx="805320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03160"/>
                    <a:ext cx="80532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76400" y="704880"/>
          <a:ext cx="7286400" cy="580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704880"/>
                    <a:ext cx="7286400" cy="58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704880"/>
          <a:ext cx="7619760" cy="691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04880"/>
                    <a:ext cx="7619760" cy="691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4200" y="642960"/>
          <a:ext cx="791676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42960"/>
                    <a:ext cx="791676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27080" y="803160"/>
          <a:ext cx="7372440" cy="59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03160"/>
                    <a:ext cx="7372440" cy="59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5920" y="681120"/>
          <a:ext cx="687852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681120"/>
                    <a:ext cx="687852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5-01-14T13:37:04Z</cp:lastPrinted>
  <dcterms:modified xsi:type="dcterms:W3CDTF">2005-01-14T14:02:06Z</dcterms:modified>
  <cp:revision>9</cp:revision>
  <dc:subject/>
  <dc:title>Sin título de diapositiva</dc:title>
</cp:coreProperties>
</file>