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23.wmf" ContentType="image/x-wmf"/>
  <Override PartName="/ppt/media/image4.wmf" ContentType="image/x-wmf"/>
  <Override PartName="/ppt/media/image27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7F07-5B7D-4932-8985-20D288FB1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09E0-9C12-4FC1-B437-FB85F2248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4E8F-B47F-40F2-8325-6A63F6957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EDBC-27BC-4BE7-AFF3-27320ACA7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7BDC-D008-4E99-B699-B0890A5FA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32D2-F5B4-422E-A7BA-7DF698D8E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2D06-42A5-4282-B2F4-60037DA3F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42CA-D41F-4C4F-9455-D3DAD14D0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DE98-1E9E-4CF1-A36D-61EB1A482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90DE-434B-4A8D-9BFD-A7BC0EA52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5C58-9FD6-41E0-A2B7-1CFC34917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496D-FFB1-44B3-8CC8-9C14E1515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65F2E-7B84-48DF-8D5B-90D309604F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089000" y="606600"/>
          <a:ext cx="7334280" cy="7643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9000" y="606600"/>
                    <a:ext cx="7334280" cy="764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779400" y="730080"/>
          <a:ext cx="8015400" cy="5294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9400" y="730080"/>
                    <a:ext cx="8015400" cy="529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865080" y="743040"/>
          <a:ext cx="8016840" cy="5503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743040"/>
                    <a:ext cx="8016840" cy="550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1112760" y="890640"/>
          <a:ext cx="7162920" cy="5121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2760" y="890640"/>
                    <a:ext cx="7162920" cy="512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988920" y="803160"/>
          <a:ext cx="6977160" cy="538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8920" y="803160"/>
                    <a:ext cx="6977160" cy="53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1089000" y="841320"/>
          <a:ext cx="7558200" cy="5281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9000" y="841320"/>
                    <a:ext cx="7558200" cy="52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1200240" y="828720"/>
          <a:ext cx="6654600" cy="5146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00240" y="828720"/>
                    <a:ext cx="6654600" cy="514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1014480" y="816120"/>
          <a:ext cx="7669080" cy="5332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4480" y="816120"/>
                    <a:ext cx="7669080" cy="533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754200" y="681120"/>
          <a:ext cx="8115120" cy="7323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681120"/>
                    <a:ext cx="8115120" cy="732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853920" y="531720"/>
          <a:ext cx="7520040" cy="6061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3920" y="531720"/>
                    <a:ext cx="7520040" cy="606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927000" y="792000"/>
          <a:ext cx="7880400" cy="5604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7000" y="792000"/>
                    <a:ext cx="7880400" cy="560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1262160" y="792000"/>
          <a:ext cx="7062840" cy="538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2160" y="792000"/>
                    <a:ext cx="7062840" cy="538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890640" y="630360"/>
          <a:ext cx="7867440" cy="6049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90640" y="630360"/>
                    <a:ext cx="7867440" cy="604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1063800" y="730080"/>
          <a:ext cx="7583400" cy="5950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3800" y="730080"/>
                    <a:ext cx="7583400" cy="595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655560" y="792000"/>
          <a:ext cx="8301240" cy="5553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5560" y="792000"/>
                    <a:ext cx="8301240" cy="555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841320" y="988920"/>
          <a:ext cx="8139240" cy="5121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1320" y="988920"/>
                    <a:ext cx="8139240" cy="512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766800" y="803160"/>
          <a:ext cx="8053200" cy="538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6800" y="803160"/>
                    <a:ext cx="8053200" cy="53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"/>
          <p:cNvGraphicFramePr/>
          <p:nvPr/>
        </p:nvGraphicFramePr>
        <p:xfrm>
          <a:off x="754200" y="619200"/>
          <a:ext cx="7893000" cy="6406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619200"/>
                    <a:ext cx="7893000" cy="640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792000" y="260280"/>
          <a:ext cx="7545600" cy="6319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2000" y="260280"/>
                    <a:ext cx="7545600" cy="631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1112760" y="743040"/>
          <a:ext cx="7547040" cy="5454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2760" y="743040"/>
                    <a:ext cx="7547040" cy="545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1050840" y="828720"/>
          <a:ext cx="7508880" cy="5392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0840" y="828720"/>
                    <a:ext cx="7508880" cy="539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915840" y="779400"/>
          <a:ext cx="7855200" cy="6037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779400"/>
                    <a:ext cx="7855200" cy="603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1039680" y="779400"/>
          <a:ext cx="7496280" cy="5913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9680" y="779400"/>
                    <a:ext cx="7496280" cy="591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828720" y="482760"/>
          <a:ext cx="7893000" cy="6729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8720" y="482760"/>
                    <a:ext cx="7893000" cy="672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1336680" y="952560"/>
          <a:ext cx="5294160" cy="4836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6680" y="952560"/>
                    <a:ext cx="5294160" cy="483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1076400" y="704880"/>
          <a:ext cx="7286400" cy="5802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6400" y="704880"/>
                    <a:ext cx="7286400" cy="580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1014480" y="704880"/>
          <a:ext cx="7619760" cy="6915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4480" y="704880"/>
                    <a:ext cx="7619760" cy="691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754200" y="642960"/>
          <a:ext cx="7916760" cy="5294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642960"/>
                    <a:ext cx="7916760" cy="529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1027080" y="803160"/>
          <a:ext cx="7372440" cy="5951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27080" y="803160"/>
                    <a:ext cx="7372440" cy="595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1285920" y="681120"/>
          <a:ext cx="6878520" cy="5529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5920" y="681120"/>
                    <a:ext cx="6878520" cy="552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2T19:33:58Z</dcterms:created>
  <dc:creator>jalvarez</dc:creator>
  <dc:description/>
  <dc:language>en-US</dc:language>
  <cp:lastModifiedBy>jalvarez</cp:lastModifiedBy>
  <cp:lastPrinted>2005-01-14T13:37:04Z</cp:lastPrinted>
  <dcterms:modified xsi:type="dcterms:W3CDTF">2005-01-14T14:02:06Z</dcterms:modified>
  <cp:revision>9</cp:revision>
  <dc:subject/>
  <dc:title>Sin título de diapositiva</dc:title>
</cp:coreProperties>
</file>