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7C98-6ADD-41F0-8CC3-7EC5A24A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ABD2-60A8-41CD-9668-29B1B5C8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8DE-3C4B-4FA9-A891-1B99523C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705-B44C-4CF6-985A-60AF60FB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B303-7D8A-419F-A2DB-A7B20A37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FC2-5C54-4E2C-8968-5B007187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2143-515F-48BC-A2C3-B634CEDF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5157-04A4-439D-95B6-8D4B7EEE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53B0-35D9-4643-8242-5F376BB2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C264-C07B-4EF5-B1BA-6CD16C00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042E-4460-41EF-830D-8F418B36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8CB4-C8CD-4028-AE5A-A2FA46F3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241F-5977-4A26-8876-7A4693F98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89000" y="606600"/>
          <a:ext cx="7334280" cy="76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606600"/>
                    <a:ext cx="7334280" cy="76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79400" y="730080"/>
          <a:ext cx="801540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730080"/>
                    <a:ext cx="801540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65080" y="743040"/>
          <a:ext cx="8016840" cy="550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743040"/>
                    <a:ext cx="8016840" cy="55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112760" y="890640"/>
          <a:ext cx="7162920" cy="51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890640"/>
                    <a:ext cx="716292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88920" y="803160"/>
          <a:ext cx="69771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803160"/>
                    <a:ext cx="69771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89000" y="841320"/>
          <a:ext cx="7558200" cy="528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841320"/>
                    <a:ext cx="755820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200240" y="828720"/>
          <a:ext cx="6654600" cy="514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28720"/>
                    <a:ext cx="665460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14480" y="816120"/>
          <a:ext cx="766908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16120"/>
                    <a:ext cx="76690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54200" y="681120"/>
          <a:ext cx="8115120" cy="732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81120"/>
                    <a:ext cx="8115120" cy="73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53920" y="531720"/>
          <a:ext cx="752004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27000" y="792000"/>
          <a:ext cx="7880400" cy="560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92000"/>
                    <a:ext cx="7880400" cy="560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62160" y="792000"/>
          <a:ext cx="706284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792000"/>
                    <a:ext cx="706284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890640" y="630360"/>
          <a:ext cx="786744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630360"/>
                    <a:ext cx="786744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063800" y="730080"/>
          <a:ext cx="7583400" cy="59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730080"/>
                    <a:ext cx="75834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55560" y="792000"/>
          <a:ext cx="8301240" cy="555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792000"/>
                    <a:ext cx="8301240" cy="55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841320" y="988920"/>
          <a:ext cx="8139240" cy="51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88920"/>
                    <a:ext cx="813924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766800" y="803160"/>
          <a:ext cx="805320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03160"/>
                    <a:ext cx="80532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754200" y="619200"/>
          <a:ext cx="7893000" cy="640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19200"/>
                    <a:ext cx="789300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792000" y="260280"/>
          <a:ext cx="7545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60280"/>
                    <a:ext cx="7545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112760" y="743040"/>
          <a:ext cx="754704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743040"/>
                    <a:ext cx="75470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050840" y="828720"/>
          <a:ext cx="7508880" cy="53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28720"/>
                    <a:ext cx="750888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15840" y="779400"/>
          <a:ext cx="7855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79400"/>
                    <a:ext cx="7855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828720" y="482760"/>
          <a:ext cx="7893000" cy="67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482760"/>
                    <a:ext cx="7893000" cy="67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76400" y="704880"/>
          <a:ext cx="7286400" cy="580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704880"/>
                    <a:ext cx="7286400" cy="58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14480" y="704880"/>
          <a:ext cx="7619760" cy="691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04880"/>
                    <a:ext cx="7619760" cy="691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54200" y="642960"/>
          <a:ext cx="7916760" cy="52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42960"/>
                    <a:ext cx="791676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27080" y="803160"/>
          <a:ext cx="7372440" cy="59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803160"/>
                    <a:ext cx="7372440" cy="59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85920" y="681120"/>
          <a:ext cx="6878520" cy="55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681120"/>
                    <a:ext cx="687852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5-01-14T13:37:04Z</cp:lastPrinted>
  <dcterms:modified xsi:type="dcterms:W3CDTF">2005-01-14T14:02:06Z</dcterms:modified>
  <cp:revision>9</cp:revision>
  <dc:subject/>
  <dc:title>Sin título de diapositiva</dc:title>
</cp:coreProperties>
</file>