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23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DB76-F0E5-4AB4-966D-7473F6B93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86F8-B1F9-43CF-A614-5489D8740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1284-DCD5-4304-AB39-52A57F1FE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C940-B05A-4546-A754-78FB71C0F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B6B8-5864-42FC-9854-3A99650F1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186A-CD24-432E-BA7F-2CD984288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707C-51F6-4914-9DBE-230A51C24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252F-F497-4656-92A7-6788E5816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AF26-7D1F-4510-B7D4-F0F77404B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56E1-CC97-4F0C-9B74-CB7379D1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CA16-7EC7-4213-8C7B-64AD81C3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6162-414B-4C8D-AC82-79F4338F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43425-00DD-44B9-9FAB-C2162EC653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89000" y="606600"/>
          <a:ext cx="7334280" cy="764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9000" y="606600"/>
                    <a:ext cx="7334280" cy="76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79400" y="730080"/>
          <a:ext cx="8015400" cy="529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400" y="730080"/>
                    <a:ext cx="8015400" cy="529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865080" y="743040"/>
          <a:ext cx="8016840" cy="550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743040"/>
                    <a:ext cx="8016840" cy="55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112760" y="890640"/>
          <a:ext cx="7162920" cy="512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2760" y="890640"/>
                    <a:ext cx="7162920" cy="51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988920" y="803160"/>
          <a:ext cx="6977160" cy="53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803160"/>
                    <a:ext cx="6977160" cy="53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1089000" y="841320"/>
          <a:ext cx="7558200" cy="528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9000" y="841320"/>
                    <a:ext cx="7558200" cy="52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200240" y="828720"/>
          <a:ext cx="6654600" cy="514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828720"/>
                    <a:ext cx="6654600" cy="51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014480" y="816120"/>
          <a:ext cx="7669080" cy="533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816120"/>
                    <a:ext cx="7669080" cy="53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754200" y="681120"/>
          <a:ext cx="8115120" cy="732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81120"/>
                    <a:ext cx="8115120" cy="732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853920" y="531720"/>
          <a:ext cx="7520040" cy="606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531720"/>
                    <a:ext cx="7520040" cy="606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927000" y="792000"/>
          <a:ext cx="7880400" cy="560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7000" y="792000"/>
                    <a:ext cx="7880400" cy="560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262160" y="792000"/>
          <a:ext cx="7062840" cy="538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2160" y="792000"/>
                    <a:ext cx="7062840" cy="538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890640" y="630360"/>
          <a:ext cx="7867440" cy="604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0640" y="630360"/>
                    <a:ext cx="7867440" cy="60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1063800" y="730080"/>
          <a:ext cx="7583400" cy="595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3800" y="730080"/>
                    <a:ext cx="7583400" cy="59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655560" y="792000"/>
          <a:ext cx="8301240" cy="555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792000"/>
                    <a:ext cx="8301240" cy="555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841320" y="988920"/>
          <a:ext cx="8139240" cy="512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988920"/>
                    <a:ext cx="8139240" cy="51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766800" y="803160"/>
          <a:ext cx="8053200" cy="53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803160"/>
                    <a:ext cx="8053200" cy="53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754200" y="619200"/>
          <a:ext cx="7893000" cy="640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19200"/>
                    <a:ext cx="7893000" cy="64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792000" y="260280"/>
          <a:ext cx="7545600" cy="631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260280"/>
                    <a:ext cx="7545600" cy="63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1112760" y="743040"/>
          <a:ext cx="7547040" cy="545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2760" y="743040"/>
                    <a:ext cx="7547040" cy="54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1050840" y="828720"/>
          <a:ext cx="7508880" cy="539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828720"/>
                    <a:ext cx="7508880" cy="53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915840" y="779400"/>
          <a:ext cx="785520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779400"/>
                    <a:ext cx="785520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039680" y="779400"/>
          <a:ext cx="7496280" cy="591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779400"/>
                    <a:ext cx="7496280" cy="59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828720" y="482760"/>
          <a:ext cx="7893000" cy="672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482760"/>
                    <a:ext cx="7893000" cy="67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336680" y="952560"/>
          <a:ext cx="5294160" cy="483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6680" y="952560"/>
                    <a:ext cx="5294160" cy="48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076400" y="704880"/>
          <a:ext cx="7286400" cy="580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704880"/>
                    <a:ext cx="7286400" cy="580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014480" y="704880"/>
          <a:ext cx="7619760" cy="6915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704880"/>
                    <a:ext cx="7619760" cy="691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54200" y="642960"/>
          <a:ext cx="7916760" cy="529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42960"/>
                    <a:ext cx="7916760" cy="52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027080" y="803160"/>
          <a:ext cx="7372440" cy="595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7080" y="803160"/>
                    <a:ext cx="7372440" cy="59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285920" y="681120"/>
          <a:ext cx="6878520" cy="552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920" y="681120"/>
                    <a:ext cx="6878520" cy="55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19:33:58Z</dcterms:created>
  <dc:creator>jalvarez</dc:creator>
  <dc:description/>
  <dc:language>en-US</dc:language>
  <cp:lastModifiedBy>jalvarez</cp:lastModifiedBy>
  <cp:lastPrinted>2005-01-14T13:37:04Z</cp:lastPrinted>
  <dcterms:modified xsi:type="dcterms:W3CDTF">2005-01-14T14:02:06Z</dcterms:modified>
  <cp:revision>9</cp:revision>
  <dc:subject/>
  <dc:title>Sin título de diapositiva</dc:title>
</cp:coreProperties>
</file>