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4E1-E179-4376-AF3C-4984D4AC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6C1-27EF-487C-AB14-48FBF3CF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F5C-4371-4625-8ADA-E9CFEC83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D36-979C-4C06-9285-2E9C9463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7B1-BD3A-43B7-8CD3-798C24B6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5B3-29A1-4E64-B1DF-12E66872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17E-AD5B-4F16-9DF4-27442B5F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4E0-2A2C-49BD-929F-7C694AC3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008-8ADD-49F3-A7A2-0577AF44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40A-F9FE-42E1-86C8-6DCB9A16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0DC-4F8D-43C3-8E86-F8C6E1C8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A62-2222-40E1-AD7A-4BA7A6A1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BF4F-A15E-4F16-B93C-3AA87749B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9000" y="606600"/>
          <a:ext cx="7334280" cy="76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606600"/>
                    <a:ext cx="7334280" cy="76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730080"/>
          <a:ext cx="80154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730080"/>
                    <a:ext cx="80154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65080" y="743040"/>
          <a:ext cx="8016840" cy="55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743040"/>
                    <a:ext cx="8016840" cy="55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12760" y="890640"/>
          <a:ext cx="716292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90640"/>
                    <a:ext cx="71629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89000" y="841320"/>
          <a:ext cx="7558200" cy="528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41320"/>
                    <a:ext cx="755820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00240" y="828720"/>
          <a:ext cx="665460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28720"/>
                    <a:ext cx="66546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4480" y="816120"/>
          <a:ext cx="76690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690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54200" y="681120"/>
          <a:ext cx="8115120" cy="73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115120" cy="73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27000" y="792000"/>
          <a:ext cx="7880400" cy="560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2000"/>
                    <a:ext cx="78804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2160" y="792000"/>
          <a:ext cx="706284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792000"/>
                    <a:ext cx="706284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90640" y="630360"/>
          <a:ext cx="786744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30360"/>
                    <a:ext cx="78674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63800" y="730080"/>
          <a:ext cx="758340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730080"/>
                    <a:ext cx="75834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988920"/>
          <a:ext cx="813924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88920"/>
                    <a:ext cx="813924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66800" y="803160"/>
          <a:ext cx="80532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03160"/>
                    <a:ext cx="80532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76400" y="704880"/>
          <a:ext cx="7286400" cy="58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704880"/>
                    <a:ext cx="728640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04880"/>
          <a:ext cx="7619760" cy="691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04880"/>
                    <a:ext cx="7619760" cy="691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4200" y="642960"/>
          <a:ext cx="791676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42960"/>
                    <a:ext cx="791676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27080" y="803160"/>
          <a:ext cx="7372440" cy="59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03160"/>
                    <a:ext cx="7372440" cy="59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5920" y="681120"/>
          <a:ext cx="687852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681120"/>
                    <a:ext cx="687852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1-14T13:37:04Z</cp:lastPrinted>
  <dcterms:modified xsi:type="dcterms:W3CDTF">2005-01-14T14:02:06Z</dcterms:modified>
  <cp:revision>9</cp:revision>
  <dc:subject/>
  <dc:title>Sin título de diapositiva</dc:title>
</cp:coreProperties>
</file>