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435-764A-4111-A833-7AEB4EC4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1D3-09C8-46ED-9D37-5BC65EA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F4A-896A-438E-8E04-2ED96EE0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A25-1FF3-4BDE-8AC4-866917CD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575-998B-4BEC-9521-700A2A8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0DE-9515-4957-AF86-D5AE6174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3AC-B732-4F35-A01C-874180AE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086-8802-4632-B69D-A3B0A1DE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C7F-7087-43CF-A48A-625AF162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3B0-2918-4065-BA91-71A14BF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563-2030-4B62-B508-43DA8DC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4B1-1145-4856-9492-952559C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AFE6-25AC-48BB-B369-ECF7DE7FF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323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323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89000" y="743040"/>
          <a:ext cx="737244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88920" y="681120"/>
          <a:ext cx="71373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81120"/>
                    <a:ext cx="7137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274760" y="828720"/>
          <a:ext cx="723600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828720"/>
                    <a:ext cx="723600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6800" y="457200"/>
          <a:ext cx="76201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57200"/>
                    <a:ext cx="76201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5160" y="754200"/>
          <a:ext cx="7891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54200"/>
                    <a:ext cx="7891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52560" y="717480"/>
          <a:ext cx="743436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17480"/>
                    <a:ext cx="743436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1T15:26:03Z</cp:lastPrinted>
  <dcterms:modified xsi:type="dcterms:W3CDTF">2005-01-11T17:01:45Z</dcterms:modified>
  <cp:revision>3</cp:revision>
  <dc:subject/>
  <dc:title>Sin título de diapositiva</dc:title>
</cp:coreProperties>
</file>