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0A5C-12AD-4C5D-A5B5-AD096C9F5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A409-674C-4F7A-A51F-008429444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9E33-4E18-47EE-82FE-7CB3D5FBE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73D6-5F13-4770-9984-570678E1F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EBC1-1F63-4587-A938-0F888503C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2070-35BC-4D06-BA08-5B4552B0E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D56A-02B9-4DA4-8FBF-859BF93B0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B1C7-9A68-4944-8F06-FD1F0BC9E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F2F5-971A-4A60-B97A-69A2B598F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1D14-2C91-4B55-B4D2-7EF010827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852E-CDF8-49B9-B348-73615AF4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0216-636D-4A34-B87F-EF26FC1CD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876D6-30EE-46A3-83EC-9EE7663E7F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01880" y="766800"/>
          <a:ext cx="7632360" cy="5591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1880" y="766800"/>
                    <a:ext cx="7632360" cy="559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890640" y="717480"/>
          <a:ext cx="7991280" cy="557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0640" y="717480"/>
                    <a:ext cx="7991280" cy="55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112760" y="828720"/>
          <a:ext cx="7620120" cy="525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2760" y="828720"/>
                    <a:ext cx="76201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089000" y="743040"/>
          <a:ext cx="7372440" cy="5429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9000" y="743040"/>
                    <a:ext cx="7372440" cy="54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1162080" y="469800"/>
          <a:ext cx="7670880" cy="781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2080" y="469800"/>
                    <a:ext cx="7670880" cy="781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1039680" y="865080"/>
          <a:ext cx="7372440" cy="528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9680" y="865080"/>
                    <a:ext cx="7372440" cy="528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1262160" y="1150920"/>
          <a:ext cx="6791400" cy="447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2160" y="1150920"/>
                    <a:ext cx="6791400" cy="44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988920" y="681120"/>
          <a:ext cx="7137360" cy="545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681120"/>
                    <a:ext cx="7137360" cy="54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988920" y="655560"/>
          <a:ext cx="7336080" cy="582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655560"/>
                    <a:ext cx="7336080" cy="582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076400" y="692280"/>
          <a:ext cx="7162560" cy="545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692280"/>
                    <a:ext cx="7162560" cy="54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274760" y="828720"/>
          <a:ext cx="7236000" cy="5294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4760" y="828720"/>
                    <a:ext cx="7236000" cy="52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766800" y="457200"/>
          <a:ext cx="7620120" cy="550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457200"/>
                    <a:ext cx="762012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965160" y="754200"/>
          <a:ext cx="7891560" cy="566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160" y="754200"/>
                    <a:ext cx="7891560" cy="56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089000" y="717480"/>
          <a:ext cx="7829640" cy="60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9000" y="717480"/>
                    <a:ext cx="782964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952560" y="717480"/>
          <a:ext cx="7434360" cy="536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717480"/>
                    <a:ext cx="7434360" cy="536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1T13:00:51Z</dcterms:created>
  <dc:creator>jalvarez</dc:creator>
  <dc:description/>
  <dc:language>en-US</dc:language>
  <cp:lastModifiedBy>jalvarez</cp:lastModifiedBy>
  <cp:lastPrinted>2005-01-11T15:26:03Z</cp:lastPrinted>
  <dcterms:modified xsi:type="dcterms:W3CDTF">2005-01-11T17:01:45Z</dcterms:modified>
  <cp:revision>3</cp:revision>
  <dc:subject/>
  <dc:title>Sin título de diapositiva</dc:title>
</cp:coreProperties>
</file>