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194-C73F-4E69-A26F-3309491F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38A-3B2F-458B-9543-6240C22E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884-C06F-4CBF-B552-A16523EA4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333-50D6-446D-9E15-CB618048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B24-27EA-48A9-B559-9D68686B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965-E2E4-4B9A-BA62-9FD9A2C3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4867-B302-43EF-BB48-28887425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E9D9-8051-4921-A032-B9707DDD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959-E05F-4F16-B66C-5EE40016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C60-2ED1-4C54-B855-6D5F421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AF8-538E-4CBB-B950-0234B43F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4A3-5853-4E2B-A4F1-0801F64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619C-367B-4A73-A907-3455E8F62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1880" y="766800"/>
          <a:ext cx="763236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1880" y="766800"/>
                    <a:ext cx="763236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90640" y="717480"/>
          <a:ext cx="799128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717480"/>
                    <a:ext cx="799128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12760" y="82872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82872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89000" y="743040"/>
          <a:ext cx="7372440" cy="54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43040"/>
                    <a:ext cx="737244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62080" y="469800"/>
          <a:ext cx="767088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469800"/>
                    <a:ext cx="767088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39680" y="865080"/>
          <a:ext cx="7372440" cy="52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65080"/>
                    <a:ext cx="737244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262160" y="1150920"/>
          <a:ext cx="6791400" cy="44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1150920"/>
                    <a:ext cx="679140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88920" y="681120"/>
          <a:ext cx="71373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81120"/>
                    <a:ext cx="71373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076400" y="692280"/>
          <a:ext cx="716256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692280"/>
                    <a:ext cx="716256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274760" y="828720"/>
          <a:ext cx="723600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828720"/>
                    <a:ext cx="723600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6800" y="457200"/>
          <a:ext cx="76201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57200"/>
                    <a:ext cx="76201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5160" y="754200"/>
          <a:ext cx="7891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54200"/>
                    <a:ext cx="7891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89000" y="717480"/>
          <a:ext cx="78296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17480"/>
                    <a:ext cx="78296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52560" y="717480"/>
          <a:ext cx="7434360" cy="536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17480"/>
                    <a:ext cx="7434360" cy="536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1T15:26:03Z</cp:lastPrinted>
  <dcterms:modified xsi:type="dcterms:W3CDTF">2005-01-11T17:01:45Z</dcterms:modified>
  <cp:revision>3</cp:revision>
  <dc:subject/>
  <dc:title>Sin título de diapositiva</dc:title>
</cp:coreProperties>
</file>