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A172-0663-46C4-BE0F-5F002AA61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D8758-8015-4E6C-AAA1-49940CBB1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870-1D4F-4B24-BE95-5C9A6A79CB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ACCE-623E-4BCF-A673-7E81988B9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B050-49F3-48C6-BB37-86C94455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744F-6E73-4E87-919A-853FC793C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E50A-8D1E-44FD-8975-D2193FAEF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6769-8664-4482-93D8-0634CA58D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1802A-C9CE-4378-AC55-8E61CA787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CA3-9B7F-4471-ACFE-43C03EBB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DA17-2A55-4842-8B3D-8ACBE0D18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8642-67B7-4252-BB8A-FB2232449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F349-9A3B-4A4C-9453-C8088FB3EF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138320" y="606600"/>
          <a:ext cx="7372440" cy="6690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38320" y="606600"/>
                    <a:ext cx="7372440" cy="66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1014480" y="754200"/>
          <a:ext cx="7434360" cy="5381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54200"/>
                    <a:ext cx="7434360" cy="538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54200" y="668160"/>
          <a:ext cx="8040600" cy="6332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68160"/>
                    <a:ext cx="8040600" cy="633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828720" y="730080"/>
          <a:ext cx="7707240" cy="5862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30080"/>
                    <a:ext cx="7707240" cy="586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878040" y="7300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78040" y="7300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692280"/>
          <a:ext cx="81644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692280"/>
                    <a:ext cx="81644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903240" y="692280"/>
          <a:ext cx="7545600" cy="6989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03240" y="692280"/>
                    <a:ext cx="7545600" cy="698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642960" y="743040"/>
          <a:ext cx="8375760" cy="7532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2960" y="743040"/>
                    <a:ext cx="8375760" cy="75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63800" y="681120"/>
          <a:ext cx="7792920" cy="6902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681120"/>
                    <a:ext cx="7792920" cy="690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014480" y="717480"/>
          <a:ext cx="7286400" cy="554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717480"/>
                    <a:ext cx="7286400" cy="554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988920" y="642960"/>
          <a:ext cx="8016840" cy="586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42960"/>
                    <a:ext cx="8016840" cy="58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1014480" y="803160"/>
          <a:ext cx="7891560" cy="558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803160"/>
                    <a:ext cx="7891560" cy="558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063800" y="803160"/>
          <a:ext cx="7557840" cy="5456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803160"/>
                    <a:ext cx="7557840" cy="545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39960" y="792000"/>
          <a:ext cx="7929360" cy="534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39960" y="792000"/>
                    <a:ext cx="7929360" cy="534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965160" y="865080"/>
          <a:ext cx="7829640" cy="6161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5160" y="865080"/>
                    <a:ext cx="7829640" cy="616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1200240" y="841320"/>
          <a:ext cx="7408800" cy="5504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00240" y="841320"/>
                    <a:ext cx="7408800" cy="550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10T12:18:01Z</dcterms:created>
  <dc:creator>jalvarez</dc:creator>
  <dc:description/>
  <dc:language>en-US</dc:language>
  <cp:lastModifiedBy>jalvarez</cp:lastModifiedBy>
  <cp:lastPrinted>2005-01-10T13:20:04Z</cp:lastPrinted>
  <dcterms:modified xsi:type="dcterms:W3CDTF">2005-01-10T14:27:13Z</dcterms:modified>
  <cp:revision>2</cp:revision>
  <dc:subject/>
  <dc:title>Sin título de diapositiva</dc:title>
</cp:coreProperties>
</file>