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662-AF5E-4A62-A874-9D41A0E2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0D5-EB1D-4DE1-9D17-20F9ED37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DC1-32E0-4C80-867F-AC9BA921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949-0887-48D2-954D-57C4B46D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388-C32F-4EC4-B2A2-FE752AEB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D67-AAAF-4E72-A7E2-71950E46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492-E366-436F-8E11-2F19BCF5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505-24D6-4F43-B72E-6007B80D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D6D-B36B-4938-98C0-FDF8075C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968-98DA-4380-BE62-5AA1A714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F8A-D049-41B6-87B1-A4438BAE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94A-AA8A-4086-8554-2DB7E411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5F60-2B45-4685-BFDA-9BA056499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606600"/>
          <a:ext cx="7372440" cy="66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606600"/>
                    <a:ext cx="7372440" cy="66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92280"/>
          <a:ext cx="81644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92280"/>
                    <a:ext cx="8164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65160" y="865080"/>
          <a:ext cx="78296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65080"/>
                    <a:ext cx="78296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5-01-10T13:20:04Z</cp:lastPrinted>
  <dcterms:modified xsi:type="dcterms:W3CDTF">2005-01-10T14:27:13Z</dcterms:modified>
  <cp:revision>2</cp:revision>
  <dc:subject/>
  <dc:title>Sin título de diapositiva</dc:title>
</cp:coreProperties>
</file>