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4168-2E05-4F6F-8257-33655DD43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579D-4B81-426C-9FCB-F8AC1CE9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94E1-7742-4DC9-AC26-2B36CEB1B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0F90-B593-44EB-A218-A8A4DE9FD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0256-8D1B-4A91-8B3E-B88E636E6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67F6-708F-446C-97EE-93F81408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44E9-FF6A-4951-9C9D-FE10BB837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410E-BA7E-4420-9E25-B70ECC30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931A-C863-4106-B017-0A51FD07B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C573-A236-4263-B156-011DE35B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5779-1B54-48DC-88E8-DCA243C8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D852-CF6E-4E08-A5D7-5D251ADA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277B9-048D-4233-980A-14E83D906D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38320" y="606600"/>
          <a:ext cx="7372440" cy="669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8320" y="606600"/>
                    <a:ext cx="7372440" cy="66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014480" y="754200"/>
          <a:ext cx="7434360" cy="53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754200"/>
                    <a:ext cx="743436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54200" y="668160"/>
          <a:ext cx="8040600" cy="633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68160"/>
                    <a:ext cx="8040600" cy="633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828720" y="730080"/>
          <a:ext cx="7707240" cy="586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730080"/>
                    <a:ext cx="7707240" cy="586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878040" y="730080"/>
          <a:ext cx="7286400" cy="554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730080"/>
                    <a:ext cx="7286400" cy="554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754200" y="692280"/>
          <a:ext cx="8164440" cy="616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92280"/>
                    <a:ext cx="8164440" cy="61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903240" y="692280"/>
          <a:ext cx="7545600" cy="698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240" y="692280"/>
                    <a:ext cx="7545600" cy="698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42960" y="743040"/>
          <a:ext cx="8375760" cy="7532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743040"/>
                    <a:ext cx="8375760" cy="75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063800" y="681120"/>
          <a:ext cx="7792920" cy="6902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3800" y="681120"/>
                    <a:ext cx="7792920" cy="69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014480" y="717480"/>
          <a:ext cx="7286400" cy="554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717480"/>
                    <a:ext cx="7286400" cy="554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988920" y="642960"/>
          <a:ext cx="801684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642960"/>
                    <a:ext cx="801684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014480" y="803160"/>
          <a:ext cx="7891560" cy="55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803160"/>
                    <a:ext cx="7891560" cy="55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063800" y="803160"/>
          <a:ext cx="7557840" cy="545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3800" y="803160"/>
                    <a:ext cx="7557840" cy="545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939960" y="792000"/>
          <a:ext cx="7929360" cy="534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792000"/>
                    <a:ext cx="7929360" cy="534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965160" y="865080"/>
          <a:ext cx="7829640" cy="616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865080"/>
                    <a:ext cx="7829640" cy="61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200240" y="841320"/>
          <a:ext cx="740880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841320"/>
                    <a:ext cx="740880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2:18:01Z</dcterms:created>
  <dc:creator>jalvarez</dc:creator>
  <dc:description/>
  <dc:language>en-US</dc:language>
  <cp:lastModifiedBy>jalvarez</cp:lastModifiedBy>
  <cp:lastPrinted>2005-01-10T13:20:04Z</cp:lastPrinted>
  <dcterms:modified xsi:type="dcterms:W3CDTF">2005-01-10T14:27:13Z</dcterms:modified>
  <cp:revision>2</cp:revision>
  <dc:subject/>
  <dc:title>Sin título de diapositiva</dc:title>
</cp:coreProperties>
</file>