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EAE-6770-4074-B561-EB84973E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4F7-D4E5-4115-9525-0077916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DC1-004D-4115-80DC-46D4BB0D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960-C412-4014-9EBB-834ED7FC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857-5BE4-4E52-B238-323211D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5CF-ECF5-414B-8C5C-960BA29E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27B-2A68-4AF5-AB83-2C013227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2F8-9D8C-4765-9C41-034F1CA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4D7-D798-45CA-98FF-CF11C682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72B-A8DF-4AE2-BFE7-6969298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075-A730-425C-8348-BD5743B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902-EBB8-4D5C-A9B7-4548026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4FA-5A1C-49AD-8762-E1CF22B2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606600"/>
          <a:ext cx="7372440" cy="66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606600"/>
                    <a:ext cx="7372440" cy="66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92280"/>
          <a:ext cx="8164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92280"/>
                    <a:ext cx="8164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1-10T13:20:04Z</cp:lastPrinted>
  <dcterms:modified xsi:type="dcterms:W3CDTF">2005-01-10T14:27:13Z</dcterms:modified>
  <cp:revision>2</cp:revision>
  <dc:subject/>
  <dc:title>Sin título de diapositiva</dc:title>
</cp:coreProperties>
</file>