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E40-876D-40FD-8F02-5A9A826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B07-79E1-4763-B61B-765D2AE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BAA-89A2-4BE8-9A7E-22D1AC33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5DD-7799-4F59-9B06-2DFD730C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24C-722A-4991-9EDA-94B7F63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724-9366-4D7C-BEE8-4D09FADC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F3A-92C2-40A9-9F0B-92581F9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EEC-B3E9-4D60-9D56-B3C575C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0AD-9F38-43CB-8656-C3DF770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9CE-1F65-44CC-95B5-4413DAC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CD3-1F94-4CF3-B43D-4444772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370-BB01-46A0-A26E-C37A57B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92D-7E7C-4B6C-91E7-30C34140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92280"/>
          <a:ext cx="80391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92280"/>
                    <a:ext cx="80391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304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606600"/>
          <a:ext cx="847260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754200"/>
          <a:ext cx="8263080" cy="76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54200"/>
                    <a:ext cx="8263080" cy="76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040" y="743040"/>
          <a:ext cx="85726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43040"/>
                    <a:ext cx="85726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350200" cy="776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350200" cy="776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747720"/>
          <a:ext cx="73486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47720"/>
                    <a:ext cx="73486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41320" y="655560"/>
          <a:ext cx="8288280" cy="794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55560"/>
                    <a:ext cx="8288280" cy="79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9120" y="655560"/>
          <a:ext cx="84740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55560"/>
                    <a:ext cx="84740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81040"/>
          <a:ext cx="7991640" cy="79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7991640" cy="79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704880"/>
          <a:ext cx="828684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04880"/>
                    <a:ext cx="828684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681120"/>
          <a:ext cx="8399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81120"/>
                    <a:ext cx="8399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841320"/>
          <a:ext cx="8102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841320"/>
                    <a:ext cx="8102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5-01-07T14:53:59Z</cp:lastPrinted>
  <dcterms:modified xsi:type="dcterms:W3CDTF">2005-01-07T14:56:40Z</dcterms:modified>
  <cp:revision>10</cp:revision>
  <dc:subject/>
  <dc:title>Sin título de diapositiva</dc:title>
</cp:coreProperties>
</file>