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B57-E774-4730-A0C8-1031AC6A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4E9-B5C1-4900-B2B0-49F75AFC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29D-6A63-46AA-BA0A-2A80630A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88D-CFDE-4B0A-A705-C886FACA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ED8-8584-40C2-BE0E-B90C783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647-0C64-471A-9D7A-5A65B59A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01C-A76E-4F03-9390-82E14E0F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5FA-C760-455C-ADD8-0ACEE0A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8C9-67A8-4F29-AD4C-BF24A09E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107-AF4A-4360-A457-852CF9DE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2AB-B3D8-4D22-935F-BF66C52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396-BC65-4D31-9ADC-AD1FE5E1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A964-D5BF-4BC2-9141-ED8DD781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692280"/>
          <a:ext cx="80391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92280"/>
                    <a:ext cx="80391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304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606600"/>
          <a:ext cx="847260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754200"/>
          <a:ext cx="8263080" cy="76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54200"/>
                    <a:ext cx="8263080" cy="76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040" y="743040"/>
          <a:ext cx="85726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743040"/>
                    <a:ext cx="85726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350200" cy="776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350200" cy="776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747720"/>
          <a:ext cx="73486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47720"/>
                    <a:ext cx="73486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41320" y="655560"/>
          <a:ext cx="8288280" cy="794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55560"/>
                    <a:ext cx="8288280" cy="79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9120" y="655560"/>
          <a:ext cx="84740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55560"/>
                    <a:ext cx="84740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81040"/>
          <a:ext cx="7991640" cy="79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7991640" cy="79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704880"/>
          <a:ext cx="828684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04880"/>
                    <a:ext cx="828684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681120"/>
          <a:ext cx="8399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81120"/>
                    <a:ext cx="8399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2000" y="841320"/>
          <a:ext cx="8102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841320"/>
                    <a:ext cx="8102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5-01-07T14:53:59Z</cp:lastPrinted>
  <dcterms:modified xsi:type="dcterms:W3CDTF">2005-01-07T14:56:40Z</dcterms:modified>
  <cp:revision>10</cp:revision>
  <dc:subject/>
  <dc:title>Sin título de diapositiva</dc:title>
</cp:coreProperties>
</file>