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05A-7444-40E3-92EC-6A314D9A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EE8-75FC-46A7-AF8E-826D84DB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7E1-DBAB-4C3E-BD87-5A2F5AC9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727-DBE3-4D36-9BD5-6141DF0C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A1E-CFD2-44C5-9062-B2D36DE0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C8D-53C3-4436-8141-256756CD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132-BE9E-4388-A70E-E163A0EC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352-E47D-43EE-B216-D105DD16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418-39BD-4ADF-8F55-667CD7A2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77B-7769-4283-8D06-249C0F3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E19-C9FB-4E33-90EE-1132EF85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E88-4394-43F1-9030-C017CA9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25DB-6590-4FC9-904E-D193BD475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43040" y="692280"/>
          <a:ext cx="80391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92280"/>
                    <a:ext cx="80391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304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606600"/>
          <a:ext cx="847260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754200"/>
          <a:ext cx="8263080" cy="76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54200"/>
                    <a:ext cx="8263080" cy="76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84040" y="743040"/>
          <a:ext cx="857268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743040"/>
                    <a:ext cx="857268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350200" cy="776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350200" cy="776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747720"/>
          <a:ext cx="7348680" cy="61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47720"/>
                    <a:ext cx="734868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41320" y="655560"/>
          <a:ext cx="8288280" cy="794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55560"/>
                    <a:ext cx="8288280" cy="79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9120" y="655560"/>
          <a:ext cx="847404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55560"/>
                    <a:ext cx="847404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8160" y="581040"/>
          <a:ext cx="7991640" cy="79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7991640" cy="79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704880"/>
          <a:ext cx="8286840" cy="54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04880"/>
                    <a:ext cx="8286840" cy="54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681120"/>
          <a:ext cx="8399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681120"/>
                    <a:ext cx="8399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2000" y="841320"/>
          <a:ext cx="81028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841320"/>
                    <a:ext cx="81028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5-01-07T14:53:59Z</cp:lastPrinted>
  <dcterms:modified xsi:type="dcterms:W3CDTF">2005-01-07T14:56:40Z</dcterms:modified>
  <cp:revision>10</cp:revision>
  <dc:subject/>
  <dc:title>Sin título de diapositiva</dc:title>
</cp:coreProperties>
</file>