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9EE5-8E06-4DAB-AA3E-612744A81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95F3-3A25-48D2-9F7D-FD4F8E1E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619D-A810-4CBB-AD5A-A14331E4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449C-8D17-4349-AEF8-65DCC3812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7A39-8F5D-41AD-95A5-0FB3B1FD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A153-4059-42A0-B5E2-26092BF8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F7D0-FCA0-4823-9653-C6043C3B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3D74-C857-4EEE-8636-375AE310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7D15-7DD6-4A87-B53A-E6A4EAD0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C3F3-AE61-4251-84F9-0CE4685F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CA7B-7CE9-4B3B-BCB9-900AC8F8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320A-B072-47AD-B81B-01D07B97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D42A-6D9A-451D-BABC-BB04E6A2E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43040" y="692280"/>
          <a:ext cx="8039160" cy="559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692280"/>
                    <a:ext cx="8039160" cy="55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27000" y="74304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4304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95360" y="606600"/>
          <a:ext cx="8472600" cy="608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606600"/>
                    <a:ext cx="8472600" cy="60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81040" y="668160"/>
          <a:ext cx="838692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668160"/>
                    <a:ext cx="838692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209520" y="754200"/>
          <a:ext cx="8783640" cy="54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754200"/>
                    <a:ext cx="87836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42960" y="754200"/>
          <a:ext cx="8263080" cy="769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754200"/>
                    <a:ext cx="8263080" cy="769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84040" y="743040"/>
          <a:ext cx="8572680" cy="620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743040"/>
                    <a:ext cx="8572680" cy="62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44680" y="619200"/>
          <a:ext cx="8350200" cy="776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619200"/>
                    <a:ext cx="8350200" cy="776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14400" y="747720"/>
          <a:ext cx="7348680" cy="611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747720"/>
                    <a:ext cx="7348680" cy="61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841320" y="655560"/>
          <a:ext cx="8288280" cy="794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55560"/>
                    <a:ext cx="8288280" cy="794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4880" y="730080"/>
          <a:ext cx="816444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730080"/>
                    <a:ext cx="816444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19120" y="655560"/>
          <a:ext cx="8474040" cy="587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655560"/>
                    <a:ext cx="847404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2280" y="544680"/>
          <a:ext cx="7769160" cy="580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44680"/>
                    <a:ext cx="7769160" cy="58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68160" y="581040"/>
          <a:ext cx="7991640" cy="797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81040"/>
                    <a:ext cx="7991640" cy="797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81120" y="704880"/>
          <a:ext cx="8286840" cy="549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704880"/>
                    <a:ext cx="8286840" cy="549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57280" y="681120"/>
          <a:ext cx="83995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681120"/>
                    <a:ext cx="83995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92000" y="841320"/>
          <a:ext cx="810288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841320"/>
                    <a:ext cx="810288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43040" y="803160"/>
          <a:ext cx="8126280" cy="682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803160"/>
                    <a:ext cx="8126280" cy="682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jalvarez</cp:lastModifiedBy>
  <cp:lastPrinted>2005-01-07T14:53:59Z</cp:lastPrinted>
  <dcterms:modified xsi:type="dcterms:W3CDTF">2005-01-07T14:56:40Z</dcterms:modified>
  <cp:revision>10</cp:revision>
  <dc:subject/>
  <dc:title>Sin título de diapositiva</dc:title>
</cp:coreProperties>
</file>