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A8E-E795-44DA-ADDD-8FFAA9F4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AC7-FE92-4163-A07F-6A5A3D8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529-3B33-4A70-8BD1-B494A25E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1A0-12F4-40E3-BF67-3A52A1C2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A08-9B41-4FE0-A2F4-6C67635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C73-8E86-4A39-9780-3F8FE37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500-9FF6-4942-8744-E6F5FF0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1B8-B071-452B-A6E9-59FB5EE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B5E-9683-4425-8BAF-B111B0A9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698-68D3-4ABC-A224-65B4827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430-59C7-43A8-9849-0BC1F96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0A8-87EF-4FF2-BFAE-9FD4E16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281-8E7A-4C25-975B-4606224A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95360" y="1595520"/>
          <a:ext cx="831204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95520"/>
                    <a:ext cx="831204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27080" y="927000"/>
          <a:ext cx="7335720" cy="53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927000"/>
                    <a:ext cx="733572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68160" y="743040"/>
          <a:ext cx="805356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743040"/>
                    <a:ext cx="8053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16120" y="754200"/>
          <a:ext cx="7323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754200"/>
                    <a:ext cx="7323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24080" y="952560"/>
          <a:ext cx="731016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952560"/>
                    <a:ext cx="73101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8720" y="779400"/>
          <a:ext cx="810252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79400"/>
                    <a:ext cx="810252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85920" y="977760"/>
          <a:ext cx="706428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77760"/>
                    <a:ext cx="706428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16120" y="903240"/>
          <a:ext cx="70516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03240"/>
                    <a:ext cx="70516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65160" y="890640"/>
          <a:ext cx="6964560" cy="42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90640"/>
                    <a:ext cx="69645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1120" y="890640"/>
          <a:ext cx="845964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90640"/>
                    <a:ext cx="845964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25360" y="766800"/>
          <a:ext cx="72122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766800"/>
                    <a:ext cx="72122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6520" y="531720"/>
          <a:ext cx="847404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31720"/>
                    <a:ext cx="847404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43040" y="519120"/>
          <a:ext cx="97092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97092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6600" y="766800"/>
          <a:ext cx="807696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66800"/>
                    <a:ext cx="80769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65160" y="668160"/>
          <a:ext cx="75326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68160"/>
                    <a:ext cx="75326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606600"/>
          <a:ext cx="795492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4120" y="309600"/>
          <a:ext cx="7940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09600"/>
                    <a:ext cx="7940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1-04T15:36:13Z</cp:lastPrinted>
  <dcterms:modified xsi:type="dcterms:W3CDTF">2005-01-04T16:25:30Z</dcterms:modified>
  <cp:revision>3</cp:revision>
  <dc:subject/>
  <dc:title>Soluciones Tarea</dc:title>
</cp:coreProperties>
</file>