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8B9-77ED-45F4-B9B2-203ACF8D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BB4-59FE-4122-8507-3D2546A6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399-648C-48E6-90FE-8C297CAA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236-A97E-4795-9C4F-0BC03C4D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334-5630-4CC9-B289-022315C2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6A8-3745-494F-91F4-000576E7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2A7-A017-4DEE-B8ED-5026966E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768-4310-47F0-A776-D0E20CD6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279-4156-475A-9DF6-231A61ED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B28-2DA1-49A2-B6B9-08124483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87F-BC96-4946-88CB-DEE0D53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FB9-9B16-4FBB-A087-34A413D3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1F7D-5630-43ED-9115-ACBCD6558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95360" y="1595520"/>
          <a:ext cx="831204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595520"/>
                    <a:ext cx="831204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27080" y="927000"/>
          <a:ext cx="7335720" cy="53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927000"/>
                    <a:ext cx="733572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68160" y="743040"/>
          <a:ext cx="805356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743040"/>
                    <a:ext cx="8053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16120" y="754200"/>
          <a:ext cx="7323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754200"/>
                    <a:ext cx="7323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24080" y="952560"/>
          <a:ext cx="731016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952560"/>
                    <a:ext cx="73101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28720" y="779400"/>
          <a:ext cx="810252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79400"/>
                    <a:ext cx="810252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285920" y="977760"/>
          <a:ext cx="7064280" cy="38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977760"/>
                    <a:ext cx="706428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816120" y="903240"/>
          <a:ext cx="705168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903240"/>
                    <a:ext cx="705168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965160" y="890640"/>
          <a:ext cx="6964560" cy="425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90640"/>
                    <a:ext cx="69645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1120" y="890640"/>
          <a:ext cx="845964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90640"/>
                    <a:ext cx="845964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25360" y="766800"/>
          <a:ext cx="72122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766800"/>
                    <a:ext cx="72122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6520" y="531720"/>
          <a:ext cx="847404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31720"/>
                    <a:ext cx="847404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43040" y="519120"/>
          <a:ext cx="97092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19120"/>
                    <a:ext cx="97092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6600" y="766800"/>
          <a:ext cx="807696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66800"/>
                    <a:ext cx="807696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65160" y="668160"/>
          <a:ext cx="75326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68160"/>
                    <a:ext cx="75326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39960" y="606600"/>
          <a:ext cx="7954920" cy="55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84120" y="309600"/>
          <a:ext cx="79408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09600"/>
                    <a:ext cx="79408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1-04T15:36:13Z</cp:lastPrinted>
  <dcterms:modified xsi:type="dcterms:W3CDTF">2005-01-04T16:25:30Z</dcterms:modified>
  <cp:revision>3</cp:revision>
  <dc:subject/>
  <dc:title>Soluciones Tarea</dc:title>
</cp:coreProperties>
</file>