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3EA-6BEC-4BE0-9764-7407A820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63E-E823-4A27-A063-7C05DCD2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E20-B7EF-4BBB-85F5-C8AD2A9E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BAB-8FF8-4663-A1DB-1952E12C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4FC-1290-4479-912B-68D76B43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209-EDCD-4528-BC81-50E03DBD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B26-5E70-40AF-9902-53A495E9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609-A382-4641-80E0-0860EEE4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21C-0AB2-40DD-A74E-EE7FC26C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CD2-A71E-41B4-B81F-645FC248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667-0091-436D-82CB-FBE2478A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00A-F14C-4330-844D-3F67F901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86F4-0940-414D-9CCB-537FC5EDC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95360" y="1595520"/>
          <a:ext cx="8312040" cy="47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595520"/>
                    <a:ext cx="831204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27080" y="927000"/>
          <a:ext cx="7335720" cy="53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927000"/>
                    <a:ext cx="7335720" cy="53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68160" y="743040"/>
          <a:ext cx="805356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743040"/>
                    <a:ext cx="805356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16120" y="754200"/>
          <a:ext cx="7323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754200"/>
                    <a:ext cx="7323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24080" y="952560"/>
          <a:ext cx="731016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952560"/>
                    <a:ext cx="73101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28720" y="779400"/>
          <a:ext cx="810252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79400"/>
                    <a:ext cx="810252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285920" y="977760"/>
          <a:ext cx="7064280" cy="38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977760"/>
                    <a:ext cx="706428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816120" y="903240"/>
          <a:ext cx="705168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903240"/>
                    <a:ext cx="705168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965160" y="890640"/>
          <a:ext cx="6964560" cy="425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90640"/>
                    <a:ext cx="696456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1120" y="890640"/>
          <a:ext cx="845964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90640"/>
                    <a:ext cx="845964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25360" y="766800"/>
          <a:ext cx="721224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766800"/>
                    <a:ext cx="72122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06520" y="531720"/>
          <a:ext cx="847404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31720"/>
                    <a:ext cx="847404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43040" y="519120"/>
          <a:ext cx="970920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19120"/>
                    <a:ext cx="97092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06600" y="766800"/>
          <a:ext cx="807696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66800"/>
                    <a:ext cx="807696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65160" y="668160"/>
          <a:ext cx="75326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68160"/>
                    <a:ext cx="75326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39960" y="606600"/>
          <a:ext cx="7954920" cy="55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84120" y="309600"/>
          <a:ext cx="794088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09600"/>
                    <a:ext cx="79408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jalvarez</cp:lastModifiedBy>
  <cp:lastPrinted>2005-01-04T15:36:13Z</cp:lastPrinted>
  <dcterms:modified xsi:type="dcterms:W3CDTF">2005-01-04T16:25:30Z</dcterms:modified>
  <cp:revision>3</cp:revision>
  <dc:subject/>
  <dc:title>Soluciones Tarea</dc:title>
</cp:coreProperties>
</file>