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DBF-9FA9-4AB2-B5B1-7D3E137D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F51-BCF8-494F-AAD2-26EDB55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746-DCCD-4D03-8752-EADBF0C5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987-AC31-4E64-A031-1C7BD1C1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DE3-5D68-443D-BDBE-94446263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BBC-E38C-4C64-98F3-D23A654F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5DE-6402-4DBC-9376-832E9996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129-0425-4E3E-8966-165D868D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5DA-D359-459A-99A8-74A8CC38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394-98B0-4A80-96D3-F4959510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401-70F4-4162-B6B3-553595E9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24C-148D-4D47-BC28-C7E544B9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66D-6643-457F-AE38-FE09D8AE9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95360" y="1595520"/>
          <a:ext cx="831204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595520"/>
                    <a:ext cx="831204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27080" y="927000"/>
          <a:ext cx="7335720" cy="53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927000"/>
                    <a:ext cx="733572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68160" y="743040"/>
          <a:ext cx="805356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743040"/>
                    <a:ext cx="8053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16120" y="754200"/>
          <a:ext cx="7323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754200"/>
                    <a:ext cx="7323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24080" y="952560"/>
          <a:ext cx="731016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952560"/>
                    <a:ext cx="73101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28720" y="779400"/>
          <a:ext cx="810252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79400"/>
                    <a:ext cx="810252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285920" y="977760"/>
          <a:ext cx="7064280" cy="38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977760"/>
                    <a:ext cx="706428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816120" y="903240"/>
          <a:ext cx="705168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903240"/>
                    <a:ext cx="705168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965160" y="890640"/>
          <a:ext cx="6964560" cy="425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90640"/>
                    <a:ext cx="69645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1120" y="890640"/>
          <a:ext cx="845964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90640"/>
                    <a:ext cx="845964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25360" y="766800"/>
          <a:ext cx="72122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766800"/>
                    <a:ext cx="72122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6520" y="531720"/>
          <a:ext cx="847404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31720"/>
                    <a:ext cx="847404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43040" y="519120"/>
          <a:ext cx="97092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19120"/>
                    <a:ext cx="97092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6600" y="766800"/>
          <a:ext cx="807696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66800"/>
                    <a:ext cx="807696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65160" y="668160"/>
          <a:ext cx="75326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68160"/>
                    <a:ext cx="75326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39960" y="606600"/>
          <a:ext cx="7954920" cy="55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84120" y="309600"/>
          <a:ext cx="79408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09600"/>
                    <a:ext cx="79408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1-04T15:36:13Z</cp:lastPrinted>
  <dcterms:modified xsi:type="dcterms:W3CDTF">2005-01-04T16:25:30Z</dcterms:modified>
  <cp:revision>3</cp:revision>
  <dc:subject/>
  <dc:title>Soluciones Tarea</dc:title>
</cp:coreProperties>
</file>