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9B605-6A88-43B2-9268-F2F73F229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6EC1-1863-4EB9-8214-2F1017B2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0A415-BDE3-4750-94C2-AA119A236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F2DAA-A0AA-4048-B4F2-ACB588E58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448B7-82A1-41F6-866B-648794C6E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639D3-EB86-458E-88D5-2CDE6C97A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39AB-6C2B-40AE-A2C3-541052A7F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E5613-CEAB-4433-AA68-0E51FF0C9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B2C65-F9F1-4E38-948A-8727614F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C9B63-8A1A-4A22-A927-76D6E204C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556F7-E6F9-4933-B19A-316722371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2790A-82F6-4C2E-A220-16070BEF3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3CB48-4B73-4345-B8B0-F7F58EEAA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E1C8D-24CA-41A6-8006-87893A4B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4D974-E9FD-4499-8D53-D90CFA575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B41EE-622D-4E89-8097-434CC3661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67446-28F1-46FB-B146-6D9EF79E9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27D3-0726-4947-BF1F-BEEB6BE4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7112-8B21-4DBE-AD75-EAA532B3B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C7AF-9B61-4FF7-A1B4-38B65217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2B1DC-9ACE-4308-A4D6-0C9F7D2B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C629-890C-4C6E-AF45-8D272CBBC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F33E-6464-4077-AFCD-656FBFFC2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08092-01AD-4D2D-B647-EA3AFD4CA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1057-59DC-4C7D-9D6E-1E02AAC1D28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3"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scuela de verano_2005   Ciencias Políticas     </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BTZBUL1A"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668F-84FF-45A1-8B93-DBD6CFC3C52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685800" y="106668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SISTEMA POLÍTICO COMO MODELO</a:t>
            </a:r>
            <a:endParaRPr b="0" lang="en-US" sz="3200" spc="-1" strike="noStrike">
              <a:solidFill>
                <a:srgbClr val="ffffff"/>
              </a:solidFill>
              <a:latin typeface="Times New Roman"/>
            </a:endParaRPr>
          </a:p>
        </p:txBody>
      </p:sp>
      <p:pic>
        <p:nvPicPr>
          <p:cNvPr id="142" name="pol" descr=""/>
          <p:cNvPicPr/>
          <p:nvPr/>
        </p:nvPicPr>
        <p:blipFill>
          <a:blip r:embed="rId1"/>
          <a:stretch/>
        </p:blipFill>
        <p:spPr>
          <a:xfrm>
            <a:off x="4108320" y="2503440"/>
            <a:ext cx="925560" cy="9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533520" y="152280"/>
            <a:ext cx="8305560" cy="375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La política entendida como un sistema</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4" name="images" descr="">
            <a:hlinkClick r:id="rId1"/>
          </p:cNvPr>
          <p:cNvPicPr/>
          <p:nvPr/>
        </p:nvPicPr>
        <p:blipFill>
          <a:blip r:embed="rId2"/>
          <a:stretch/>
        </p:blipFill>
        <p:spPr>
          <a:xfrm>
            <a:off x="6019920" y="4052880"/>
            <a:ext cx="2895480" cy="21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228600" y="228600"/>
            <a:ext cx="67816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6" name="images" descr=""/>
          <p:cNvPicPr/>
          <p:nvPr/>
        </p:nvPicPr>
        <p:blipFill>
          <a:blip r:embed="rId1"/>
          <a:stretch/>
        </p:blipFill>
        <p:spPr>
          <a:xfrm>
            <a:off x="7086600" y="4794120"/>
            <a:ext cx="1706400" cy="1309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manda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Externas</a:t>
            </a:r>
            <a:r>
              <a:rPr b="0" lang="en-US" sz="2400" spc="-1" strike="noStrike">
                <a:solidFill>
                  <a:srgbClr val="ffffff"/>
                </a:solidFill>
                <a:latin typeface="Arial"/>
              </a:rPr>
              <a:t>, provenientes de la sociedad en general, de los grupos de interés, presión, personas influyentes, et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Internas</a:t>
            </a:r>
            <a:r>
              <a:rPr b="0" lang="en-US" sz="2400" spc="-1" strike="noStrike">
                <a:solidFill>
                  <a:srgbClr val="ffffff"/>
                </a:solidFill>
                <a:latin typeface="Arial"/>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demandas pueden ser </a:t>
            </a:r>
            <a:r>
              <a:rPr b="0" lang="en-US" sz="2400" spc="-1" strike="noStrike">
                <a:solidFill>
                  <a:srgbClr val="ffcc00"/>
                </a:solidFill>
                <a:latin typeface="Arial"/>
              </a:rPr>
              <a:t>genéricas ( mejor salud, o educación) o específicas (aumento de un 5% en el sueldo de los profes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poyo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 comunidad política ( estados multinacionales o multiétnico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gimen Político (instituciones, forma de gobierno, tipo de Estado)</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Autoridad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decisiones (políticas específicas)</a:t>
            </a:r>
            <a:endParaRPr b="0" lang="en-US" sz="2400" spc="-1" strike="noStrike">
              <a:solidFill>
                <a:srgbClr val="ffffff"/>
              </a:solidFill>
              <a:latin typeface="Times New Roman"/>
            </a:endParaRPr>
          </a:p>
        </p:txBody>
      </p:sp>
      <p:sp>
        <p:nvSpPr>
          <p:cNvPr id="171"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Qué relación existe entre los objetos de apoyo?,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2" name=""/>
          <p:cNvSpPr/>
          <p:nvPr/>
        </p:nvSpPr>
        <p:spPr>
          <a:xfrm>
            <a:off x="457200" y="5181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2286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ampos Sociales y el Campo Político</a:t>
            </a:r>
            <a:endParaRPr b="0" lang="en-US" sz="2400" spc="-1" strike="noStrike">
              <a:solidFill>
                <a:srgbClr val="ffffff"/>
              </a:solidFill>
              <a:latin typeface="Times New Roman"/>
            </a:endParaRPr>
          </a:p>
        </p:txBody>
      </p:sp>
      <p:sp>
        <p:nvSpPr>
          <p:cNvPr id="174" name=""/>
          <p:cNvSpPr/>
          <p:nvPr/>
        </p:nvSpPr>
        <p:spPr>
          <a:xfrm>
            <a:off x="457200" y="83808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P. Bourdieu</a:t>
            </a:r>
            <a:r>
              <a:rPr b="0" lang="es-ES" sz="2400" spc="-1" strike="noStrike">
                <a:solidFill>
                  <a:srgbClr val="ffffff"/>
                </a:solidFill>
                <a:latin typeface="Arial"/>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5" name="bourdieu" descr=""/>
          <p:cNvPicPr/>
          <p:nvPr/>
        </p:nvPicPr>
        <p:blipFill>
          <a:blip r:embed="rId1"/>
          <a:stretch/>
        </p:blipFill>
        <p:spPr>
          <a:xfrm>
            <a:off x="7543800" y="304920"/>
            <a:ext cx="1336680" cy="2000160"/>
          </a:xfrm>
          <a:prstGeom prst="rect">
            <a:avLst/>
          </a:prstGeom>
          <a:ln w="0">
            <a:noFill/>
          </a:ln>
        </p:spPr>
      </p:pic>
      <p:sp>
        <p:nvSpPr>
          <p:cNvPr id="176" name=""/>
          <p:cNvSpPr/>
          <p:nvPr/>
        </p:nvSpPr>
        <p:spPr>
          <a:xfrm>
            <a:off x="2362320" y="3429000"/>
            <a:ext cx="3733560" cy="3505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93960" y="3597120"/>
            <a:ext cx="1106640" cy="10512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8" name=""/>
          <p:cNvSpPr/>
          <p:nvPr/>
        </p:nvSpPr>
        <p:spPr>
          <a:xfrm>
            <a:off x="2460600" y="4581360"/>
            <a:ext cx="968400" cy="98136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79" name=""/>
          <p:cNvSpPr/>
          <p:nvPr/>
        </p:nvSpPr>
        <p:spPr>
          <a:xfrm>
            <a:off x="4836960" y="4592520"/>
            <a:ext cx="1106640" cy="11224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0" name=""/>
          <p:cNvSpPr/>
          <p:nvPr/>
        </p:nvSpPr>
        <p:spPr>
          <a:xfrm>
            <a:off x="3763800" y="5635800"/>
            <a:ext cx="1036800" cy="841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Alejandra Avila</cp:lastModifiedBy>
  <dcterms:modified xsi:type="dcterms:W3CDTF">2005-01-07T18:55:06Z</dcterms:modified>
  <cp:revision>4</cp:revision>
  <dc:subject/>
  <dc:title>Presentación de PowerPoint</dc:title>
</cp:coreProperties>
</file>