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F0A9-43FF-4BEC-A0B8-37B7CFCB3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5957-1383-4AEA-AFC8-0E4CD382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10676-5FEC-4A04-963F-F6428E104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CB8C2-B2D5-4267-BA92-5EEB0748E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A3FB2-5FE4-4FE5-83D1-F3679E7DA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EA75C-CDA0-480C-9815-E062980CD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19DF7-9A3B-43DA-A28B-0A8AD06F6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7E650-E254-423C-9ABD-AAE9B7465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10E1B-6493-4AAC-A96D-83A88C69D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53BAE-3D9B-453B-B477-79CEACF3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56545-1982-4049-B3DB-F51FF9B6A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5C4F9-405F-4F80-8F11-C951DAA1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BEEAD-32A2-47D5-916D-187FB3CAF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5249B-6DC8-4C7B-A9CF-B50CC7061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F1981-8469-4F50-84E6-6FFF0CF64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88E20-36D7-4BE1-869D-EF220D6B3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99F39-C106-45BB-B9AC-559B90C17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61356-3418-4578-A694-9D693D7AE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CF325-A3EC-447B-BA78-88C1ECE79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3B0F2-BF0E-49E8-B21C-695E5A73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F3EC2-9F67-4B7F-825F-289BA8636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769C4-B48A-45A5-9A53-BE6856E86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317BF-5508-47F9-8A8D-074A624A8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5D240-8F07-41C3-8A9A-45C6DC981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5B7A5-F582-4230-8AFF-11162AB5328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33" name=""/>
          <p:cNvSpPr/>
          <p:nvPr/>
        </p:nvSpPr>
        <p:spPr>
          <a:xfrm>
            <a:off x="6288120" y="6400800"/>
            <a:ext cx="285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scuela de verano_2005   Ciencias Políticas     </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BTZBUL1A"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AA1A-93BA-432C-9D59-4877FD6901B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685800" y="106668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SISTEMA POLÍTICO COMO MODELO</a:t>
            </a:r>
            <a:endParaRPr b="0" lang="en-US" sz="3200" spc="-1" strike="noStrike">
              <a:solidFill>
                <a:srgbClr val="ffffff"/>
              </a:solidFill>
              <a:latin typeface="Times New Roman"/>
            </a:endParaRPr>
          </a:p>
        </p:txBody>
      </p:sp>
      <p:pic>
        <p:nvPicPr>
          <p:cNvPr id="142" name="pol" descr=""/>
          <p:cNvPicPr/>
          <p:nvPr/>
        </p:nvPicPr>
        <p:blipFill>
          <a:blip r:embed="rId1"/>
          <a:stretch/>
        </p:blipFill>
        <p:spPr>
          <a:xfrm>
            <a:off x="4108320" y="2503440"/>
            <a:ext cx="925560" cy="9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
          <p:cNvSpPr/>
          <p:nvPr/>
        </p:nvSpPr>
        <p:spPr>
          <a:xfrm>
            <a:off x="533520" y="152280"/>
            <a:ext cx="8305560" cy="375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La política entendida como un sistema</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4" name="images" descr="">
            <a:hlinkClick r:id="rId1"/>
          </p:cNvPr>
          <p:cNvPicPr/>
          <p:nvPr/>
        </p:nvPicPr>
        <p:blipFill>
          <a:blip r:embed="rId2"/>
          <a:stretch/>
        </p:blipFill>
        <p:spPr>
          <a:xfrm>
            <a:off x="6019920" y="4052880"/>
            <a:ext cx="2895480" cy="21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228600" y="228600"/>
            <a:ext cx="678168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6" name="images" descr=""/>
          <p:cNvPicPr/>
          <p:nvPr/>
        </p:nvPicPr>
        <p:blipFill>
          <a:blip r:embed="rId1"/>
          <a:stretch/>
        </p:blipFill>
        <p:spPr>
          <a:xfrm>
            <a:off x="7086600" y="4794120"/>
            <a:ext cx="1706400" cy="1309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emanda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Externas</a:t>
            </a:r>
            <a:r>
              <a:rPr b="0" lang="en-US" sz="2400" spc="-1" strike="noStrike">
                <a:solidFill>
                  <a:srgbClr val="ffffff"/>
                </a:solidFill>
                <a:latin typeface="Arial"/>
              </a:rPr>
              <a:t>, provenientes de la sociedad en general, de los grupos de interés, presión, personas influyentes, etc.</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Nacionales Internas</a:t>
            </a:r>
            <a:r>
              <a:rPr b="0" lang="en-US" sz="2400" spc="-1" strike="noStrike">
                <a:solidFill>
                  <a:srgbClr val="ffffff"/>
                </a:solidFill>
                <a:latin typeface="Arial"/>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demandas pueden ser </a:t>
            </a:r>
            <a:r>
              <a:rPr b="0" lang="en-US" sz="2400" spc="-1" strike="noStrike">
                <a:solidFill>
                  <a:srgbClr val="ffcc00"/>
                </a:solidFill>
                <a:latin typeface="Arial"/>
              </a:rPr>
              <a:t>genéricas ( mejor salud, o educación) o específicas (aumento de un 5% en el sueldo de los profeso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poyos:</a:t>
            </a:r>
            <a:endParaRPr b="0" lang="en-US" sz="32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 comunidad política ( estados multinacionales o multiétnicos)</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égimen Político (instituciones, forma de gobierno, tipo de Estado)</a:t>
            </a:r>
            <a:endParaRPr b="0" lang="en-US" sz="2400" spc="-1" strike="noStrike">
              <a:solidFill>
                <a:srgbClr val="ffffff"/>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Autoridad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s decisiones (políticas específicas)</a:t>
            </a:r>
            <a:endParaRPr b="0" lang="en-US" sz="2400" spc="-1" strike="noStrike">
              <a:solidFill>
                <a:srgbClr val="ffffff"/>
              </a:solidFill>
              <a:latin typeface="Times New Roman"/>
            </a:endParaRPr>
          </a:p>
        </p:txBody>
      </p:sp>
      <p:sp>
        <p:nvSpPr>
          <p:cNvPr id="171"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Qué relación existe entre los objetos de apoyo?, </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Arial"/>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2" name=""/>
          <p:cNvSpPr/>
          <p:nvPr/>
        </p:nvSpPr>
        <p:spPr>
          <a:xfrm>
            <a:off x="457200" y="518148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22860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Campos Sociales y el Campo Político</a:t>
            </a:r>
            <a:endParaRPr b="0" lang="en-US" sz="2400" spc="-1" strike="noStrike">
              <a:solidFill>
                <a:srgbClr val="ffffff"/>
              </a:solidFill>
              <a:latin typeface="Times New Roman"/>
            </a:endParaRPr>
          </a:p>
        </p:txBody>
      </p:sp>
      <p:sp>
        <p:nvSpPr>
          <p:cNvPr id="174" name=""/>
          <p:cNvSpPr/>
          <p:nvPr/>
        </p:nvSpPr>
        <p:spPr>
          <a:xfrm>
            <a:off x="457200" y="838080"/>
            <a:ext cx="7010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a:rPr>
              <a:t>P. Bourdieu</a:t>
            </a:r>
            <a:r>
              <a:rPr b="0" lang="es-ES" sz="2400" spc="-1" strike="noStrike">
                <a:solidFill>
                  <a:srgbClr val="ffffff"/>
                </a:solidFill>
                <a:latin typeface="Arial"/>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5" name="bourdieu" descr=""/>
          <p:cNvPicPr/>
          <p:nvPr/>
        </p:nvPicPr>
        <p:blipFill>
          <a:blip r:embed="rId1"/>
          <a:stretch/>
        </p:blipFill>
        <p:spPr>
          <a:xfrm>
            <a:off x="7543800" y="304920"/>
            <a:ext cx="1336680" cy="2000160"/>
          </a:xfrm>
          <a:prstGeom prst="rect">
            <a:avLst/>
          </a:prstGeom>
          <a:ln w="0">
            <a:noFill/>
          </a:ln>
        </p:spPr>
      </p:pic>
      <p:sp>
        <p:nvSpPr>
          <p:cNvPr id="176" name=""/>
          <p:cNvSpPr/>
          <p:nvPr/>
        </p:nvSpPr>
        <p:spPr>
          <a:xfrm>
            <a:off x="2362320" y="3429000"/>
            <a:ext cx="3733560" cy="3505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93960" y="3597120"/>
            <a:ext cx="1106640" cy="10512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8" name=""/>
          <p:cNvSpPr/>
          <p:nvPr/>
        </p:nvSpPr>
        <p:spPr>
          <a:xfrm>
            <a:off x="2460600" y="4581360"/>
            <a:ext cx="968400" cy="98136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79" name=""/>
          <p:cNvSpPr/>
          <p:nvPr/>
        </p:nvSpPr>
        <p:spPr>
          <a:xfrm>
            <a:off x="4836960" y="4592520"/>
            <a:ext cx="1106640" cy="11224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0" name=""/>
          <p:cNvSpPr/>
          <p:nvPr/>
        </p:nvSpPr>
        <p:spPr>
          <a:xfrm>
            <a:off x="3763800" y="5635800"/>
            <a:ext cx="1036800" cy="841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Alejandra Avila</cp:lastModifiedBy>
  <dcterms:modified xsi:type="dcterms:W3CDTF">2005-01-07T18:55:06Z</dcterms:modified>
  <cp:revision>4</cp:revision>
  <dc:subject/>
  <dc:title>Presentación de PowerPoint</dc:title>
</cp:coreProperties>
</file>