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D544-4FB0-4EA0-BC72-3499052EE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76B39-A83C-443F-85B3-7BC318B6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677A-EDE2-4ED5-B7BD-68DE8EA8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144C9-F032-4360-9F5D-AB585B01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7A5E6-CF04-4967-B31D-4E877AA39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A01CA-9E24-4019-90E5-E74148A94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0CB53-BE86-4BFE-B6D3-490903289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0F046-7849-45E5-9578-1DC24D0E1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9E5FD-6F84-4CF2-8F2C-BA008DE55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4B2F2-520F-42BB-8206-0F6299E58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99B7-263C-464E-B687-FB00798F8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422E-44D8-419B-A871-3462A159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27B42-BBC8-40BC-A839-34AB0C717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49B91-0A16-4552-9E5F-AB78115D0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2D510-5069-486D-8C4B-CF09F3EAF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620D8-F03E-4515-94C7-369C6EA0F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3773B-F8B1-4ECC-B05E-B108630E4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0F1A-39AC-4719-A2FB-FB5E1EB5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97BE-1E92-471C-97AC-16197481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6EA7C-B353-4F25-99AA-F0EFA24CE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F0F70-314D-4AA5-9AA6-F190C5D42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0DAE-D80D-42F8-AAB5-FBB37299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3DFD4-E711-4414-8BBE-983EB403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ED91-132F-4794-A69D-BB90ACFF0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E2D7-1F43-48CB-A298-715D15E9560C}"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D7A6-F43B-4B81-84C8-6146C4B4542E}"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10"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1" name="wilson_pic" descr=""/>
          <p:cNvPicPr/>
          <p:nvPr/>
        </p:nvPicPr>
        <p:blipFill>
          <a:blip r:embed="rId1"/>
          <a:stretch/>
        </p:blipFill>
        <p:spPr>
          <a:xfrm>
            <a:off x="7086600" y="4495680"/>
            <a:ext cx="1736640" cy="2000520"/>
          </a:xfrm>
          <a:prstGeom prst="rect">
            <a:avLst/>
          </a:prstGeom>
          <a:ln w="0">
            <a:noFill/>
          </a:ln>
        </p:spPr>
      </p:pic>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4" name="morgenthau_sm" descr=""/>
          <p:cNvPicPr/>
          <p:nvPr/>
        </p:nvPicPr>
        <p:blipFill>
          <a:blip r:embed="rId1"/>
          <a:stretch/>
        </p:blipFill>
        <p:spPr>
          <a:xfrm>
            <a:off x="6553080" y="2819520"/>
            <a:ext cx="1737000" cy="1268280"/>
          </a:xfrm>
          <a:prstGeom prst="rect">
            <a:avLst/>
          </a:prstGeom>
          <a:ln w="0">
            <a:noFill/>
          </a:ln>
        </p:spPr>
      </p:pic>
      <p:pic>
        <p:nvPicPr>
          <p:cNvPr id="115" name="images" descr=""/>
          <p:cNvPicPr/>
          <p:nvPr/>
        </p:nvPicPr>
        <p:blipFill>
          <a:blip r:embed="rId2"/>
          <a:stretch/>
        </p:blipFill>
        <p:spPr>
          <a:xfrm>
            <a:off x="6781680" y="4572000"/>
            <a:ext cx="1406520" cy="1703520"/>
          </a:xfrm>
          <a:prstGeom prst="rect">
            <a:avLst/>
          </a:prstGeom>
          <a:ln w="0">
            <a:noFill/>
          </a:ln>
        </p:spPr>
      </p:pic>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8" name="Kaplan" descr=""/>
          <p:cNvPicPr/>
          <p:nvPr/>
        </p:nvPicPr>
        <p:blipFill>
          <a:blip r:embed="rId1"/>
          <a:stretch/>
        </p:blipFill>
        <p:spPr>
          <a:xfrm>
            <a:off x="6818400" y="3352680"/>
            <a:ext cx="1662120" cy="2362320"/>
          </a:xfrm>
          <a:prstGeom prst="rect">
            <a:avLst/>
          </a:prstGeom>
          <a:ln w="0">
            <a:noFill/>
          </a:ln>
        </p:spPr>
      </p:pic>
      <p:sp>
        <p:nvSpPr>
          <p:cNvPr id="119"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0"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21" name="deutsch1" descr=""/>
          <p:cNvPicPr/>
          <p:nvPr/>
        </p:nvPicPr>
        <p:blipFill>
          <a:blip r:embed="rId2"/>
          <a:stretch/>
        </p:blipFill>
        <p:spPr>
          <a:xfrm>
            <a:off x="1219320" y="3505320"/>
            <a:ext cx="1854000" cy="2341440"/>
          </a:xfrm>
          <a:prstGeom prst="rect">
            <a:avLst/>
          </a:prstGeom>
          <a:ln w="0">
            <a:noFill/>
          </a:ln>
        </p:spPr>
      </p:pic>
      <p:sp>
        <p:nvSpPr>
          <p:cNvPr id="122"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3"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6"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8"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30"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Alejandra Avila</cp:lastModifiedBy>
  <dcterms:modified xsi:type="dcterms:W3CDTF">2004-01-27T17:29:20Z</dcterms:modified>
  <cp:revision>2</cp:revision>
  <dc:subject/>
  <dc:title>Presentación de PowerPoint</dc:title>
</cp:coreProperties>
</file>