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FED-17C2-4031-8E88-4116821C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78A-7F59-4616-B84C-D6CA735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4EF-6C0C-43EF-8505-331D40CA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B47-9CB3-4555-9768-F806D7FC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EE06-305F-407B-998E-2D962848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F158-DDFA-4485-90ED-30A94130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C86-0BEA-427D-8F33-163DDE63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7B5-478A-46AD-8DE6-5B7E1A5A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327-A45A-4B11-876D-8BD4245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021-B32A-483C-AAC5-41B5DAD2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5917-233D-4BA9-A005-F15A578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D26-0568-4041-B02A-D3547DE9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C7A-901D-4AE6-914D-F412062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4726-1F96-41F5-AB8F-F1C53403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66C8-CB20-42EE-8D12-19F44C34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4D6B-8F7C-44DE-8F5D-6684A3C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DB1-8EA0-48E1-BDFD-CE655085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E7-9541-4CE2-8FC7-DC29482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DAF-171F-4A33-B4BA-F4E2704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471-0369-48F4-A34E-62AD2C10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AD2-0C0D-4A05-97B6-0A0C214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3FB-75DE-46EB-AAE0-FF0FE24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E05-7530-421C-B93A-7635DB9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DA1-57C5-497C-9E1C-5FCD005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52F-556D-4821-AE6B-1156478FB27F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CDC-F1A2-4628-81C7-414BB37B7A42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Escuela de Gobierno</cp:lastModifiedBy>
  <dcterms:modified xsi:type="dcterms:W3CDTF">2004-01-26T14:45:57Z</dcterms:modified>
  <cp:revision>8</cp:revision>
  <dc:subject/>
  <dc:title>El sistema Internacional: sus actores y elementos</dc:title>
</cp:coreProperties>
</file>