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C0C-91F8-40C9-9A59-6A2D2649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94F-E643-447A-9389-397CAED5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5A6-8B32-4A3A-8588-E04B8E2E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1F0-7BE5-46BD-9FA5-C17EBC5A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52A-FB06-4C0B-B49A-A49F1010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B38-7F0F-454D-B50F-A5725141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D01-E443-4A3D-91C3-B1DD793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F1B-A051-420F-B63B-271DAC4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B90-4C91-4F25-AE16-B7E1B45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27B-7C39-4124-9C74-3FC42257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1EE-D53E-4C8B-B694-AB694C2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FA7-3C1F-49A4-A3CC-FA44FDC5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F6BF-4163-497C-AEEC-C97FE2AE2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6858000" cy="90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61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47:44Z</dcterms:created>
  <dc:creator>Erika Jorquera</dc:creator>
  <dc:description/>
  <dc:language>en-US</dc:language>
  <cp:lastModifiedBy>Erika Jorquera</cp:lastModifiedBy>
  <dcterms:modified xsi:type="dcterms:W3CDTF">2005-01-24T14:53:38Z</dcterms:modified>
  <cp:revision>1</cp:revision>
  <dc:subject/>
  <dc:title>Presentación de PowerPoint</dc:title>
</cp:coreProperties>
</file>