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4F4-AA72-4772-A5FD-74D9E85E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3B4-C378-465B-85CC-8E1D6796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80F-BFBF-4FC7-8124-1DBD8FDD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F95-433D-4671-9CC4-847AFC04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CD3C-D180-465D-9430-4B7E433D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623-0C7D-4893-8E09-4AAA5F48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871-9C7C-46EB-A14F-454021E7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C65-6430-49FE-AF56-41F3CAF6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2DD-E86F-473F-AB60-BD5C6664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2EE-4139-4805-B41B-E17A9C53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362-4F9C-4C08-A639-F5013E80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D9B-606F-41B8-B162-7AC6FFF4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8B00-E7DB-4FBD-941A-BECD18539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6858000" cy="90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61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4:47:44Z</dcterms:created>
  <dc:creator>Erika Jorquera</dc:creator>
  <dc:description/>
  <dc:language>en-US</dc:language>
  <cp:lastModifiedBy>Erika Jorquera</cp:lastModifiedBy>
  <dcterms:modified xsi:type="dcterms:W3CDTF">2005-01-24T14:53:38Z</dcterms:modified>
  <cp:revision>1</cp:revision>
  <dc:subject/>
  <dc:title>Presentación de PowerPoint</dc:title>
</cp:coreProperties>
</file>