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92A-39A1-450C-8903-8CA0B044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0A6-61FD-44F3-A62E-C35EE9DE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2A4-88ED-42AE-9217-6DD80ED7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80B-438B-4842-BA40-ECE85FAB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9DD-8482-4D29-B27B-91C72E1C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267-22F0-4152-899A-F823DCBF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AE8-164A-40C5-A552-A360C2A0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4E0-7B1C-433E-AB25-DAA86BB6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DE3-1544-41FC-A89D-B671E17C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A08-8771-436F-9972-108F747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B57-3556-4B6D-9B85-5F5C9DB7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F38-1EFC-4676-854A-13572FD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FE32-A9CA-45D5-9C05-4271B0842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6858000" cy="90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61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4:47:44Z</dcterms:created>
  <dc:creator>Erika Jorquera</dc:creator>
  <dc:description/>
  <dc:language>en-US</dc:language>
  <cp:lastModifiedBy>Erika Jorquera</cp:lastModifiedBy>
  <dcterms:modified xsi:type="dcterms:W3CDTF">2005-01-24T14:53:38Z</dcterms:modified>
  <cp:revision>1</cp:revision>
  <dc:subject/>
  <dc:title>Presentación de PowerPoint</dc:title>
</cp:coreProperties>
</file>