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7E4-B478-450C-AC72-37C296F6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A4C-C0DC-4E16-A3AD-83B77133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4D3-9FA8-4D15-93FA-CB79E7AA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717-CB5E-4827-A6C2-2649A2F9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46B-EF12-4DD4-8B69-0CDEF061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232-6B8C-43BA-A0BD-98FF6C12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50E-94FE-4DAC-9438-FA4E5300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E1C-A872-4AFE-881B-7D4953AA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EDF-47B8-4763-AAB1-49E26CC2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E4E-7223-4C6B-91CE-D7D4223C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518-41A1-4052-8864-CD7CEBE7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6D5-6A2E-4EB1-B7C5-67C7220A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EBEB-B8C7-4D3E-B316-C1DC3D564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6858000" cy="90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61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4:47:44Z</dcterms:created>
  <dc:creator>Erika Jorquera</dc:creator>
  <dc:description/>
  <dc:language>en-US</dc:language>
  <cp:lastModifiedBy>Erika Jorquera</cp:lastModifiedBy>
  <dcterms:modified xsi:type="dcterms:W3CDTF">2005-01-24T14:53:38Z</dcterms:modified>
  <cp:revision>1</cp:revision>
  <dc:subject/>
  <dc:title>Presentación de PowerPoint</dc:title>
</cp:coreProperties>
</file>