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9B8-7123-40A0-A254-9263D8FC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AA8-0F63-4C6F-9857-C71FE748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624-0C91-4A0D-87E6-81C92404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934-FE77-439A-90F7-A781567C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E68-4442-4FF6-8159-5D6CCA09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9FA-DA75-46B6-B335-15A76CB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FA3-E89D-4442-9D11-2640725F7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615-6B3C-41CF-8E01-FCCEE5CC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AB0-9F9A-4E24-909B-51906D1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E59-EFD0-4AF1-843F-23E279B1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9CEB-ADAF-4537-8D62-9A518731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C16-4608-421D-AAFB-951C619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BBF-E1B7-4D3E-B312-D3B69C528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" y="0"/>
            <a:ext cx="681984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4:40:52Z</dcterms:created>
  <dc:creator>Erika Jorquera</dc:creator>
  <dc:description/>
  <dc:language>en-US</dc:language>
  <cp:lastModifiedBy>Erika Jorquera</cp:lastModifiedBy>
  <dcterms:modified xsi:type="dcterms:W3CDTF">2005-01-24T14:46:40Z</dcterms:modified>
  <cp:revision>1</cp:revision>
  <dc:subject/>
  <dc:title>Presentación de PowerPoint</dc:title>
</cp:coreProperties>
</file>