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081-CADD-4EE1-9625-160DCA9A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85F-753A-4072-B4F6-ABCB4CAA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A18-F9D3-4E0C-BC63-279B530C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EC2-3E5E-4EFA-BACE-864DBC5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D7A-5C31-43BF-9070-E96C950A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B8C-5CBB-4B31-97CE-7927B6A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535-9BB8-4C34-9695-8C3F9082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044-6F13-475B-8A53-D776B07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145-9687-4AD3-9EE4-82EC5FE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D3F-F325-4B42-81B9-C23835A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F6B-ED1F-45D8-BCEC-C105005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A2A-403E-4393-9E0E-3D102FC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4A4-05A9-44AF-8B4F-04B6E706B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" y="0"/>
            <a:ext cx="681984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0:52Z</dcterms:created>
  <dc:creator>Erika Jorquera</dc:creator>
  <dc:description/>
  <dc:language>en-US</dc:language>
  <cp:lastModifiedBy>Erika Jorquera</cp:lastModifiedBy>
  <dcterms:modified xsi:type="dcterms:W3CDTF">2005-01-24T14:46:40Z</dcterms:modified>
  <cp:revision>1</cp:revision>
  <dc:subject/>
  <dc:title>Presentación de PowerPoint</dc:title>
</cp:coreProperties>
</file>