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D4A-B50D-4B68-9E5D-8EB387DD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90F-52E9-4539-9FAA-5B1FCC6B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9A5-38CD-4B57-BAAD-86E86CED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986-BE4B-4E63-A43A-5D783570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CBA-7C00-4777-89AA-D63DC4ED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0B3-1B6F-457C-A353-1B15D553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216-5D57-479C-975D-706C7B1A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565-F3FF-41D0-9BC0-53107FAC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EA8-19E9-4F44-A8CD-4ED04484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864-9E85-4B2E-9651-92C88C2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5E0-70C1-4ABA-8879-6A48BB8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962-C446-4D62-BAD6-1E821401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39A4-2A86-41AF-B37B-F617B6645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5953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5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6769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671508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4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152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380880"/>
            <a:ext cx="681984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2:07:21Z</dcterms:created>
  <dc:creator>Erika Jorquera</dc:creator>
  <dc:description/>
  <dc:language>en-US</dc:language>
  <cp:lastModifiedBy>Erika Jorquera</cp:lastModifiedBy>
  <dcterms:modified xsi:type="dcterms:W3CDTF">2005-01-18T12:44:17Z</dcterms:modified>
  <cp:revision>2</cp:revision>
  <dc:subject/>
  <dc:title>Presentación de PowerPoint</dc:title>
</cp:coreProperties>
</file>