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8A8-B0F0-4E12-AEB5-BB6B06B2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7062-89A2-4F4B-9097-F851698A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808-F5A7-4662-B170-C3B4B800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808-3105-4AA0-AE36-CF10B5DC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7F4-D9AF-4A91-88A7-6E85776B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51A-3028-49B9-9908-E801FF60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533-2784-4124-BD69-51B0D74D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79B-6089-45C8-8F92-6F2D2F4C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9EF-02F0-4620-9075-4559C94F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674-A185-4866-89DD-01DD7D6F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E8C4-A980-4D78-AF5D-FF1782D6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AF20-1109-4F51-888C-CFBC39AA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56EC-56DC-4DAB-8501-91BAF5B3E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59533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959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67692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2920" y="0"/>
            <a:ext cx="671508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24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90440"/>
            <a:ext cx="685800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152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" y="380880"/>
            <a:ext cx="6819840" cy="83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2:07:21Z</dcterms:created>
  <dc:creator>Erika Jorquera</dc:creator>
  <dc:description/>
  <dc:language>en-US</dc:language>
  <cp:lastModifiedBy>Erika Jorquera</cp:lastModifiedBy>
  <dcterms:modified xsi:type="dcterms:W3CDTF">2005-01-18T12:44:17Z</dcterms:modified>
  <cp:revision>2</cp:revision>
  <dc:subject/>
  <dc:title>Presentación de PowerPoint</dc:title>
</cp:coreProperties>
</file>