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36D-5607-44A8-8D16-F66E083D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1FC-5AAF-4A3A-88D0-748BAC98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370-5A63-4A19-B9FC-2F70EC8B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495-A2B7-424D-B1B5-573DA1B8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904-D903-4AC4-826E-7066CDE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31F-E0EF-4B13-A0AD-B911B4B4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927-6C1A-4C4E-9277-0587200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677-0657-4911-A8A3-5A8182E1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2B5-1823-4A98-B02D-A7F088EF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64C2-AB19-4FCB-8EA8-D50353B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099-0E2F-4C1E-BBEE-9D838E4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94F-67D2-460F-BE43-56B8522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CBB3-7E0E-4734-A05E-5178E1AD9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953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5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6769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71508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4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380880"/>
            <a:ext cx="681984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2:07:21Z</dcterms:created>
  <dc:creator>Erika Jorquera</dc:creator>
  <dc:description/>
  <dc:language>en-US</dc:language>
  <cp:lastModifiedBy>Erika Jorquera</cp:lastModifiedBy>
  <dcterms:modified xsi:type="dcterms:W3CDTF">2005-01-18T12:44:17Z</dcterms:modified>
  <cp:revision>2</cp:revision>
  <dc:subject/>
  <dc:title>Presentación de PowerPoint</dc:title>
</cp:coreProperties>
</file>