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8A7-D2A0-4AD2-8E66-CF80A72B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C32-2175-4FBD-B9EF-DE8FF215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3F8-9A81-41C2-A331-922FFDA2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CA7-10D6-44AD-A8AB-ED4397CB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8EA-1410-4479-9A46-25AAADB0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610-7CD6-47F9-BE35-956D7BA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233-444D-4CC8-9BDD-AF65918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473-BEFF-43DB-9C19-230C5053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4F9-E450-48E3-ABE6-ECF452D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814-8DF0-4AB6-93F9-75A26C5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8AA-6EDB-4AB6-9C65-9176E057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B22-A472-41C0-B15F-1E18DEF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279F-6B20-478C-9399-DDD161A3F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5953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5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6769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671508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4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380880"/>
            <a:ext cx="681984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2:07:21Z</dcterms:created>
  <dc:creator>Erika Jorquera</dc:creator>
  <dc:description/>
  <dc:language>en-US</dc:language>
  <cp:lastModifiedBy>Erika Jorquera</cp:lastModifiedBy>
  <dcterms:modified xsi:type="dcterms:W3CDTF">2005-01-18T12:44:17Z</dcterms:modified>
  <cp:revision>2</cp:revision>
  <dc:subject/>
  <dc:title>Presentación de PowerPoint</dc:title>
</cp:coreProperties>
</file>