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BAB-5BBE-4562-9222-821F1DC0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52A-E241-4295-B63F-191AEF73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F6F-B59E-4FE9-BE2F-D16E6170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3C8-A26A-437E-B256-AAF66ED2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8B4-4631-4675-9C5F-016FDEBD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6D6-8255-42A7-B82F-54D0A744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3FE-80A3-4543-9062-45DE7571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45B-43C8-4818-9D47-DAF25DC7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60B-3A2A-4A33-8562-69AD8B49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8DF-1F2E-4DCA-8134-D3D531F6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DA3-6E01-40C8-A364-5FB6A936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873-58CB-4EED-8927-ED0064BD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9154-AF06-4BFD-A1AD-B28D94AD7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962160" cy="489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38098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3657600" cy="541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4495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04:50Z</dcterms:created>
  <dc:creator>Erika Jorquera</dc:creator>
  <dc:description/>
  <dc:language>en-US</dc:language>
  <cp:lastModifiedBy>Erika Jorquera</cp:lastModifiedBy>
  <dcterms:modified xsi:type="dcterms:W3CDTF">2005-01-07T20:08:10Z</dcterms:modified>
  <cp:revision>1</cp:revision>
  <dc:subject/>
  <dc:title>Presentación de PowerPoint</dc:title>
</cp:coreProperties>
</file>