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219-0B7F-4600-9946-AE469F9F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2AE-E6EB-4145-B6B3-287D142D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997-09A5-426A-9B3A-7CEF44E0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053-EF04-4CF2-81B5-ABADC7B9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8BC-BD67-42A8-BD55-E18BF369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6A8-B408-49D8-B522-7CA30E09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24F-B2FE-43C0-8C35-DE242D95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AD2-5196-4A00-A57C-C0C82FAC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DF5-FFC6-4EAF-997A-14C7A28C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42F-5C0B-46E7-93E2-90F09CE1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6E2-93B4-464C-942C-17EF1933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2B9-8E0E-4ECA-B031-81CBAD2A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1FBD-BD34-49E4-A380-D3E00106C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962160" cy="489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38098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3657600" cy="541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4495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04:50Z</dcterms:created>
  <dc:creator>Erika Jorquera</dc:creator>
  <dc:description/>
  <dc:language>en-US</dc:language>
  <cp:lastModifiedBy>Erika Jorquera</cp:lastModifiedBy>
  <dcterms:modified xsi:type="dcterms:W3CDTF">2005-01-07T20:08:10Z</dcterms:modified>
  <cp:revision>1</cp:revision>
  <dc:subject/>
  <dc:title>Presentación de PowerPoint</dc:title>
</cp:coreProperties>
</file>