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61F-63AE-4D02-8C7A-73DA847B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7EC0-1423-485A-8269-A08E3438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23EB-2F17-45ED-8B60-F99D2723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188E-68E3-4A06-8584-5DC8809F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494-86E7-48D7-9423-18ABF42C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51E9-167B-483C-84B9-A1D9BCC4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FFF0-EFFF-46F1-992B-5A219F4C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1C2C-87DD-4A6A-9FED-30A50D9B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0577-110D-4457-AFDE-1F169B9A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DC7E-9621-422A-8108-ACB14C81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2A7A-4A98-49EF-A0CD-DEC0596C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9BBC-7B23-436B-8328-E5C7A464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83BE-3F26-4D59-8AB7-01C2BDA46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4114800" cy="4952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3886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38600" cy="4800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3962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34040" cy="548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200480" y="0"/>
            <a:ext cx="4943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19:58:32Z</dcterms:created>
  <dc:creator>Erika Jorquera</dc:creator>
  <dc:description/>
  <dc:language>en-US</dc:language>
  <cp:lastModifiedBy>Erika Jorquera</cp:lastModifiedBy>
  <dcterms:modified xsi:type="dcterms:W3CDTF">2005-01-07T20:03:31Z</dcterms:modified>
  <cp:revision>1</cp:revision>
  <dc:subject/>
  <dc:title>Presentación de PowerPoint</dc:title>
</cp:coreProperties>
</file>