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83D-F0C4-43B6-909D-16649256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467-8E94-478D-B556-F67BD08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FD3-2F36-4FBF-BD55-8E631EC4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E31-1B17-437F-8F9B-DD053D4B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D7E-7AC2-456B-B014-FA3C32C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139-C5BB-4110-9511-F0AC9AE6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73F-2CF6-4643-89AA-A0861DB5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DF8-566E-4F97-9F10-71632AEF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87C-2634-4CF4-A77B-84924A2D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67B-4DDB-44CC-A8DB-13E5B35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841-0C11-4B8D-A21D-0C997FE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762-A156-4AEE-8899-B371E96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35E7-F628-4ADA-A88B-38E910A4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4952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8600" cy="480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39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548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00480" y="0"/>
            <a:ext cx="4943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9:58:32Z</dcterms:created>
  <dc:creator>Erika Jorquera</dc:creator>
  <dc:description/>
  <dc:language>en-US</dc:language>
  <cp:lastModifiedBy>Erika Jorquera</cp:lastModifiedBy>
  <dcterms:modified xsi:type="dcterms:W3CDTF">2005-01-07T20:03:31Z</dcterms:modified>
  <cp:revision>1</cp:revision>
  <dc:subject/>
  <dc:title>Presentación de PowerPoint</dc:title>
</cp:coreProperties>
</file>