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B71B-3773-4109-A707-845FBFE6B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52F4-99D5-4569-A5AA-8E9A6E2C5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612E-80AD-4CD0-B608-4D1B5389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56F6-B97F-46AA-A278-ED25899BB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656E-657D-4BFC-A520-B30CC7D0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9E2-8DDF-4F82-AF49-4196D75A2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5DD7-343F-4386-BE9E-49A01DB2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628B-A8F7-42C0-9EC3-969CFFFEA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867E-EB33-46CC-BABD-BBD8A07BF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5813-AA6A-4C59-9043-3C6AA691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276A-3CF4-47E1-AD5B-11DC496D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A56F-5E5B-4B6E-AA76-B4DBEF3E9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FA603-13BC-4F95-B51D-13E3A78E8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80880" y="0"/>
            <a:ext cx="4114800" cy="4952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38600" cy="4800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39625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34040" cy="5486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200480" y="0"/>
            <a:ext cx="4943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7T19:58:32Z</dcterms:created>
  <dc:creator>Erika Jorquera</dc:creator>
  <dc:description/>
  <dc:language>en-US</dc:language>
  <cp:lastModifiedBy>Erika Jorquera</cp:lastModifiedBy>
  <dcterms:modified xsi:type="dcterms:W3CDTF">2005-01-07T20:03:31Z</dcterms:modified>
  <cp:revision>1</cp:revision>
  <dc:subject/>
  <dc:title>Presentación de PowerPoint</dc:title>
</cp:coreProperties>
</file>