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FE7-255E-44B0-86F5-353BEAC1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830-D6B3-4408-A4BE-1E04D183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738-3811-4648-82C3-A4BC9CB5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210-EDE4-48C6-91E9-7B89241D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EEC-3F88-4505-BC3B-7FB416AF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7D8-E814-4C3E-A3F4-B8F5194A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38E-9DD5-4FA9-8F40-AB0AADB2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255-51BB-4C2F-86E2-533827E2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D20-24BB-4385-84E1-5C385D1F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558-2937-4CF8-8A3C-66CC655A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14B-1908-4D20-906E-2F171EC2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A94-8BA7-4C77-A244-8C6FCA32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363F-F528-45D4-9D36-5DDB5446D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000" y="533520"/>
            <a:ext cx="7956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BIOLOGIA= CIENCIA DE LA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sarrollo basado en el METODO CIENTI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- HIPO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2. DEMOSTR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69048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5600" y="342900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XPERI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400" y="590724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A APLICADA: BIOTECNOLOGIA, MEDICI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984" t="20664" r="36988" b="15309"/>
          <a:stretch/>
        </p:blipFill>
        <p:spPr>
          <a:xfrm>
            <a:off x="406440" y="1290600"/>
            <a:ext cx="8737560" cy="556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45720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simple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utoreplicativos de RNA hasta la époc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2720" y="777960"/>
            <a:ext cx="638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LEMENTOS BASICO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BRANA 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GIÓN 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TRIZ SEMIFLUÍ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09520" y="1185840"/>
            <a:ext cx="935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ASIFICACIÓN DE LOS ORGANISMOS VIVOS SEGÚN COMPLEJ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1.-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RO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.-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EU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228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FERENCIAS ENTRE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Y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650960"/>
          <a:ext cx="8382240" cy="46972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30481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PRO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EU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M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-1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-10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º CÉLU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Ó M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GANIZACIÓN INTRACITOPLASMA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RGANE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MBRANO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GIO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EGIÓ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ÚCLEO VERDAD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992" t="16695" r="28013" b="11340"/>
          <a:stretch/>
        </p:blipFill>
        <p:spPr>
          <a:xfrm>
            <a:off x="201600" y="1357200"/>
            <a:ext cx="8331120" cy="4454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15680" y="38088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aje de los Reinos 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3 reinos están interrelacionados a través de secuencias  de rRNA comunes y muestra como la vida se originó de un progenitor comú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0"/>
            <a:ext cx="1240308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ARACTERISTICAS Y PROPIEDAD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LOS 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GANIZACIÓ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ja: diferentes niveles, g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RECIMIENTO Y METABOLISM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crecer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se se necesit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EPRODU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be0e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ERENCI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ción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66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OTR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movimiento, capacidad de respue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, adaptación,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TEORI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DOS LOS SISTEMAS VIVOS EST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UESTO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 UNA O M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 CÉLULA ES LA UNIDAD MÁ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LOS ORGANISMO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DA CÉLULA PROVIENE DE UNA CÉ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EXISTENTE POR UN PROCESO DE DIVIS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5920"/>
            <a:ext cx="806436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igen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9933"/>
                </a:solidFill>
                <a:latin typeface="Arial"/>
              </a:rPr>
              <a:t>Teo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parin: 1922: vida provi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   evolución química, surgida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forma espontánea bajo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mbientales pre-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iller: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xperimento para pro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teoría  Opa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9933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1.     Poco O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i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no unido a otros elemen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2.     C,H,O,N en abund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983" t="27342" r="15022" b="45990"/>
          <a:stretch/>
        </p:blipFill>
        <p:spPr>
          <a:xfrm>
            <a:off x="914400" y="380880"/>
            <a:ext cx="6942240" cy="195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992" t="26649" r="16014" b="14679"/>
          <a:stretch/>
        </p:blipFill>
        <p:spPr>
          <a:xfrm>
            <a:off x="1371600" y="2362320"/>
            <a:ext cx="6799320" cy="3605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1400" y="5985000"/>
            <a:ext cx="43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xperimento de Mille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4002" t="23335" r="17001" b="27336"/>
          <a:stretch/>
        </p:blipFill>
        <p:spPr>
          <a:xfrm>
            <a:off x="1015920" y="3200400"/>
            <a:ext cx="73152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1002" t="16670" r="13000" b="40005"/>
          <a:stretch/>
        </p:blipFill>
        <p:spPr>
          <a:xfrm>
            <a:off x="711360" y="419040"/>
            <a:ext cx="7823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84" t="28665" r="29453" b="30555"/>
          <a:stretch/>
        </p:blipFill>
        <p:spPr>
          <a:xfrm>
            <a:off x="76320" y="1143000"/>
            <a:ext cx="8991360" cy="401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3960" y="399960"/>
            <a:ext cx="49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mación de nucleótido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lipép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3722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Nucleótidos (A,U,G,C) sufren polimerización espont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linucleótidos al a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A polimerizan             polipép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07440" y="558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7080" y="6165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984" t="20664" r="67169" b="50022"/>
          <a:stretch/>
        </p:blipFill>
        <p:spPr>
          <a:xfrm>
            <a:off x="304920" y="1620720"/>
            <a:ext cx="3962160" cy="2822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57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un sistema autoreplicativo de moléculas de RNA capaces de dirigir la síntesi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34012" t="19341" r="29005" b="31311"/>
          <a:stretch/>
        </p:blipFill>
        <p:spPr>
          <a:xfrm>
            <a:off x="4572000" y="1523880"/>
            <a:ext cx="43624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7840" y="395280"/>
            <a:ext cx="57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Formación de los fosfolípido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membr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992" t="19971" r="70008" b="34650"/>
          <a:stretch/>
        </p:blipFill>
        <p:spPr>
          <a:xfrm>
            <a:off x="1015920" y="1241280"/>
            <a:ext cx="71802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05:21Z</dcterms:created>
  <dc:creator>Ana Maria Ronco</dc:creator>
  <dc:description/>
  <dc:language>en-US</dc:language>
  <cp:lastModifiedBy>Ana Maria Ronco</cp:lastModifiedBy>
  <dcterms:modified xsi:type="dcterms:W3CDTF">2005-01-03T15:26:31Z</dcterms:modified>
  <cp:revision>2</cp:revision>
  <dc:subject/>
  <dc:title>Diapositiva 1</dc:title>
</cp:coreProperties>
</file>