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30A-2979-43E9-8843-EAB679D2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F6A-C0FE-47DD-89E3-883F0F28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624-F9CA-43DC-9439-746564E9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4B6-AAB4-405A-98A3-EA76734F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31B-F5F5-4BE2-9A8D-064AA81F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A8B-F923-48A0-9BB6-43784733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DA9-ED3E-46D9-8F60-9258A12D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EF46-CA08-4852-83D4-37F57988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559-BD57-482F-96E6-79123D65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218-25D7-42CE-A901-A5B8B76A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69D-5BA6-4120-BD74-867AEEFE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F11-5C15-4C0F-8F0B-412A20B1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4842-D7B5-430F-AC30-3A25704A7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4000" y="533520"/>
            <a:ext cx="7956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BIOLOGIA= CIENCIA DE LA 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sarrollo basado en el METODO CIENTI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- HIPO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2. DEMOSTR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05320" y="3429000"/>
            <a:ext cx="69048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5600" y="342900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XPERI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8400" y="590724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LOGIA APLICADA: BIOTECNOLOGIA, MEDICIN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I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1984" t="20664" r="36988" b="15309"/>
          <a:stretch/>
        </p:blipFill>
        <p:spPr>
          <a:xfrm>
            <a:off x="406440" y="1290600"/>
            <a:ext cx="8737560" cy="5567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1280" y="45720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tapas en la evolución de simple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utoreplicativos de RNA hasta la époc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2720" y="777960"/>
            <a:ext cx="638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LEMENTOS BASICO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 CÉL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MBRANA 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GIÓN NU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TRIZ SEMIFLUÍD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ITO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09520" y="1185840"/>
            <a:ext cx="935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ASIFICACIÓN DE LOS ORGANISMOS VIVOS SEGÚN COMPLEJ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1.-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PROCARIO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2.-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EUCARIO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22860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IFERENCIAS ENTRE PRO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Y EU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1650960"/>
          <a:ext cx="8382240" cy="46972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304812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PROCARIO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EUCARIO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AM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-10 MIC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-100 MICR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º CÉLUL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 Ó M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RGANIZACIÓN INTRACITOPLASMA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RGANEL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EMBRANO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GION 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REGIÓN NU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ÚCLEO VERDAD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992" t="16695" r="28013" b="11340"/>
          <a:stretch/>
        </p:blipFill>
        <p:spPr>
          <a:xfrm>
            <a:off x="201600" y="1357200"/>
            <a:ext cx="8331120" cy="4454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15680" y="380880"/>
            <a:ext cx="55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naje de los Reinos 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3 reinos están interrelacionados a través de secuencias  de rRNA comunes y muestra como la vida se originó de un progenitor comú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0"/>
            <a:ext cx="1240308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CARACTERISTICAS Y PROPIEDADE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LOS 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RGANIZACIÓ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leja: diferentes niveles, g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RECIMIENTO Y METABOLISMO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 crecer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arse se necesita ENE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REPRODU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be0e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HERENCI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formación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66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OTR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movimiento, capacidad de respues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ostasis, adaptación, 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3352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TEORIA CE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DOS LOS SISTEMAS VIVOS EST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UESTO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R UNA O M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 CÉLULA ES LA UNIDAD MÁS PEQU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 LOS ORGANISMO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DA CÉLULA PROVIENE DE UNA CÉ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EXISTENTE POR UN PROCESO DE DIVIS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15920"/>
            <a:ext cx="806436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rigen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9933"/>
                </a:solidFill>
                <a:latin typeface="Arial"/>
              </a:rPr>
              <a:t>Teor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parin: 1922: vida provi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   evolución química, surgida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forma espontánea bajo condi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mbientales pre-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iller: 1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xperimento para pro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teoría  Opa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9933"/>
                </a:solidFill>
                <a:latin typeface="Arial"/>
              </a:rPr>
              <a:t>Condi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1.     Poco O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i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(no unido a otros elemen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2.     C,H,O,N en abund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3983" t="27342" r="15022" b="45990"/>
          <a:stretch/>
        </p:blipFill>
        <p:spPr>
          <a:xfrm>
            <a:off x="914400" y="380880"/>
            <a:ext cx="6942240" cy="195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992" t="26649" r="16014" b="14679"/>
          <a:stretch/>
        </p:blipFill>
        <p:spPr>
          <a:xfrm>
            <a:off x="1371600" y="2362320"/>
            <a:ext cx="6799320" cy="3605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1400" y="5985000"/>
            <a:ext cx="438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xperimento de Mille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19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4002" t="23335" r="17001" b="27336"/>
          <a:stretch/>
        </p:blipFill>
        <p:spPr>
          <a:xfrm>
            <a:off x="1015920" y="3200400"/>
            <a:ext cx="731520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11002" t="16670" r="13000" b="40005"/>
          <a:stretch/>
        </p:blipFill>
        <p:spPr>
          <a:xfrm>
            <a:off x="711360" y="419040"/>
            <a:ext cx="7823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984" t="28665" r="29453" b="30555"/>
          <a:stretch/>
        </p:blipFill>
        <p:spPr>
          <a:xfrm>
            <a:off x="76320" y="1143000"/>
            <a:ext cx="8991360" cy="4010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3960" y="399960"/>
            <a:ext cx="49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mación de nucleótidos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lipép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37228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Nucleótidos (A,U,G,C) sufren polimerización espontá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linucleótidos al az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A polimerizan             polipép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07440" y="558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67080" y="6165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984" t="20664" r="67169" b="50022"/>
          <a:stretch/>
        </p:blipFill>
        <p:spPr>
          <a:xfrm>
            <a:off x="304920" y="1620720"/>
            <a:ext cx="3962160" cy="2822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4572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tapas en la evolución de un sistema autoreplicativo de moléculas de RNA capaces de dirigir la síntesis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34012" t="19341" r="29005" b="31311"/>
          <a:stretch/>
        </p:blipFill>
        <p:spPr>
          <a:xfrm>
            <a:off x="4572000" y="1523880"/>
            <a:ext cx="43624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7840" y="395280"/>
            <a:ext cx="57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Formación de los fosfolípido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membr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992" t="19971" r="70008" b="34650"/>
          <a:stretch/>
        </p:blipFill>
        <p:spPr>
          <a:xfrm>
            <a:off x="1015920" y="1241280"/>
            <a:ext cx="71802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05:21Z</dcterms:created>
  <dc:creator>Ana Maria Ronco</dc:creator>
  <dc:description/>
  <dc:language>en-US</dc:language>
  <cp:lastModifiedBy>Ana Maria Ronco</cp:lastModifiedBy>
  <dcterms:modified xsi:type="dcterms:W3CDTF">2005-01-03T15:26:31Z</dcterms:modified>
  <cp:revision>2</cp:revision>
  <dc:subject/>
  <dc:title>Diapositiva 1</dc:title>
</cp:coreProperties>
</file>