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7AD5-D456-4019-A893-28573495D7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99F1-FD25-41EF-8CB0-D38934755C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2073-53D9-4331-AA3D-2D9355184A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BA59-E9E8-4C74-BDD9-19F834DD0A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0CCD-797C-4B7D-A60D-0899518061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942C-EB01-4BA8-B565-AE5A50307E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512F-F692-402A-83D2-5DAE4DEB46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E339-68FF-4374-AFFF-42F3D81CAF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9DF3-F93C-429C-84EE-BBB6E0FA05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9006-9332-4D74-9705-BEDE9364C0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FA1-333A-43E1-9452-FB3449DB8E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9B48-DBBE-4952-B5D6-271896D4F0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285D-9BC4-4FF2-860A-D20FBE9122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D9E4-330D-407F-953E-EFE299B7E5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499-86A9-413C-AF38-362066047E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B5AC-C5EB-4EB8-A113-4142844D97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9942-26E0-422A-B7ED-BA6A4B2D75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.      En síntesis, cuál era el desafío relevante y prioritario de Ruckelshau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ii.      ¿Cuáles fueron las amenazas-restricciones y las oportunidades observadas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v.      En síntesis, explique cuál fue la estrategia y sus atributos (ventajas, desventajas) de la misma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.      ¿Qué ventajas/desventajas desde el punto de vista de los ecologistas, industriales, organización, gobiern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.      ¿Qué otra misión habría usted señalad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ii.      ¿Qué hizo R. respecto a los siguiente atributos deseables (como señala el texto) de una estrategia en el sector público?)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      Sustantivamente releva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      Viable políticame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      Operativamente factible y suficientemente cla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9BC2-86EA-4960-98DE-B9E2027A7A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E16E-C438-489B-8B75-DBB34054FE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502F-84F5-4CF0-A953-998D5343B8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5D8-0D44-4EA8-840E-B74E833FAE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F9E1-9D92-42CB-B4E6-013FE2A247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ADA6-97DD-4327-9987-81E7B54E41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91C-47BC-4478-A041-2EF055EBAF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67F-BAD2-4F7E-9CEF-B121A4F3E4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6A3-E0E4-493A-B907-A8D879EE48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26C4-D0BF-4CBA-B655-B0471D8A08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0D79-9CBF-437D-8098-85A001DB42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4A8E-674A-4CDA-9C43-ECBA02DDCC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7790-10CE-4976-B34E-0CC3F7B2C1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5120-C655-4B39-AE04-774544ECC1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BABB-F834-4566-89BB-CAD9CD6461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6A79-80C4-4541-83F2-107597C379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D69F-A3CC-4E6E-A5BA-B24C683CAB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774-82B2-41EB-9952-1F3AAFE540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8D76-22C7-431C-BF4B-9D4AC0E893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6B12-3073-441A-A694-21BB0A5A2A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D7E4-FC22-414A-87DE-54C6248D0C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FE16-9662-4A9A-A3AE-8666D967AA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3BEE-F531-47D5-8936-8737408BC3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B5EC-1805-4283-89C7-EF7243A748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2ADA-D536-404A-9D73-99CB5F942E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4DA-642E-4386-9572-AE2C96D763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75DE-526C-4FE7-B940-9F652BAB8C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2DEA-72CF-4715-891A-51DE16D363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B9D8-3976-4D37-A029-24140FD8BF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DC1-B3F0-4C35-AC19-3BD6B06D40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851-F9D6-4307-A688-FD90B2F737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53ED-6C35-4F2D-8676-87225452B5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4C5A-145A-4954-AC94-AEAEC2C9BD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6E99-FFF5-4E40-94AB-BED381ADDE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05B3-B322-4B50-8873-A1CE17BEC7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51CA-CAEE-4819-92B7-D72FA670F9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E8AE-111B-46CD-889C-5142FD811D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B12F-F0C6-400D-BF82-7B55CEFC92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92B3-B4F8-4DC4-BBB5-9572A649E3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E08B-97FE-4457-9655-FDC145C3ED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FBBB-9663-43CB-8CEC-BB867B71E0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9A5D-92A0-48F1-BEE3-E12999D863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8629-E3C4-4B72-8CCD-28A7EB6769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F79C-60AF-486E-B04D-F8F62429B0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864A-3591-4A9D-B218-823EDE196C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C5B0-5823-430A-A213-99B83D8951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C5C1-BDB6-4B69-9CDB-09D610CBFE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159E-235F-4BC1-91FD-5DEC06B775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AED7-2875-4B0B-BFAD-4DEEB53658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98D4-C4BA-4CF7-9A4B-E22D71F04F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2898-19E6-4AD8-A0D3-D6F661E68A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44D-AC4E-432D-A1BD-E03F072D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BD3-9BEF-41BB-9646-A89AC9E0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373-D87E-4B26-9456-B0EDBAA9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9E8-1BB8-46A7-B64F-5224FFF1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AAEA-FF0E-4B42-975F-F512739C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4C39-FCF5-47BA-864B-C77431C8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1905-D9C1-45A3-97FB-EF9C38A9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C091-0E59-4C1A-9A59-1E680711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38AE-655C-4425-ACB2-42B68BC1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757C-95D2-4330-896C-69CEEF8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0FBE-A963-4929-836F-2881367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440-D2EB-4AF1-902F-C954321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369D-BFC1-4485-811C-FDCA06F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C3E5-C57F-44E3-9AF4-06720B34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2378-95CC-43D3-B3E6-DF12DCC5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2498-D803-4541-A818-26800CEE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13C6-A717-49ED-AB47-FA6C7E2D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6783-97A4-4506-BD9A-35B16D51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28B3-434B-4ACB-A5EA-2F05FCE1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6222-4E97-434C-B845-0E25F6C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0135-EB62-4576-A0C7-0A9AA493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4852-39AB-44F1-A046-C1AC3E01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E60-C833-4E6D-89C5-8743495D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233A-983A-43CD-92A7-19476E7B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41F3-1C89-4749-B0CE-B1089AE4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2592-8EDA-41C7-80C4-3C3CD194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7890-A38E-4863-879F-2919DC7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F9AA-6C51-40F4-9463-8574BF23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FC5A-F959-447E-B320-43CFF4F9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8F546-07DC-4077-8A1D-C0D904E8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4261A-93B2-497E-8D79-E83FC3D0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1485-D3FB-4CCE-B677-571506E1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FB67-C5F7-4E91-A302-B1D68986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412-2C63-4A13-9D00-89D9C95D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A3FB-D6F0-4958-88E5-4A05C6AE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471C9-A871-474F-954A-2BEF1994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6218-ED33-4E23-B19A-5FC0102E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64CF-29E1-4609-BEA2-DB690DD5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C908A-3724-4037-AA24-C0C12BE8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821F-BC8F-4B1C-A4AB-31D1320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4406-3094-46A5-AC03-0ECAB2E4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C017-8E22-47A8-9FB3-534E49B8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8D88-C498-4F15-A9BC-561FD1B4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377-8B7C-4733-952D-025FDE99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B86-0A5C-418C-8443-A4E04DB0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770-C679-4977-AD93-D5CAD5B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DBB-0BED-406D-8033-F3B2251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272-8D6F-40F4-B3DC-5107BEF2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71280" y="638136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4360" y="6381360"/>
            <a:ext cx="1042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2826-E2D3-4BDC-B48A-A0E16B8829AE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Carlos Urriola\Escritorio\My Dropbox\A.3.2 CSP\E. Documentos\Imagenes\Logos\CSP-color+bajada.bmp"/>
          <p:cNvPicPr/>
          <p:nvPr/>
        </p:nvPicPr>
        <p:blipFill>
          <a:blip r:embed="rId5"/>
          <a:stretch/>
        </p:blipFill>
        <p:spPr>
          <a:xfrm>
            <a:off x="1892160" y="5300640"/>
            <a:ext cx="5359680" cy="86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Carlos Urriola\Escritorio\My Dropbox\A.3.2 CSP\E. Documentos\Imagenes\Logos\CSP3.bmp"/>
          <p:cNvPicPr/>
          <p:nvPr/>
        </p:nvPicPr>
        <p:blipFill>
          <a:blip r:embed="rId6"/>
          <a:srcRect l="6653" t="0" r="0" b="0"/>
          <a:stretch/>
        </p:blipFill>
        <p:spPr>
          <a:xfrm>
            <a:off x="0" y="0"/>
            <a:ext cx="352908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Carlos Urriola\Escritorio\My Dropbox\A.3.2 CSP\E. Documentos\Imagenes\Logos\CSP3.bmp"/>
          <p:cNvPicPr/>
          <p:nvPr/>
        </p:nvPicPr>
        <p:blipFill>
          <a:blip r:embed="rId7"/>
          <a:srcRect l="0" t="0" r="6653" b="0"/>
          <a:stretch/>
        </p:blipFill>
        <p:spPr>
          <a:xfrm>
            <a:off x="5516640" y="0"/>
            <a:ext cx="362736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9 CuadroTexto"/>
          <p:cNvSpPr/>
          <p:nvPr/>
        </p:nvSpPr>
        <p:spPr>
          <a:xfrm>
            <a:off x="0" y="5934240"/>
            <a:ext cx="199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0" y="6237360"/>
            <a:ext cx="19368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343320" y="6381720"/>
            <a:ext cx="2457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740360" y="6308640"/>
            <a:ext cx="10429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B1BE-8864-48B2-B096-6496995B944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771280" y="6381360"/>
            <a:ext cx="100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624360" y="6381360"/>
            <a:ext cx="1042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7DF4-F5FF-4047-B324-C220923010BE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3CFE-AA6D-4730-8C98-674C050D2E2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inostro@dii.uchile.cl" TargetMode="External"/><Relationship Id="rId2" Type="http://schemas.openxmlformats.org/officeDocument/2006/relationships/hyperlink" Target="http://www.sistemaspublicos.cl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520" y="1655640"/>
            <a:ext cx="854856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6349"/>
                </a:solidFill>
                <a:latin typeface="Century Gothic"/>
              </a:rPr>
              <a:t>Enfoque Tradicional, Creación de Valor Público y </a:t>
            </a:r>
            <a:r>
              <a:rPr b="1" i="1" lang="es-ES" sz="4400" spc="-1" strike="noStrike">
                <a:solidFill>
                  <a:srgbClr val="d16349"/>
                </a:solidFill>
                <a:latin typeface="Century Gothic"/>
              </a:rPr>
              <a:t>New Public Manag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20560" y="3578040"/>
            <a:ext cx="72518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                   </a:t>
            </a:r>
            <a:r>
              <a:rPr b="1" lang="es-ES_tradnl" sz="1400" spc="-1" strike="noStrike">
                <a:solidFill>
                  <a:srgbClr val="898989"/>
                </a:solidFill>
                <a:latin typeface="Century Gothic"/>
              </a:rPr>
              <a:t>Curso: Introducción a la </a:t>
            </a:r>
            <a:r>
              <a:rPr b="1" lang="es-ES" sz="1400" spc="-1" strike="noStrike">
                <a:solidFill>
                  <a:srgbClr val="898989"/>
                </a:solidFill>
                <a:latin typeface="Century Gothic"/>
              </a:rPr>
              <a:t>Gestión Pública; Ministerio de Energia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Profesor: José Inostroza, </a:t>
            </a:r>
            <a:r>
              <a:rPr b="0" lang="es-ES_tradnl" sz="1100" spc="-1" strike="noStrike" u="sng">
                <a:solidFill>
                  <a:srgbClr val="00a3d6"/>
                </a:solidFill>
                <a:uFillTx/>
                <a:latin typeface="Century Gothic"/>
                <a:hlinkClick r:id="rId1"/>
              </a:rPr>
              <a:t>jinostro@dii.uchile.cl</a:t>
            </a: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; @jinostro, </a:t>
            </a:r>
            <a:r>
              <a:rPr b="0" lang="es-ES_tradnl" sz="1100" spc="-1" strike="noStrike" u="sng">
                <a:solidFill>
                  <a:srgbClr val="00a3d6"/>
                </a:solidFill>
                <a:uFillTx/>
                <a:latin typeface="Century Gothic"/>
                <a:hlinkClick r:id="rId2"/>
              </a:rPr>
              <a:t>www.sistemaspublicos.c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Moore, Mark: “Gestión Estratégica y Creación de Valor en el Sector Público”. Paidos, 1998.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Kelly, G. y Muers, S., “Creating Public Value. An analytical framework for public service reform”, Strategy Unit, Cabinet Office UK, 2002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1892160" y="5300640"/>
            <a:ext cx="5359680" cy="86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Carlos Urriola\Escritorio\My Dropbox\A.3.2 CSP\E. Documentos\Imagenes\Logos\CSP3.bmp"/>
          <p:cNvPicPr/>
          <p:nvPr/>
        </p:nvPicPr>
        <p:blipFill>
          <a:blip r:embed="rId4"/>
          <a:srcRect l="6653" t="0" r="0" b="0"/>
          <a:stretch/>
        </p:blipFill>
        <p:spPr>
          <a:xfrm>
            <a:off x="0" y="0"/>
            <a:ext cx="3529080" cy="90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Carlos Urriola\Escritorio\My Dropbox\A.3.2 CSP\E. Documentos\Imagenes\Logos\CSP3.bmp"/>
          <p:cNvPicPr/>
          <p:nvPr/>
        </p:nvPicPr>
        <p:blipFill>
          <a:blip r:embed="rId5"/>
          <a:stretch/>
        </p:blipFill>
        <p:spPr>
          <a:xfrm>
            <a:off x="7650000" y="5973840"/>
            <a:ext cx="1494000" cy="884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Documents and Settings\Carlos Urriola\Escritorio\My Dropbox\A.3.2 CSP\E. Documentos\Imagenes\Logos\CSP3.bmp"/>
          <p:cNvPicPr/>
          <p:nvPr/>
        </p:nvPicPr>
        <p:blipFill>
          <a:blip r:embed="rId6"/>
          <a:srcRect l="0" t="0" r="6653" b="0"/>
          <a:stretch/>
        </p:blipFill>
        <p:spPr>
          <a:xfrm>
            <a:off x="5516640" y="0"/>
            <a:ext cx="3627360" cy="907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Carlos Urriola\Escritorio\My Dropbox\A.3.2 CSP\E. Documentos\Imagenes\Logos\CSP3.bmp"/>
          <p:cNvPicPr/>
          <p:nvPr/>
        </p:nvPicPr>
        <p:blipFill>
          <a:blip r:embed="rId7"/>
          <a:stretch/>
        </p:blipFill>
        <p:spPr>
          <a:xfrm>
            <a:off x="0" y="5973840"/>
            <a:ext cx="1465200" cy="88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Gothic"/>
              </a:rPr>
              <a:t>¿QUÉ ES EL VALOR PÚBLICO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entury Gothic"/>
            </a:endParaRPr>
          </a:p>
        </p:txBody>
      </p:sp>
      <p:sp>
        <p:nvSpPr>
          <p:cNvPr id="251" name="3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2802-3212-438C-B8E9-33A09808DB2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9349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0360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 “ </a:t>
            </a:r>
            <a:r>
              <a:rPr b="1" lang="es-ES" sz="4000" spc="-1" strike="noStrike">
                <a:solidFill>
                  <a:srgbClr val="c00000"/>
                </a:solidFill>
                <a:latin typeface="Calibri"/>
              </a:rPr>
              <a:t>Valor agregad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produce el sector público”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veniente de los  “beneficios percibidos” por (a) ciudadanos/comunidad 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b) usuarios/consumidores /clientes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contando los costos” en los que se incurr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 “Valor Presente”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3900-09FC-4389-8D1A-68A2D01D354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20680"/>
            <a:ext cx="9144000" cy="9079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os beneficio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ueden darse a nivel d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roductos o servicios  (outputs): Ej .Vacun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mpactos o resultados (outcomes) Ej. Tasa de enfermedad específic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nfianza: (Ejs.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Filtración de info en Banco Central, Caso CORFO/Inverlink,  Crisis sanitarias (ESB/´vaca loca’), Corrupción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755640" indent="-755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Componentes de la </a:t>
            </a:r>
            <a:r>
              <a:rPr b="1" lang="es-CL" sz="3200" spc="-1" strike="noStrike">
                <a:solidFill>
                  <a:srgbClr val="c00000"/>
                </a:solidFill>
                <a:latin typeface="Calibri"/>
              </a:rPr>
              <a:t>Confianza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eficacia/desempeño (aunque causalidad es compleja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integridad, ética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transparencia/sinceridad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C4A5-E3B5-4A63-B676-D9898EC3E4B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524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 los costos, también se refiere a 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stos monetarios y NO monetarios. Ejs. de NO monetarios: 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pérdida de confianza, pérdida de libertad, medidas coercitivas, perdida de intimida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499"/>
              </a:spcBef>
              <a:buClr>
                <a:srgbClr val="00a3d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rectos, Indirectos y de Oportunidad (¿Qué se podría hacer alternativamente con los recursos utilizados?)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084A-EC16-49B2-BD42-6BBBCC4C9A3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7812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5238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ambos casos  -beneficios y costos - el criterio para su definición son las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“preferencias públicas”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generadas en procesos colectivos (Ej. ley, grupo de ciudadanos, medios de comunicación)-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también las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“preferencias privadas”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xpresadas por los usuarios/clientes/beneficiarios de los servicios públic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42C3-3D64-40CC-9C6C-1DC0D29DFAE6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  <p:sp>
        <p:nvSpPr>
          <p:cNvPr id="273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081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RIGEN DE LAS PREFERENCIA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76" name="Rectangle 4"/>
          <p:cNvGrpSpPr/>
          <p:nvPr/>
        </p:nvGrpSpPr>
        <p:grpSpPr>
          <a:xfrm>
            <a:off x="5602320" y="2779560"/>
            <a:ext cx="3120840" cy="1756080"/>
            <a:chOff x="5602320" y="2779560"/>
            <a:chExt cx="3120840" cy="1756080"/>
          </a:xfrm>
        </p:grpSpPr>
        <p:pic>
          <p:nvPicPr>
            <p:cNvPr id="277" name="Rectangle 4" descr=""/>
            <p:cNvPicPr/>
            <p:nvPr/>
          </p:nvPicPr>
          <p:blipFill>
            <a:blip r:embed="rId1"/>
            <a:stretch/>
          </p:blipFill>
          <p:spPr>
            <a:xfrm>
              <a:off x="5602320" y="2779560"/>
              <a:ext cx="312084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38680" y="2819520"/>
              <a:ext cx="297180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Valor Púb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Oval 5"/>
          <p:cNvGrpSpPr/>
          <p:nvPr/>
        </p:nvGrpSpPr>
        <p:grpSpPr>
          <a:xfrm>
            <a:off x="407880" y="2505240"/>
            <a:ext cx="2517840" cy="2536560"/>
            <a:chOff x="407880" y="2505240"/>
            <a:chExt cx="2517840" cy="2536560"/>
          </a:xfrm>
        </p:grpSpPr>
        <p:pic>
          <p:nvPicPr>
            <p:cNvPr id="280" name="Oval 5" descr=""/>
            <p:cNvPicPr/>
            <p:nvPr/>
          </p:nvPicPr>
          <p:blipFill>
            <a:blip r:embed="rId2"/>
            <a:stretch/>
          </p:blipFill>
          <p:spPr>
            <a:xfrm>
              <a:off x="407880" y="2505240"/>
              <a:ext cx="251784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82640" y="2889360"/>
              <a:ext cx="1647720" cy="16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lientes/Usu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Oval 6"/>
          <p:cNvGrpSpPr/>
          <p:nvPr/>
        </p:nvGrpSpPr>
        <p:grpSpPr>
          <a:xfrm>
            <a:off x="3316320" y="2603520"/>
            <a:ext cx="1938240" cy="2444760"/>
            <a:chOff x="3316320" y="2603520"/>
            <a:chExt cx="1938240" cy="2444760"/>
          </a:xfrm>
        </p:grpSpPr>
        <p:pic>
          <p:nvPicPr>
            <p:cNvPr id="283" name="Oval 6" descr=""/>
            <p:cNvPicPr/>
            <p:nvPr/>
          </p:nvPicPr>
          <p:blipFill>
            <a:blip r:embed="rId3"/>
            <a:stretch/>
          </p:blipFill>
          <p:spPr>
            <a:xfrm>
              <a:off x="3316320" y="2603520"/>
              <a:ext cx="193824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611520" y="2975040"/>
              <a:ext cx="127332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Mand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7"/>
          <p:cNvSpPr/>
          <p:nvPr/>
        </p:nvSpPr>
        <p:spPr>
          <a:xfrm>
            <a:off x="518148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335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2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CB9-8519-4B18-8970-F10B1862974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8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9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64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a3d6"/>
                </a:solidFill>
                <a:latin typeface="Calibri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a3d6"/>
                </a:solidFill>
                <a:latin typeface="Calibri"/>
              </a:rPr>
              <a:t>Valor final NO se define en gabinete, sino por ciudadanos/usuarios/cliente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yores esfuerzos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“procesos de identificación y valoración”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focus group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ejos consultivos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áginas web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unicación con las autoridades políticas y representantes de las comunidad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cuestas de satisfacción de usuarios..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6E7C-2616-459E-AA24-48F3D842864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0" dur="1" fill="hold"/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2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2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4" dur="1" fill="hold"/>
                                  <p:tgtEl>
                                    <p:spTgt spid="29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826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ÁMBITOS BÁSICOS D0NDE MEDI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96" name="Rectangle 3"/>
          <p:cNvGrpSpPr/>
          <p:nvPr/>
        </p:nvGrpSpPr>
        <p:grpSpPr>
          <a:xfrm>
            <a:off x="1438200" y="4896000"/>
            <a:ext cx="6499440" cy="1822320"/>
            <a:chOff x="1438200" y="4896000"/>
            <a:chExt cx="6499440" cy="1822320"/>
          </a:xfrm>
        </p:grpSpPr>
        <p:pic>
          <p:nvPicPr>
            <p:cNvPr id="297" name="Rectangle 3" descr=""/>
            <p:cNvPicPr/>
            <p:nvPr/>
          </p:nvPicPr>
          <p:blipFill>
            <a:blip r:embed="rId1"/>
            <a:stretch/>
          </p:blipFill>
          <p:spPr>
            <a:xfrm>
              <a:off x="1438200" y="4896000"/>
              <a:ext cx="64994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560600" y="4941720"/>
              <a:ext cx="610056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5400" spc="-1" strike="noStrike">
                  <a:solidFill>
                    <a:srgbClr val="000000"/>
                  </a:solidFill>
                  <a:latin typeface="Arial"/>
                </a:rPr>
                <a:t>VALOR PÚBLIC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Oval 4"/>
          <p:cNvGrpSpPr/>
          <p:nvPr/>
        </p:nvGrpSpPr>
        <p:grpSpPr>
          <a:xfrm>
            <a:off x="-30240" y="1523880"/>
            <a:ext cx="3443400" cy="2225880"/>
            <a:chOff x="-30240" y="1523880"/>
            <a:chExt cx="3443400" cy="2225880"/>
          </a:xfrm>
        </p:grpSpPr>
        <p:pic>
          <p:nvPicPr>
            <p:cNvPr id="300" name="Oval 4" descr=""/>
            <p:cNvPicPr/>
            <p:nvPr/>
          </p:nvPicPr>
          <p:blipFill>
            <a:blip r:embed="rId2"/>
            <a:stretch/>
          </p:blipFill>
          <p:spPr>
            <a:xfrm>
              <a:off x="-30240" y="1523880"/>
              <a:ext cx="344340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76280" y="1863720"/>
              <a:ext cx="229536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ODUCTOS/SERVIC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Oval 5"/>
          <p:cNvGrpSpPr/>
          <p:nvPr/>
        </p:nvGrpSpPr>
        <p:grpSpPr>
          <a:xfrm>
            <a:off x="3316320" y="1523880"/>
            <a:ext cx="3035160" cy="2225880"/>
            <a:chOff x="3316320" y="1523880"/>
            <a:chExt cx="3035160" cy="2225880"/>
          </a:xfrm>
        </p:grpSpPr>
        <p:pic>
          <p:nvPicPr>
            <p:cNvPr id="303" name="Oval 5" descr=""/>
            <p:cNvPicPr/>
            <p:nvPr/>
          </p:nvPicPr>
          <p:blipFill>
            <a:blip r:embed="rId3"/>
            <a:stretch/>
          </p:blipFill>
          <p:spPr>
            <a:xfrm>
              <a:off x="3316320" y="1523880"/>
              <a:ext cx="30351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773520" y="1863720"/>
              <a:ext cx="204948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Oval 6"/>
          <p:cNvGrpSpPr/>
          <p:nvPr/>
        </p:nvGrpSpPr>
        <p:grpSpPr>
          <a:xfrm>
            <a:off x="6351480" y="1414440"/>
            <a:ext cx="2792520" cy="2408400"/>
            <a:chOff x="6351480" y="1414440"/>
            <a:chExt cx="2792520" cy="2408400"/>
          </a:xfrm>
        </p:grpSpPr>
        <p:pic>
          <p:nvPicPr>
            <p:cNvPr id="306" name="Oval 6" descr=""/>
            <p:cNvPicPr/>
            <p:nvPr/>
          </p:nvPicPr>
          <p:blipFill>
            <a:blip r:embed="rId4"/>
            <a:stretch/>
          </p:blipFill>
          <p:spPr>
            <a:xfrm>
              <a:off x="6351480" y="1414440"/>
              <a:ext cx="27925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762600" y="1779480"/>
              <a:ext cx="188604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entury Gothic"/>
                </a:rPr>
                <a:t>CONFIA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Line 7"/>
          <p:cNvSpPr/>
          <p:nvPr/>
        </p:nvSpPr>
        <p:spPr>
          <a:xfrm>
            <a:off x="2195640" y="3789360"/>
            <a:ext cx="936360" cy="86364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 flipH="1">
            <a:off x="4716000" y="3809880"/>
            <a:ext cx="1800" cy="77148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 flipH="1">
            <a:off x="6535800" y="3716280"/>
            <a:ext cx="557280" cy="93672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2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D09A-CD0D-424A-A998-19A0F707C92E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0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1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0080" y="259920"/>
            <a:ext cx="7150320" cy="1143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ogamente a como ocurre en el sector privado se podría hacer un esfuerzo de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estimación en un periodo futuro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traerlo a valor presente</a:t>
            </a:r>
            <a:r>
              <a:rPr b="1" lang="es-ES" sz="2400" spc="-1" strike="noStrike">
                <a:solidFill>
                  <a:srgbClr val="00a3d6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¿Cuánto vale una organización pública?= flujo de beneficios-costos, a valor presen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muchos casos, los beneficios y costos, no pueden ser medidos monetariamente, pero es intrínseco a esta aproximación generar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esfuerzos crecientes</a:t>
            </a:r>
            <a:r>
              <a:rPr b="1" lang="es-ES" sz="2400" spc="-1" strike="noStrike">
                <a:solidFill>
                  <a:srgbClr val="00a3d6"/>
                </a:solidFill>
                <a:latin typeface="Calibri"/>
              </a:rPr>
              <a:t> de cuantific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en aquellos ámbitos donde sea posible. Con el tiempo se crearán indicador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1121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A2BD-87FE-44EA-B439-BDCDE9FD9A8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  <p:sp>
        <p:nvSpPr>
          <p:cNvPr id="318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748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concepto de VP e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análogo al de Valor Privad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: valor para dueños y valor para clientes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ero difiere de manera importante por l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dificultad de la métrica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 El valor público no es completamente reducible a $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demás el VP en rigor debiera considerar el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efecto coordinación y descoordinación interagencia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varios servicios actuando: “una gran empresa”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CE25-A568-47CF-866E-DC62A710903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6" name="AutoShape 4"/>
          <p:cNvGrpSpPr/>
          <p:nvPr/>
        </p:nvGrpSpPr>
        <p:grpSpPr>
          <a:xfrm>
            <a:off x="901800" y="4462560"/>
            <a:ext cx="2421000" cy="1798560"/>
            <a:chOff x="901800" y="4462560"/>
            <a:chExt cx="2421000" cy="1798560"/>
          </a:xfrm>
        </p:grpSpPr>
        <p:pic>
          <p:nvPicPr>
            <p:cNvPr id="197" name="AutoShape 4" descr=""/>
            <p:cNvPicPr/>
            <p:nvPr/>
          </p:nvPicPr>
          <p:blipFill>
            <a:blip r:embed="rId1"/>
            <a:stretch/>
          </p:blipFill>
          <p:spPr>
            <a:xfrm>
              <a:off x="901800" y="4462560"/>
              <a:ext cx="2421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052640" y="4589640"/>
              <a:ext cx="207000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Desmontand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Paradig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AutoShape 5" descr=""/>
          <p:cNvPicPr/>
          <p:nvPr/>
        </p:nvPicPr>
        <p:blipFill>
          <a:blip r:embed="rId2"/>
          <a:stretch/>
        </p:blipFill>
        <p:spPr>
          <a:xfrm>
            <a:off x="3176640" y="3432240"/>
            <a:ext cx="191916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00" name="AutoShape 6"/>
          <p:cNvGrpSpPr/>
          <p:nvPr/>
        </p:nvGrpSpPr>
        <p:grpSpPr>
          <a:xfrm>
            <a:off x="4498920" y="1878120"/>
            <a:ext cx="4243320" cy="2522520"/>
            <a:chOff x="4498920" y="1878120"/>
            <a:chExt cx="4243320" cy="2522520"/>
          </a:xfrm>
        </p:grpSpPr>
        <p:pic>
          <p:nvPicPr>
            <p:cNvPr id="201" name="AutoShape 6" descr=""/>
            <p:cNvPicPr/>
            <p:nvPr/>
          </p:nvPicPr>
          <p:blipFill>
            <a:blip r:embed="rId3"/>
            <a:stretch/>
          </p:blipFill>
          <p:spPr>
            <a:xfrm>
              <a:off x="4498920" y="1878120"/>
              <a:ext cx="4243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687920" y="2033640"/>
              <a:ext cx="38718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Nuevo Enfoque, Nuevo Rol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Creación de Valor Púb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1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8F73-F59F-4D97-94CD-5621B026F9DF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8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r otra parte, en el caso del VP lo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iudadanos (dueños) son clientes y usuarios también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mbién son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proveedores y empleado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ej. Funcionarios de salud y educación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comunidad de dueños también considera a la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generaciones futura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6D01-6B72-4A18-8AB9-C48667EB26E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el sector público el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trato </a:t>
            </a:r>
            <a:r>
              <a:rPr b="1" lang="es-ES" sz="3600" spc="-1" strike="noStrike">
                <a:solidFill>
                  <a:srgbClr val="00a3d6"/>
                </a:solidFill>
                <a:latin typeface="Calibri"/>
              </a:rPr>
              <a:t>equitativo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es muy relevante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. Valoración de los usuarios depende también del trato a otr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l VP es </a:t>
            </a:r>
            <a:r>
              <a:rPr b="1" lang="es-CL" sz="2800" spc="-1" strike="noStrike">
                <a:solidFill>
                  <a:srgbClr val="00a3d6"/>
                </a:solidFill>
                <a:latin typeface="Calibri"/>
              </a:rPr>
              <a:t>más intensivo en demandar cambios en normas sociales y códigos de comportamiento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(COPRODUCCIÓN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conducción bajo alcoho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higiene y prevención (salud públic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lactancia materna y salud infanti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Programas contra la pobrez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A31-5EE5-47F6-B53B-54E69E75EA3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3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368360"/>
          </a:xfrm>
          <a:prstGeom prst="rect">
            <a:avLst/>
          </a:prstGeom>
          <a:ln w="0">
            <a:noFill/>
          </a:ln>
        </p:spPr>
      </p:pic>
      <p:sp>
        <p:nvSpPr>
          <p:cNvPr id="334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3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7" dur="1" fill="hold"/>
                                  <p:tgtEl>
                                    <p:spTgt spid="3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3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3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33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623960"/>
            <a:ext cx="7772400" cy="18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La Estrategia Organizativa en el Sector Públ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77880" y="315576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entury Gothic"/>
              </a:rPr>
              <a:t>Enfoque ESTRATEGICO de Creación de Valor Públ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2: “William Ruckelshaus y la Agencia de Protección Ambiental” </a:t>
            </a:r>
            <a:br>
              <a:rPr sz="3200"/>
            </a:b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( Moore, 1998; p 108 y s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Se arman grupos (proyecto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ectura individual (20´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iscusión del caso en grupo (30´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os antecedentes básicos? (actores/intereses/tendencia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 es el valor público asociado a la agencia de la EPA? (aplique conceptos clase pasad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as motivaciones del gobierno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os “desafíos clave” de Ruckleshaus? ¿Cuáles son los “ámbitos donde debe gestionar” R.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as estratégicas que adopta? ¿Qué características/ventajas tiene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Agrega Valor Público la gestión de R., cómo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919-6813-479C-A18F-4267918921E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44880" y="333360"/>
            <a:ext cx="6999120" cy="13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odelo Analítico Básico (Mark Moore)</a:t>
            </a: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iagnóstico de la Posició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Estratégica de una Organiza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1763640" y="3068640"/>
            <a:ext cx="2675160" cy="227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451560" y="1878120"/>
            <a:ext cx="25131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79280" y="1341360"/>
            <a:ext cx="2116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Pol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Super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616800" y="3889440"/>
            <a:ext cx="2376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 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Procesos Sustantivos y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Sistemas de evalu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RR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31920" y="5888160"/>
            <a:ext cx="4252680" cy="39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V="1">
            <a:off x="1914480" y="3852360"/>
            <a:ext cx="2266920" cy="19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879640" y="2392200"/>
            <a:ext cx="2732040" cy="2189160"/>
            <a:chOff x="2879640" y="2392200"/>
            <a:chExt cx="2732040" cy="2189160"/>
          </a:xfrm>
        </p:grpSpPr>
        <p:sp>
          <p:nvSpPr>
            <p:cNvPr id="351" name="Oval 4"/>
            <p:cNvSpPr/>
            <p:nvPr/>
          </p:nvSpPr>
          <p:spPr>
            <a:xfrm>
              <a:off x="2879640" y="2392200"/>
              <a:ext cx="2732040" cy="218916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4134600" y="278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3610080" y="3371760"/>
            <a:ext cx="2917800" cy="1889280"/>
            <a:chOff x="3610080" y="3371760"/>
            <a:chExt cx="2917800" cy="1889280"/>
          </a:xfrm>
        </p:grpSpPr>
        <p:sp>
          <p:nvSpPr>
            <p:cNvPr id="354" name="Oval 5"/>
            <p:cNvSpPr/>
            <p:nvPr/>
          </p:nvSpPr>
          <p:spPr>
            <a:xfrm>
              <a:off x="3610080" y="3371760"/>
              <a:ext cx="2917800" cy="1889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3"/>
            <p:cNvSpPr/>
            <p:nvPr/>
          </p:nvSpPr>
          <p:spPr>
            <a:xfrm>
              <a:off x="5337720" y="424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16"/>
          <p:cNvSpPr/>
          <p:nvPr/>
        </p:nvSpPr>
        <p:spPr>
          <a:xfrm>
            <a:off x="2268360" y="1982880"/>
            <a:ext cx="42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1203-8D0B-4356-9103-A7EDD614C99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6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9246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3D4C-714E-40AE-B8EC-17FCB7C1578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0" y="44784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3: Mahoney y el Park 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12880" y="1412640"/>
            <a:ext cx="8331120" cy="21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D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el análisis anterior, ¿Cómo deben ser las estrategias efectivas en la gestión públic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7 Triángulo isósceles"/>
          <p:cNvGrpSpPr/>
          <p:nvPr/>
        </p:nvGrpSpPr>
        <p:grpSpPr>
          <a:xfrm>
            <a:off x="2352600" y="1755720"/>
            <a:ext cx="4145040" cy="2852640"/>
            <a:chOff x="2352600" y="1755720"/>
            <a:chExt cx="4145040" cy="2852640"/>
          </a:xfrm>
        </p:grpSpPr>
        <p:pic>
          <p:nvPicPr>
            <p:cNvPr id="367" name="7 Triángulo isósceles" descr=""/>
            <p:cNvPicPr/>
            <p:nvPr/>
          </p:nvPicPr>
          <p:blipFill>
            <a:blip r:embed="rId1"/>
            <a:stretch/>
          </p:blipFill>
          <p:spPr>
            <a:xfrm>
              <a:off x="2352600" y="1755720"/>
              <a:ext cx="414504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05240" y="3157560"/>
              <a:ext cx="2016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9 CuadroTexto"/>
          <p:cNvSpPr/>
          <p:nvPr/>
        </p:nvSpPr>
        <p:spPr>
          <a:xfrm>
            <a:off x="108000" y="452592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B) Políticamente Suste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0 CuadroTexto"/>
          <p:cNvSpPr/>
          <p:nvPr/>
        </p:nvSpPr>
        <p:spPr>
          <a:xfrm>
            <a:off x="2700360" y="9255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A) Sustantivamente Val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1 CuadroTexto"/>
          <p:cNvSpPr/>
          <p:nvPr/>
        </p:nvSpPr>
        <p:spPr>
          <a:xfrm>
            <a:off x="6084720" y="3878280"/>
            <a:ext cx="30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C) Técnicamente Fac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2 Flecha curvada hacia la izquierda"/>
          <p:cNvSpPr/>
          <p:nvPr/>
        </p:nvSpPr>
        <p:spPr>
          <a:xfrm>
            <a:off x="4427640" y="3157560"/>
            <a:ext cx="936360" cy="1297080"/>
          </a:xfrm>
          <a:custGeom>
            <a:avLst/>
            <a:gdLst>
              <a:gd name="textAreaLeft" fmla="*/ 125280 w 936360"/>
              <a:gd name="textAreaRight" fmla="*/ 811080 w 936360"/>
              <a:gd name="textAreaTop" fmla="*/ 236520 h 1297080"/>
              <a:gd name="textAreaBottom" fmla="*/ 94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76" stAng="-5400000" swAng="5400000"/>
                <a:lnTo>
                  <a:pt x="21600" y="11775"/>
                </a:lnTo>
                <a:arcTo wR="21600" hR="7876" stAng="0" swAng="3281729"/>
                <a:lnTo>
                  <a:pt x="5400" y="21350"/>
                </a:lnTo>
                <a:lnTo>
                  <a:pt x="0" y="17701"/>
                </a:lnTo>
                <a:lnTo>
                  <a:pt x="5400" y="13551"/>
                </a:lnTo>
                <a:lnTo>
                  <a:pt x="5400" y="15501"/>
                </a:lnTo>
                <a:arcTo wR="21600" hR="7876" stAng="3281729" swAng="-2962412"/>
                <a:lnTo>
                  <a:pt x="20928" y="9825"/>
                </a:lnTo>
                <a:arcTo wR="21600" hR="7876" stAng="-319318" swAng="-5080682"/>
                <a:close/>
              </a:path>
              <a:path fill="darkenLess" w="21600" h="21600">
                <a:moveTo>
                  <a:pt x="0" y="0"/>
                </a:moveTo>
                <a:arcTo wR="21600" hR="7876" stAng="-5400000" swAng="5400000"/>
                <a:lnTo>
                  <a:pt x="21600" y="11775"/>
                </a:lnTo>
                <a:arcTo wR="21600" hR="7876" stAng="0" swAng="-319318"/>
                <a:lnTo>
                  <a:pt x="20928" y="9825"/>
                </a:lnTo>
                <a:arcTo wR="21600" hR="7876" stAng="-319318" swAng="-5080682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5 Flecha curvada hacia abajo"/>
          <p:cNvSpPr/>
          <p:nvPr/>
        </p:nvSpPr>
        <p:spPr>
          <a:xfrm rot="17814000">
            <a:off x="3310560" y="2763000"/>
            <a:ext cx="1527120" cy="852480"/>
          </a:xfrm>
          <a:custGeom>
            <a:avLst/>
            <a:gdLst>
              <a:gd name="textAreaLeft" fmla="*/ 301680 w 1527120"/>
              <a:gd name="textAreaRight" fmla="*/ 1118880 w 1527120"/>
              <a:gd name="textAreaTop" fmla="*/ 114120 h 852480"/>
              <a:gd name="textAreaBottom" fmla="*/ 738360 h 8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1554" y="0"/>
                </a:lnTo>
                <a:arcTo wR="8539" hR="21600" stAng="-5400000" swAng="3411009"/>
                <a:lnTo>
                  <a:pt x="21329" y="16200"/>
                </a:lnTo>
                <a:lnTo>
                  <a:pt x="18586" y="21600"/>
                </a:lnTo>
                <a:lnTo>
                  <a:pt x="15300" y="16200"/>
                </a:lnTo>
                <a:lnTo>
                  <a:pt x="16807" y="16200"/>
                </a:lnTo>
                <a:arcTo wR="8539" hR="21600" stAng="-1988991" swAng="-3167662"/>
                <a:lnTo>
                  <a:pt x="10047" y="339"/>
                </a:lnTo>
                <a:arcTo wR="8539" hR="21600" stAng="-5643347" swAng="-5156653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243347"/>
                <a:lnTo>
                  <a:pt x="10047" y="339"/>
                </a:lnTo>
                <a:arcTo wR="8539" hR="21600" stAng="-5643347" swAng="-5156653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840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Preguntas clave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 es el valor público que la organización genera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 es Visión de la Organización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es son los Valores / Historia e ideas clav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Son la Misión y las metas específicas las adecuad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81BF-E2E9-4E52-AEAD-B46EEAC7B28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tarea central del ejecutivo público e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rear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Valor público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pero ello demanda primero identificar cuál es ese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Valor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....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 ese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Valo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, a diferencia del caso de las organizaciones privadas no necesariamente es unidimensional, no es fácil de medir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de hecho existen serias dificultades traducir las preferencias de los mandantes en un mandato claro e incontrovertible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y por otra parte los clientes o receptores de los “servicios de la organización” tampoco tienen formas simples y directas de manifestar sus preferencias 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 modo que 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ejecutivo público NO tiene alternativa que formular un concepto de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Valor Público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 partir de múltiple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fuentes imperfect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mandatos estatutarios, técnicas analíticas, consultas a clientes, etc.), entre las cuales el proceso de deliberación política es probablemente la más importante, e ir ajustándolo a través de un proceso de prueba y erro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2B59-9BB3-4FBD-8F24-23FCCC5975D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1714680"/>
            <a:ext cx="8893080" cy="45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son los hechos básicos?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el problema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fueron las primeras aproximacion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son las restricciones/dificultad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ómo se solucionó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al aprendizaje general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0C80-3A6E-4416-8E3E-70C51DF4F2A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0" y="23652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1: Un caso de imaginación (innovación) g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9144000" cy="6872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Pero, hay pistas.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valor público está enraizado en los valores y preferencias de los individu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múltiples preferencias de los ciudadanos son mediadas por el sistema representativ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esa tanto la producción de bienes públicos (orientado a grupos específicos), como el que la producción se haga de manera ordenada, equitativa y confiable (trust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eficiencia y la calidad del servicio son altamente valorada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 deseable la utilización de métodos analíticos para evidenciar la generación de valor ( especialmente ante agentes representativos relevantes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carácter cambiante del mundo demanda capacidad de adaptació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6F4E-00C2-46EB-9615-6ECF17649CC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2216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Preguntas clav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32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se perdería si esta organización no existiera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otras formas existen para hacer lo que esta organización hoy día hace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A quién realmente sirvo? (Focalización)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Cuál es la causalidad de la generación de valor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pacios de ganancia en materias de calidad de servicio exist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pacios de ganancia de confianza exist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F4C3-9236-47F6-B01E-CAA3E179937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entury Gothic"/>
              </a:rPr>
              <a:t>Entorno: Gestión de </a:t>
            </a:r>
            <a:r>
              <a:rPr b="1" i="1" lang="es-ES_tradnl" sz="4800" spc="-1" strike="noStrike">
                <a:solidFill>
                  <a:srgbClr val="000000"/>
                </a:solidFill>
                <a:latin typeface="Century Gothic"/>
              </a:rPr>
              <a:t>Stakeholders</a:t>
            </a:r>
            <a:r>
              <a:rPr b="1" lang="es-ES_tradnl" sz="5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5292720" y="267984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978080" y="47563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9874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Preguntas clave</a:t>
            </a: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8920" y="1562040"/>
            <a:ext cx="8713800" cy="45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uáles son las implicaciones del estado actual (o cambios anticipados) en el entorno de la organización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afecta el entorno las capacidades de la organización para alcanzar su propósit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Debe la organización adaptar o revisar sus metas y propósito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deben adaptarse las capacidades organizacionales para reflejar los cambios del entorn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debe la organización vincularse con actores externos clave, instituciones y electores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3160-4E74-4C88-8881-22635F87749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428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¿Cuáles  son los roles, posiciones e intereses de los distintos actores (</a:t>
            </a:r>
            <a:r>
              <a:rPr b="1" i="1" lang="es-ES_tradnl" sz="3200" spc="-1" strike="noStrike">
                <a:solidFill>
                  <a:srgbClr val="000000"/>
                </a:solidFill>
                <a:latin typeface="Century Gothic"/>
              </a:rPr>
              <a:t>stakeholders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) y sus implicanci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roveedo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oder legisla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gencias evaluadoras/supervisor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rupos asociados o defenso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rupos de emplead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rens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tros actores influy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9907-B47D-47DA-AC53-F816794EFC8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3716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¿Cuáles son las tendencias actuales y de mediano plazo que pueden afectar a la organización en el futur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1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Tecnologí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Polític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Valores/Cultur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Economí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AB8C-3CE0-4CB2-99CA-4E872EDBCBE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</a:rPr>
              <a:t>El Entorno Político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413" name="Picture 4" descr="j0233018"/>
          <p:cNvPicPr/>
          <p:nvPr/>
        </p:nvPicPr>
        <p:blipFill>
          <a:blip r:embed="rId1"/>
          <a:stretch/>
        </p:blipFill>
        <p:spPr>
          <a:xfrm>
            <a:off x="0" y="5226120"/>
            <a:ext cx="209376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Es necesario hacer </a:t>
            </a:r>
            <a:r>
              <a:rPr b="1" lang="es-ES_tradnl" sz="3600" spc="-1" strike="noStrike">
                <a:solidFill>
                  <a:srgbClr val="d16349"/>
                </a:solidFill>
                <a:latin typeface="Century Gothic"/>
              </a:rPr>
              <a:t>gestión activa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del entorno político cuando ...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573200"/>
            <a:ext cx="849600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fectúa rendición de cuentas rutinaria (reportes a DIPRES o SEGPRE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necesita apoyo para innovaciones o </a:t>
            </a: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cambio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lo que implica mostrar que la iniciativa se ajusta a las concepciones de valor público del agente externo respectivo. En general aquí se abre la necesidad de gestionar la activación de grupos de apoyo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requiere alcanzar coordinación interagencia. Ejemplos: CORFO-PYME o CORFO-Prochile. Otro ejemplo reciente: CORFO - Banco del Estado. Coordinación vía un superior, lo que no siempre es posibl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requiere coproducción descentralizada (persuación masiv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EB7C-43DA-4F8C-B067-8FC02322F5B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477360"/>
            <a:ext cx="9144000" cy="12985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Gestión política se refiere a la tarea de construir apoyo y legitimidad para ciertos propósit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2172960"/>
            <a:ext cx="813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llo involucra construir un clima de tolerancia, apoyo activo o asistencia operativa para un gestor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a política o una estrategia integral entre aquellos que, estando fuera del alcance de la autoridad del ejecutivo, son necesarios para aportar asistencia o proveer de apoyo o autoridad a la iniciativa del directivo públic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DBF7-CDE5-4BE9-A308-F0BBB702D35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55000" cy="981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ores Políticos…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jecutivos políticos: aquellos que contratan a los directivos (ministros y subsecretarios, etc.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ervisores legislativ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isterio de Hacienda, Contraloría, SEGPRE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¡¡¡Y LOS ASESORES DE TODOS ELLOS!!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dios de Comunicación: son quienes dibujan la cancha en  la cual la  discusión se va a dar. Ejemplo: CASO Seremi de Educación, Hospital Curepto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Interé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dos Polític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grupos organizados (empresarios, org. de trabajadores, etc.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DF63-5BE4-4A4E-80BC-2DE3A80E326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6043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el principal supuesto de la doctrina tradicional de las funciones del sector público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3498840"/>
            <a:ext cx="9144000" cy="2997360"/>
          </a:xfrm>
          <a:prstGeom prst="wedgeRectCallout">
            <a:avLst>
              <a:gd name="adj1" fmla="val -518"/>
              <a:gd name="adj2" fmla="val -776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d16349"/>
                </a:solidFill>
                <a:latin typeface="Arial Black"/>
              </a:rPr>
              <a:t>(1)El funcionario debe hacer lo que está mandatado expresamente por las normas, y esto es siempre muy cl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d16349"/>
                </a:solidFill>
                <a:latin typeface="Arial Black"/>
              </a:rPr>
              <a:t>(2) La Misión es ser fiel al mandato formal y producirlo eficient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505F-4DDF-492D-B932-C3AAAFC7A3FE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</a:rPr>
              <a:t>Técnicas de Gestión Polític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omoción activ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Gestión del Desarrollo de la polít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gociació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liberación pública, aprendizaje social y liderazgo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Marketing y Comunicación Estratég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093F-151A-4231-9A4A-C40F79B4521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Énfasis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Una organización pública, robusta y con proyecciones, para maximizar el cumplimiento de sus mandatos más nobles, debe necesariamente pasar por una </a:t>
            </a:r>
            <a:r>
              <a:rPr b="1" lang="es-CL" sz="2800" spc="-1" strike="noStrike">
                <a:solidFill>
                  <a:srgbClr val="cc0000"/>
                </a:solidFill>
                <a:latin typeface="Century Gothic"/>
              </a:rPr>
              <a:t>pequeña revolución de enfoque</a:t>
            </a: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pero no como mero formalismo, moda o sistema, herramienta gerencial, sino como </a:t>
            </a:r>
            <a:r>
              <a:rPr b="1" lang="es-CL" sz="2800" spc="-1" strike="noStrike">
                <a:solidFill>
                  <a:srgbClr val="cc0000"/>
                </a:solidFill>
                <a:latin typeface="Century Gothic"/>
              </a:rPr>
              <a:t>ACTITUD y CONCEPTUALIZACIÓN compartida</a:t>
            </a: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 en la comunidad de funcionarios y directivos.</a:t>
            </a:r>
            <a:r>
              <a:rPr b="0" lang="es-C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75F6-9DBF-4006-9574-8AD44187239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4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9246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Énfasis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Un buen gerente o profesional liderando organizaciones/proyectos debería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INTEGRAR PERMANENTE y CREATIVAMENTE 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estas dimensiones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Una institución pública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EXCELENTE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 se parece más a una institución privada excelente que a una pública mediocre </a:t>
            </a:r>
            <a:r>
              <a:rPr b="1" lang="es-CL" sz="2200" spc="-1" strike="noStrike">
                <a:solidFill>
                  <a:srgbClr val="0070c0"/>
                </a:solidFill>
                <a:latin typeface="Century Gothic"/>
              </a:rPr>
              <a:t>(</a:t>
            </a:r>
            <a:r>
              <a:rPr b="1" i="1" lang="en-US" sz="2000" spc="-1" strike="noStrike">
                <a:solidFill>
                  <a:srgbClr val="0070c0"/>
                </a:solidFill>
                <a:latin typeface="Century Gothic"/>
              </a:rPr>
              <a:t>Collins, J.,  “Good to Great and the Social Sectors”, 2005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En el fondo, una reflexión/acción sistemática con este enfoque contribuye a la </a:t>
            </a: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INNOVACIÓN y MEJORAMIENTO CONTINUO EN LA ORGANIZACIÓN</a:t>
            </a: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, en un proceso AUTOsustentado…(</a:t>
            </a:r>
            <a:r>
              <a:rPr b="1" i="1" lang="en-US" sz="2000" spc="-1" strike="noStrike">
                <a:solidFill>
                  <a:srgbClr val="0070c0"/>
                </a:solidFill>
                <a:latin typeface="Century Gothic"/>
              </a:rPr>
              <a:t>H. Maturana, concepto de Autopoiesis en De Máquinas y Seres Vivos, 1972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El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enfoque NO es un instrumento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, pero contribuye a orientar las definiciones básicas de los instrumentos de gestión (Planificación Estratégica, Control, Procesos, Mejoramiento Continuo, TICs, Análisis de Riesgos…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BA74-2845-44AE-BBC6-DE4D7954244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4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24000" y="268200"/>
          <a:ext cx="8640720" cy="6180120"/>
        </p:xfrm>
        <a:graphic>
          <a:graphicData uri="http://schemas.openxmlformats.org/drawingml/2006/table">
            <a:tbl>
              <a:tblPr/>
              <a:tblGrid>
                <a:gridCol w="1800000"/>
                <a:gridCol w="2160720"/>
                <a:gridCol w="2160360"/>
                <a:gridCol w="2519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men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ra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ew Public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Val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Quién define interés/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or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ientes/usuario y la comunidad ciudadana de un modo delib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Foco de medición de desempe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/Out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/Outputs/Outcomes…Confianza (cla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Accoun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Administrativo/Político Jerárqu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actualismo/Mecanismos de Mercado/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eriores+énfasis en control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Preferencias de entrega/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ministración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rcado Pri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últi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Valoración Ética de l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brevaloración del Estado/Monopolio de BB Públ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rítico del Estado monopó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ización de lo público y su singularidad, pero no restringido a lo esta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446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743C-2009-4836-B8AB-2020721FAE5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6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Sistemas Complejos: 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o las falsas seguridades del mecanicismo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¿Qué es un sistema complicad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¿Qué es un sistema complej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La autorganización administrativa pervive con fuerza a las “modernizaciones” ¿Por qué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Ver la complejidad implica ver sistémicamente. Una mirada exclusivamente analítica es ineficaz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Las 10 características de los sistemas complejo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oore rebate una tendencia reduccionista o simplificadora de esta doctrin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Propone un tránsito de un enfoque (A) burocrático a uno (B)  de “emprendedor público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19" name="AutoShape 4"/>
          <p:cNvGrpSpPr/>
          <p:nvPr/>
        </p:nvGrpSpPr>
        <p:grpSpPr>
          <a:xfrm>
            <a:off x="-365040" y="378000"/>
            <a:ext cx="4900680" cy="6499080"/>
            <a:chOff x="-365040" y="378000"/>
            <a:chExt cx="4900680" cy="6499080"/>
          </a:xfrm>
        </p:grpSpPr>
        <p:pic>
          <p:nvPicPr>
            <p:cNvPr id="220" name="AutoShape 4" descr=""/>
            <p:cNvPicPr/>
            <p:nvPr/>
          </p:nvPicPr>
          <p:blipFill>
            <a:blip r:embed="rId1"/>
            <a:stretch/>
          </p:blipFill>
          <p:spPr>
            <a:xfrm>
              <a:off x="-365040" y="378000"/>
              <a:ext cx="4900680" cy="649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80920" y="404640"/>
              <a:ext cx="2413080" cy="57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Enfoqu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descen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5"/>
          <p:cNvGrpSpPr/>
          <p:nvPr/>
        </p:nvGrpSpPr>
        <p:grpSpPr>
          <a:xfrm>
            <a:off x="4102200" y="450720"/>
            <a:ext cx="4822560" cy="6162840"/>
            <a:chOff x="4102200" y="450720"/>
            <a:chExt cx="4822560" cy="6162840"/>
          </a:xfrm>
        </p:grpSpPr>
        <p:pic>
          <p:nvPicPr>
            <p:cNvPr id="223" name="AutoShape 5" descr=""/>
            <p:cNvPicPr/>
            <p:nvPr/>
          </p:nvPicPr>
          <p:blipFill>
            <a:blip r:embed="rId2"/>
            <a:stretch/>
          </p:blipFill>
          <p:spPr>
            <a:xfrm>
              <a:off x="4102200" y="450720"/>
              <a:ext cx="48225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327640" y="1362240"/>
              <a:ext cx="2376360" cy="52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Enfoqu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ascen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E3D6-98FA-4497-A3A3-F5D0276246E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6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1. Gran Cantidad de Elementos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2.Cantidad de elementos no basta… estos interactúan dinámicamente entre sí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3. Las interacciones son múltiples…como redes neuronales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4.Efectos-estimulos no son lineales. Pequeños estímulos pueden generar grandes efectos sistémicos(!)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5. Normalmente, interacciones son de corto alcance. La cercanía es clave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6. Las interacciones generan retroalimentaciones (amplificaciones o inhibiciones)…las recurrencias son serias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7. Los sistemas complejos son abiertos…interactúan con el entorno (en rigor, todo es un sistema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8. Los sistemas complejos no tienen un equilibrio estático, es dinámico. Mantener el equilibrio implica energía constante…(atención con liderazgo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9. Los sistemas complejos, tienen historia…que explica el presente </a:t>
            </a:r>
            <a:br>
              <a:rPr sz="4400"/>
            </a:b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entury Gothic"/>
              </a:rPr>
              <a:t>path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entury Gothic"/>
              </a:rPr>
              <a:t>dependence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10. Cada parte del sistema es relativamente ignorante de toda la información del sistema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792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RADICION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cribe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ómo deben entende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llevar a cabo su trabajo los funcionarios público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frenta el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riesgo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los directivos públicos conduzcan la administración según intereses distinto a los público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ne énfasis en el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ontrol de procedimientos y la verticalidad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7827-67EB-4FB7-9AB3-4D643DCEB88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119700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304920" y="2892600"/>
            <a:ext cx="5576760" cy="3127320"/>
            <a:chOff x="304920" y="2892600"/>
            <a:chExt cx="5576760" cy="3127320"/>
          </a:xfrm>
        </p:grpSpPr>
        <p:sp>
          <p:nvSpPr>
            <p:cNvPr id="468" name="Text Box 5"/>
            <p:cNvSpPr/>
            <p:nvPr/>
          </p:nvSpPr>
          <p:spPr>
            <a:xfrm>
              <a:off x="4165560" y="3022560"/>
              <a:ext cx="139392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6"/>
            <p:cNvSpPr/>
            <p:nvPr/>
          </p:nvSpPr>
          <p:spPr>
            <a:xfrm>
              <a:off x="2557440" y="3022560"/>
              <a:ext cx="12859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 flipV="1">
              <a:off x="3738600" y="3543480"/>
              <a:ext cx="534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3308400" y="4325760"/>
              <a:ext cx="12859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36560" y="4325760"/>
              <a:ext cx="224964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26640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1"/>
            <p:cNvSpPr/>
            <p:nvPr/>
          </p:nvSpPr>
          <p:spPr>
            <a:xfrm>
              <a:off x="2878200" y="44560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 flipV="1">
              <a:off x="437976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3"/>
            <p:cNvSpPr/>
            <p:nvPr/>
          </p:nvSpPr>
          <p:spPr>
            <a:xfrm>
              <a:off x="628560" y="3022560"/>
              <a:ext cx="1611360" cy="914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202104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4916520" y="4325760"/>
              <a:ext cx="85716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 flipH="1">
              <a:off x="4487760" y="471636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37368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148428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9"/>
            <p:cNvSpPr/>
            <p:nvPr/>
          </p:nvSpPr>
          <p:spPr>
            <a:xfrm>
              <a:off x="4137120" y="5369040"/>
              <a:ext cx="1208160" cy="390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0"/>
            <p:cNvSpPr/>
            <p:nvPr/>
          </p:nvSpPr>
          <p:spPr>
            <a:xfrm flipV="1">
              <a:off x="4702320" y="380340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1"/>
            <p:cNvSpPr/>
            <p:nvPr/>
          </p:nvSpPr>
          <p:spPr>
            <a:xfrm>
              <a:off x="3243240" y="3695760"/>
              <a:ext cx="0" cy="18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2"/>
            <p:cNvSpPr/>
            <p:nvPr/>
          </p:nvSpPr>
          <p:spPr>
            <a:xfrm>
              <a:off x="3243240" y="558468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5130720" y="4846680"/>
              <a:ext cx="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4"/>
            <p:cNvSpPr/>
            <p:nvPr/>
          </p:nvSpPr>
          <p:spPr>
            <a:xfrm>
              <a:off x="304920" y="2892600"/>
              <a:ext cx="3646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5"/>
            <p:cNvSpPr/>
            <p:nvPr/>
          </p:nvSpPr>
          <p:spPr>
            <a:xfrm>
              <a:off x="304920" y="2892600"/>
              <a:ext cx="0" cy="3127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 flipV="1">
              <a:off x="3951360" y="2892600"/>
              <a:ext cx="0" cy="11728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>
              <a:off x="304920" y="6019920"/>
              <a:ext cx="5576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H="1">
              <a:off x="3951360" y="406548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 flipV="1">
              <a:off x="5881680" y="4065120"/>
              <a:ext cx="0" cy="1954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733320" y="5497560"/>
              <a:ext cx="128772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>
              <a:off x="2343240" y="3152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2"/>
            <p:cNvSpPr/>
            <p:nvPr/>
          </p:nvSpPr>
          <p:spPr>
            <a:xfrm>
              <a:off x="2021040" y="4195800"/>
              <a:ext cx="15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3"/>
            <p:cNvSpPr/>
            <p:nvPr/>
          </p:nvSpPr>
          <p:spPr>
            <a:xfrm>
              <a:off x="352260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33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CBE-AC01-4C5D-B0D9-A9404207FCC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304920" y="2892240"/>
            <a:ext cx="8578800" cy="3127680"/>
            <a:chOff x="304920" y="2892240"/>
            <a:chExt cx="8578800" cy="3127680"/>
          </a:xfrm>
        </p:grpSpPr>
        <p:sp>
          <p:nvSpPr>
            <p:cNvPr id="503" name="Text Box 5"/>
            <p:cNvSpPr/>
            <p:nvPr/>
          </p:nvSpPr>
          <p:spPr>
            <a:xfrm>
              <a:off x="6053040" y="5294160"/>
              <a:ext cx="278928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PROCESOS Y ESTRATEG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6"/>
            <p:cNvSpPr/>
            <p:nvPr/>
          </p:nvSpPr>
          <p:spPr>
            <a:xfrm>
              <a:off x="4165560" y="3022560"/>
              <a:ext cx="139392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7"/>
            <p:cNvSpPr/>
            <p:nvPr/>
          </p:nvSpPr>
          <p:spPr>
            <a:xfrm>
              <a:off x="2557440" y="3022560"/>
              <a:ext cx="12859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8"/>
            <p:cNvSpPr/>
            <p:nvPr/>
          </p:nvSpPr>
          <p:spPr>
            <a:xfrm flipV="1">
              <a:off x="3738600" y="3543480"/>
              <a:ext cx="534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9"/>
            <p:cNvSpPr/>
            <p:nvPr/>
          </p:nvSpPr>
          <p:spPr>
            <a:xfrm>
              <a:off x="3308400" y="4325760"/>
              <a:ext cx="12859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0"/>
            <p:cNvSpPr/>
            <p:nvPr/>
          </p:nvSpPr>
          <p:spPr>
            <a:xfrm>
              <a:off x="736560" y="4325760"/>
              <a:ext cx="224964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26640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2"/>
            <p:cNvSpPr/>
            <p:nvPr/>
          </p:nvSpPr>
          <p:spPr>
            <a:xfrm>
              <a:off x="2878200" y="44560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 flipV="1">
              <a:off x="437976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4"/>
            <p:cNvSpPr/>
            <p:nvPr/>
          </p:nvSpPr>
          <p:spPr>
            <a:xfrm>
              <a:off x="628560" y="3022560"/>
              <a:ext cx="1611360" cy="914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5"/>
            <p:cNvSpPr/>
            <p:nvPr/>
          </p:nvSpPr>
          <p:spPr>
            <a:xfrm>
              <a:off x="202104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6"/>
            <p:cNvSpPr/>
            <p:nvPr/>
          </p:nvSpPr>
          <p:spPr>
            <a:xfrm>
              <a:off x="5883120" y="3022560"/>
              <a:ext cx="12877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cia de indicadores 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7"/>
            <p:cNvSpPr/>
            <p:nvPr/>
          </p:nvSpPr>
          <p:spPr>
            <a:xfrm>
              <a:off x="7277040" y="3022560"/>
              <a:ext cx="1500120" cy="8193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cesos con-fusos y sistemas desarticul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8"/>
            <p:cNvSpPr/>
            <p:nvPr/>
          </p:nvSpPr>
          <p:spPr>
            <a:xfrm>
              <a:off x="748980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 flipH="1">
              <a:off x="5344920" y="4195800"/>
              <a:ext cx="21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0"/>
            <p:cNvSpPr/>
            <p:nvPr/>
          </p:nvSpPr>
          <p:spPr>
            <a:xfrm flipV="1">
              <a:off x="5345280" y="380340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1"/>
            <p:cNvSpPr/>
            <p:nvPr/>
          </p:nvSpPr>
          <p:spPr>
            <a:xfrm>
              <a:off x="4916520" y="4325760"/>
              <a:ext cx="85716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 flipH="1">
              <a:off x="4487760" y="471636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6203880" y="4325760"/>
              <a:ext cx="23605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usión en su misión, servicios, usuarios y 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4"/>
            <p:cNvSpPr/>
            <p:nvPr/>
          </p:nvSpPr>
          <p:spPr>
            <a:xfrm flipV="1">
              <a:off x="7586640" y="3695400"/>
              <a:ext cx="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5"/>
            <p:cNvSpPr/>
            <p:nvPr/>
          </p:nvSpPr>
          <p:spPr>
            <a:xfrm flipV="1">
              <a:off x="6310440" y="376848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6"/>
            <p:cNvSpPr/>
            <p:nvPr/>
          </p:nvSpPr>
          <p:spPr>
            <a:xfrm flipH="1">
              <a:off x="7061040" y="3413160"/>
              <a:ext cx="32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7"/>
            <p:cNvSpPr/>
            <p:nvPr/>
          </p:nvSpPr>
          <p:spPr>
            <a:xfrm>
              <a:off x="37368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8"/>
            <p:cNvSpPr/>
            <p:nvPr/>
          </p:nvSpPr>
          <p:spPr>
            <a:xfrm>
              <a:off x="148428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4137120" y="5369040"/>
              <a:ext cx="1208160" cy="390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0"/>
            <p:cNvSpPr/>
            <p:nvPr/>
          </p:nvSpPr>
          <p:spPr>
            <a:xfrm flipV="1">
              <a:off x="4702320" y="380340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1"/>
            <p:cNvSpPr/>
            <p:nvPr/>
          </p:nvSpPr>
          <p:spPr>
            <a:xfrm>
              <a:off x="3243240" y="3695760"/>
              <a:ext cx="0" cy="18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2"/>
            <p:cNvSpPr/>
            <p:nvPr/>
          </p:nvSpPr>
          <p:spPr>
            <a:xfrm>
              <a:off x="3243240" y="558468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3"/>
            <p:cNvSpPr/>
            <p:nvPr/>
          </p:nvSpPr>
          <p:spPr>
            <a:xfrm>
              <a:off x="5130720" y="4846680"/>
              <a:ext cx="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4"/>
            <p:cNvSpPr/>
            <p:nvPr/>
          </p:nvSpPr>
          <p:spPr>
            <a:xfrm>
              <a:off x="6095880" y="380376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5"/>
            <p:cNvSpPr/>
            <p:nvPr/>
          </p:nvSpPr>
          <p:spPr>
            <a:xfrm flipH="1">
              <a:off x="5238360" y="549756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6"/>
            <p:cNvSpPr/>
            <p:nvPr/>
          </p:nvSpPr>
          <p:spPr>
            <a:xfrm>
              <a:off x="304920" y="2892600"/>
              <a:ext cx="3646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7"/>
            <p:cNvSpPr/>
            <p:nvPr/>
          </p:nvSpPr>
          <p:spPr>
            <a:xfrm>
              <a:off x="304920" y="2892600"/>
              <a:ext cx="0" cy="3127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8"/>
            <p:cNvSpPr/>
            <p:nvPr/>
          </p:nvSpPr>
          <p:spPr>
            <a:xfrm flipV="1">
              <a:off x="3951360" y="2892600"/>
              <a:ext cx="0" cy="11728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9"/>
            <p:cNvSpPr/>
            <p:nvPr/>
          </p:nvSpPr>
          <p:spPr>
            <a:xfrm>
              <a:off x="304920" y="6019920"/>
              <a:ext cx="5576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0"/>
            <p:cNvSpPr/>
            <p:nvPr/>
          </p:nvSpPr>
          <p:spPr>
            <a:xfrm flipH="1">
              <a:off x="3951360" y="406548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1"/>
            <p:cNvSpPr/>
            <p:nvPr/>
          </p:nvSpPr>
          <p:spPr>
            <a:xfrm flipV="1">
              <a:off x="5881680" y="4065120"/>
              <a:ext cx="0" cy="1954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2"/>
            <p:cNvSpPr/>
            <p:nvPr/>
          </p:nvSpPr>
          <p:spPr>
            <a:xfrm>
              <a:off x="733320" y="5497560"/>
              <a:ext cx="128772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3"/>
            <p:cNvSpPr/>
            <p:nvPr/>
          </p:nvSpPr>
          <p:spPr>
            <a:xfrm flipV="1">
              <a:off x="5987880" y="3935520"/>
              <a:ext cx="0" cy="1954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4"/>
            <p:cNvSpPr/>
            <p:nvPr/>
          </p:nvSpPr>
          <p:spPr>
            <a:xfrm>
              <a:off x="5987880" y="5889600"/>
              <a:ext cx="2895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5"/>
            <p:cNvSpPr/>
            <p:nvPr/>
          </p:nvSpPr>
          <p:spPr>
            <a:xfrm flipV="1">
              <a:off x="8883720" y="2892240"/>
              <a:ext cx="0" cy="2997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6"/>
            <p:cNvSpPr/>
            <p:nvPr/>
          </p:nvSpPr>
          <p:spPr>
            <a:xfrm>
              <a:off x="5773680" y="2892600"/>
              <a:ext cx="3110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47"/>
            <p:cNvSpPr/>
            <p:nvPr/>
          </p:nvSpPr>
          <p:spPr>
            <a:xfrm>
              <a:off x="5773680" y="3935520"/>
              <a:ext cx="214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48"/>
            <p:cNvSpPr/>
            <p:nvPr/>
          </p:nvSpPr>
          <p:spPr>
            <a:xfrm flipV="1">
              <a:off x="5773680" y="2892240"/>
              <a:ext cx="0" cy="1042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49"/>
            <p:cNvSpPr/>
            <p:nvPr/>
          </p:nvSpPr>
          <p:spPr>
            <a:xfrm>
              <a:off x="2343240" y="3152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50"/>
            <p:cNvSpPr/>
            <p:nvPr/>
          </p:nvSpPr>
          <p:spPr>
            <a:xfrm>
              <a:off x="2021040" y="4195800"/>
              <a:ext cx="15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1"/>
            <p:cNvSpPr/>
            <p:nvPr/>
          </p:nvSpPr>
          <p:spPr>
            <a:xfrm>
              <a:off x="352260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52"/>
            <p:cNvSpPr/>
            <p:nvPr/>
          </p:nvSpPr>
          <p:spPr>
            <a:xfrm>
              <a:off x="3092400" y="3768840"/>
              <a:ext cx="3240" cy="14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53"/>
            <p:cNvSpPr/>
            <p:nvPr/>
          </p:nvSpPr>
          <p:spPr>
            <a:xfrm>
              <a:off x="3092400" y="5238720"/>
              <a:ext cx="354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54"/>
            <p:cNvSpPr/>
            <p:nvPr/>
          </p:nvSpPr>
          <p:spPr>
            <a:xfrm flipV="1">
              <a:off x="6632640" y="484632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5"/>
            <p:cNvSpPr/>
            <p:nvPr/>
          </p:nvSpPr>
          <p:spPr>
            <a:xfrm flipH="1">
              <a:off x="5452920" y="354024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5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5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BD59-081F-4F43-818E-82167C7B969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5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304920" y="1371600"/>
            <a:ext cx="8686800" cy="4648320"/>
            <a:chOff x="304920" y="1371600"/>
            <a:chExt cx="8686800" cy="4648320"/>
          </a:xfrm>
        </p:grpSpPr>
        <p:sp>
          <p:nvSpPr>
            <p:cNvPr id="560" name="Text Box 5"/>
            <p:cNvSpPr/>
            <p:nvPr/>
          </p:nvSpPr>
          <p:spPr>
            <a:xfrm>
              <a:off x="6053400" y="5293440"/>
              <a:ext cx="278820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PROCESOS Y ESTRATEG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734040" y="1371600"/>
              <a:ext cx="7935480" cy="13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7"/>
            <p:cNvSpPr/>
            <p:nvPr/>
          </p:nvSpPr>
          <p:spPr>
            <a:xfrm>
              <a:off x="4165560" y="3021840"/>
              <a:ext cx="139428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"/>
            <p:cNvSpPr/>
            <p:nvPr/>
          </p:nvSpPr>
          <p:spPr>
            <a:xfrm>
              <a:off x="1055520" y="1848600"/>
              <a:ext cx="13942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esiones del entorno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2666520" y="1848600"/>
              <a:ext cx="12844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stricciones norm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0"/>
            <p:cNvSpPr/>
            <p:nvPr/>
          </p:nvSpPr>
          <p:spPr>
            <a:xfrm>
              <a:off x="4165560" y="1848600"/>
              <a:ext cx="13942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stricción presupuest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5776560" y="1848600"/>
              <a:ext cx="12844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inanciadores descont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7275960" y="1848600"/>
              <a:ext cx="118152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umores de desprestig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3"/>
            <p:cNvSpPr/>
            <p:nvPr/>
          </p:nvSpPr>
          <p:spPr>
            <a:xfrm flipH="1">
              <a:off x="6954120" y="230544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4"/>
            <p:cNvSpPr/>
            <p:nvPr/>
          </p:nvSpPr>
          <p:spPr>
            <a:xfrm flipH="1">
              <a:off x="5452920" y="224100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5"/>
            <p:cNvSpPr/>
            <p:nvPr/>
          </p:nvSpPr>
          <p:spPr>
            <a:xfrm>
              <a:off x="3843360" y="2370240"/>
              <a:ext cx="42948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2557080" y="3021840"/>
              <a:ext cx="1286280" cy="859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7"/>
            <p:cNvSpPr/>
            <p:nvPr/>
          </p:nvSpPr>
          <p:spPr>
            <a:xfrm>
              <a:off x="2342520" y="224100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8"/>
            <p:cNvSpPr/>
            <p:nvPr/>
          </p:nvSpPr>
          <p:spPr>
            <a:xfrm flipV="1">
              <a:off x="3738960" y="3542760"/>
              <a:ext cx="53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9"/>
            <p:cNvSpPr/>
            <p:nvPr/>
          </p:nvSpPr>
          <p:spPr>
            <a:xfrm>
              <a:off x="3307680" y="4325040"/>
              <a:ext cx="128700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20"/>
            <p:cNvSpPr/>
            <p:nvPr/>
          </p:nvSpPr>
          <p:spPr>
            <a:xfrm>
              <a:off x="735840" y="4325040"/>
              <a:ext cx="224964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>
              <a:off x="2664720" y="367452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2"/>
            <p:cNvSpPr/>
            <p:nvPr/>
          </p:nvSpPr>
          <p:spPr>
            <a:xfrm>
              <a:off x="2878560" y="445644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3"/>
            <p:cNvSpPr/>
            <p:nvPr/>
          </p:nvSpPr>
          <p:spPr>
            <a:xfrm flipV="1">
              <a:off x="438012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4"/>
            <p:cNvSpPr/>
            <p:nvPr/>
          </p:nvSpPr>
          <p:spPr>
            <a:xfrm>
              <a:off x="628560" y="3022920"/>
              <a:ext cx="1611000" cy="913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5"/>
            <p:cNvSpPr/>
            <p:nvPr/>
          </p:nvSpPr>
          <p:spPr>
            <a:xfrm flipV="1">
              <a:off x="1591920" y="276120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6"/>
            <p:cNvSpPr/>
            <p:nvPr/>
          </p:nvSpPr>
          <p:spPr>
            <a:xfrm>
              <a:off x="1591920" y="2761560"/>
              <a:ext cx="30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7"/>
            <p:cNvSpPr/>
            <p:nvPr/>
          </p:nvSpPr>
          <p:spPr>
            <a:xfrm>
              <a:off x="4595040" y="2761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8"/>
            <p:cNvSpPr/>
            <p:nvPr/>
          </p:nvSpPr>
          <p:spPr>
            <a:xfrm flipH="1">
              <a:off x="2019960" y="2418480"/>
              <a:ext cx="857880" cy="73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9"/>
            <p:cNvSpPr/>
            <p:nvPr/>
          </p:nvSpPr>
          <p:spPr>
            <a:xfrm>
              <a:off x="2020320" y="3674520"/>
              <a:ext cx="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0"/>
            <p:cNvSpPr/>
            <p:nvPr/>
          </p:nvSpPr>
          <p:spPr>
            <a:xfrm>
              <a:off x="5884200" y="3022920"/>
              <a:ext cx="1286280" cy="858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cia de indicadores 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31"/>
            <p:cNvSpPr/>
            <p:nvPr/>
          </p:nvSpPr>
          <p:spPr>
            <a:xfrm flipV="1">
              <a:off x="652536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32"/>
            <p:cNvSpPr/>
            <p:nvPr/>
          </p:nvSpPr>
          <p:spPr>
            <a:xfrm>
              <a:off x="7277760" y="3021840"/>
              <a:ext cx="1499040" cy="8190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cesos con-fusos y sistemas desarticul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3"/>
            <p:cNvSpPr/>
            <p:nvPr/>
          </p:nvSpPr>
          <p:spPr>
            <a:xfrm>
              <a:off x="5238000" y="237024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4"/>
            <p:cNvSpPr/>
            <p:nvPr/>
          </p:nvSpPr>
          <p:spPr>
            <a:xfrm>
              <a:off x="7490520" y="3674520"/>
              <a:ext cx="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5345640" y="4195800"/>
              <a:ext cx="214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6"/>
            <p:cNvSpPr/>
            <p:nvPr/>
          </p:nvSpPr>
          <p:spPr>
            <a:xfrm flipV="1">
              <a:off x="5345640" y="380340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7"/>
            <p:cNvSpPr/>
            <p:nvPr/>
          </p:nvSpPr>
          <p:spPr>
            <a:xfrm>
              <a:off x="5238000" y="276156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>
              <a:off x="7704360" y="2761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39"/>
            <p:cNvSpPr/>
            <p:nvPr/>
          </p:nvSpPr>
          <p:spPr>
            <a:xfrm>
              <a:off x="4916160" y="4325040"/>
              <a:ext cx="85752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0"/>
            <p:cNvSpPr/>
            <p:nvPr/>
          </p:nvSpPr>
          <p:spPr>
            <a:xfrm>
              <a:off x="5452920" y="2109960"/>
              <a:ext cx="21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1"/>
            <p:cNvSpPr/>
            <p:nvPr/>
          </p:nvSpPr>
          <p:spPr>
            <a:xfrm>
              <a:off x="5666760" y="2109960"/>
              <a:ext cx="0" cy="23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2"/>
            <p:cNvSpPr/>
            <p:nvPr/>
          </p:nvSpPr>
          <p:spPr>
            <a:xfrm flipH="1">
              <a:off x="4487760" y="471672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43"/>
            <p:cNvSpPr/>
            <p:nvPr/>
          </p:nvSpPr>
          <p:spPr>
            <a:xfrm>
              <a:off x="6203520" y="4325040"/>
              <a:ext cx="236160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usión en su misión, servicios, usuarios y 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44"/>
            <p:cNvSpPr/>
            <p:nvPr/>
          </p:nvSpPr>
          <p:spPr>
            <a:xfrm flipH="1">
              <a:off x="519120" y="237024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45"/>
            <p:cNvSpPr/>
            <p:nvPr/>
          </p:nvSpPr>
          <p:spPr>
            <a:xfrm>
              <a:off x="519480" y="2370240"/>
              <a:ext cx="0" cy="27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6"/>
            <p:cNvSpPr/>
            <p:nvPr/>
          </p:nvSpPr>
          <p:spPr>
            <a:xfrm>
              <a:off x="519480" y="51080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7"/>
            <p:cNvSpPr/>
            <p:nvPr/>
          </p:nvSpPr>
          <p:spPr>
            <a:xfrm flipV="1">
              <a:off x="6310800" y="48466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8"/>
            <p:cNvSpPr/>
            <p:nvPr/>
          </p:nvSpPr>
          <p:spPr>
            <a:xfrm flipV="1">
              <a:off x="7586280" y="3695400"/>
              <a:ext cx="0" cy="72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9"/>
            <p:cNvSpPr/>
            <p:nvPr/>
          </p:nvSpPr>
          <p:spPr>
            <a:xfrm flipV="1">
              <a:off x="6310800" y="376848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50"/>
            <p:cNvSpPr/>
            <p:nvPr/>
          </p:nvSpPr>
          <p:spPr>
            <a:xfrm flipH="1">
              <a:off x="7061040" y="341316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1"/>
            <p:cNvSpPr/>
            <p:nvPr/>
          </p:nvSpPr>
          <p:spPr>
            <a:xfrm>
              <a:off x="3736440" y="367452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52"/>
            <p:cNvSpPr/>
            <p:nvPr/>
          </p:nvSpPr>
          <p:spPr>
            <a:xfrm>
              <a:off x="148464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53"/>
            <p:cNvSpPr/>
            <p:nvPr/>
          </p:nvSpPr>
          <p:spPr>
            <a:xfrm>
              <a:off x="4137120" y="5367960"/>
              <a:ext cx="1208160" cy="391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54"/>
            <p:cNvSpPr/>
            <p:nvPr/>
          </p:nvSpPr>
          <p:spPr>
            <a:xfrm flipV="1">
              <a:off x="4701600" y="3803400"/>
              <a:ext cx="0" cy="16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55"/>
            <p:cNvSpPr/>
            <p:nvPr/>
          </p:nvSpPr>
          <p:spPr>
            <a:xfrm>
              <a:off x="3242880" y="3695760"/>
              <a:ext cx="0" cy="18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56"/>
            <p:cNvSpPr/>
            <p:nvPr/>
          </p:nvSpPr>
          <p:spPr>
            <a:xfrm>
              <a:off x="3242880" y="5583960"/>
              <a:ext cx="10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57"/>
            <p:cNvSpPr/>
            <p:nvPr/>
          </p:nvSpPr>
          <p:spPr>
            <a:xfrm>
              <a:off x="5130720" y="4846680"/>
              <a:ext cx="0" cy="65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8"/>
            <p:cNvSpPr/>
            <p:nvPr/>
          </p:nvSpPr>
          <p:spPr>
            <a:xfrm>
              <a:off x="6096240" y="3803760"/>
              <a:ext cx="0" cy="16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59"/>
            <p:cNvSpPr/>
            <p:nvPr/>
          </p:nvSpPr>
          <p:spPr>
            <a:xfrm flipH="1">
              <a:off x="5237640" y="5498280"/>
              <a:ext cx="8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60"/>
            <p:cNvSpPr/>
            <p:nvPr/>
          </p:nvSpPr>
          <p:spPr>
            <a:xfrm>
              <a:off x="4165560" y="1458000"/>
              <a:ext cx="128700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61"/>
            <p:cNvSpPr/>
            <p:nvPr/>
          </p:nvSpPr>
          <p:spPr>
            <a:xfrm>
              <a:off x="304920" y="2891520"/>
              <a:ext cx="3646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62"/>
            <p:cNvSpPr/>
            <p:nvPr/>
          </p:nvSpPr>
          <p:spPr>
            <a:xfrm>
              <a:off x="304920" y="2891520"/>
              <a:ext cx="0" cy="31280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63"/>
            <p:cNvSpPr/>
            <p:nvPr/>
          </p:nvSpPr>
          <p:spPr>
            <a:xfrm flipV="1">
              <a:off x="3951000" y="2891160"/>
              <a:ext cx="0" cy="1173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4"/>
            <p:cNvSpPr/>
            <p:nvPr/>
          </p:nvSpPr>
          <p:spPr>
            <a:xfrm>
              <a:off x="304920" y="6019920"/>
              <a:ext cx="5576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65"/>
            <p:cNvSpPr/>
            <p:nvPr/>
          </p:nvSpPr>
          <p:spPr>
            <a:xfrm flipH="1">
              <a:off x="3951000" y="406476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66"/>
            <p:cNvSpPr/>
            <p:nvPr/>
          </p:nvSpPr>
          <p:spPr>
            <a:xfrm flipV="1">
              <a:off x="5881320" y="4064760"/>
              <a:ext cx="0" cy="19548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67"/>
            <p:cNvSpPr/>
            <p:nvPr/>
          </p:nvSpPr>
          <p:spPr>
            <a:xfrm>
              <a:off x="734040" y="5498280"/>
              <a:ext cx="128628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68"/>
            <p:cNvSpPr/>
            <p:nvPr/>
          </p:nvSpPr>
          <p:spPr>
            <a:xfrm flipV="1">
              <a:off x="5988600" y="3934800"/>
              <a:ext cx="0" cy="19548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69"/>
            <p:cNvSpPr/>
            <p:nvPr/>
          </p:nvSpPr>
          <p:spPr>
            <a:xfrm>
              <a:off x="5988600" y="5889600"/>
              <a:ext cx="2895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70"/>
            <p:cNvSpPr/>
            <p:nvPr/>
          </p:nvSpPr>
          <p:spPr>
            <a:xfrm flipV="1">
              <a:off x="8884440" y="2891520"/>
              <a:ext cx="0" cy="2998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71"/>
            <p:cNvSpPr/>
            <p:nvPr/>
          </p:nvSpPr>
          <p:spPr>
            <a:xfrm>
              <a:off x="5774040" y="2891520"/>
              <a:ext cx="3110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72"/>
            <p:cNvSpPr/>
            <p:nvPr/>
          </p:nvSpPr>
          <p:spPr>
            <a:xfrm>
              <a:off x="5774040" y="3934800"/>
              <a:ext cx="2145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73"/>
            <p:cNvSpPr/>
            <p:nvPr/>
          </p:nvSpPr>
          <p:spPr>
            <a:xfrm flipV="1">
              <a:off x="5774040" y="2891160"/>
              <a:ext cx="0" cy="1042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74"/>
            <p:cNvSpPr/>
            <p:nvPr/>
          </p:nvSpPr>
          <p:spPr>
            <a:xfrm>
              <a:off x="2342520" y="315288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>
              <a:off x="2020320" y="419580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6"/>
            <p:cNvSpPr/>
            <p:nvPr/>
          </p:nvSpPr>
          <p:spPr>
            <a:xfrm>
              <a:off x="352224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77"/>
            <p:cNvSpPr/>
            <p:nvPr/>
          </p:nvSpPr>
          <p:spPr>
            <a:xfrm flipV="1">
              <a:off x="791928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78"/>
            <p:cNvSpPr/>
            <p:nvPr/>
          </p:nvSpPr>
          <p:spPr>
            <a:xfrm>
              <a:off x="137736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79"/>
            <p:cNvSpPr/>
            <p:nvPr/>
          </p:nvSpPr>
          <p:spPr>
            <a:xfrm>
              <a:off x="5238000" y="5629320"/>
              <a:ext cx="375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80"/>
            <p:cNvSpPr/>
            <p:nvPr/>
          </p:nvSpPr>
          <p:spPr>
            <a:xfrm flipV="1">
              <a:off x="8991720" y="2241000"/>
              <a:ext cx="0" cy="338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81"/>
            <p:cNvSpPr/>
            <p:nvPr/>
          </p:nvSpPr>
          <p:spPr>
            <a:xfrm flipH="1">
              <a:off x="8240760" y="224100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82"/>
            <p:cNvSpPr/>
            <p:nvPr/>
          </p:nvSpPr>
          <p:spPr>
            <a:xfrm>
              <a:off x="3093120" y="3768480"/>
              <a:ext cx="2520" cy="14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83"/>
            <p:cNvSpPr/>
            <p:nvPr/>
          </p:nvSpPr>
          <p:spPr>
            <a:xfrm>
              <a:off x="3093120" y="5238000"/>
              <a:ext cx="35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84"/>
            <p:cNvSpPr/>
            <p:nvPr/>
          </p:nvSpPr>
          <p:spPr>
            <a:xfrm flipV="1">
              <a:off x="6631920" y="484632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85"/>
            <p:cNvSpPr/>
            <p:nvPr/>
          </p:nvSpPr>
          <p:spPr>
            <a:xfrm>
              <a:off x="502344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86"/>
            <p:cNvSpPr/>
            <p:nvPr/>
          </p:nvSpPr>
          <p:spPr>
            <a:xfrm flipH="1">
              <a:off x="5452920" y="354024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86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87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8A42-DE78-4478-97D0-879D3E4E6E3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8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Ver la complejidad implica ver sistémicamente. Una mirada exclusivamente analítica es ineficaz para un directivo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Gothic"/>
              </a:rPr>
              <a:t>ANEXO: PAUTA PRÁCTICA DE ANÁLISIS ESTRATÉGICO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entury Gothic"/>
            </a:endParaRPr>
          </a:p>
        </p:txBody>
      </p:sp>
      <p:sp>
        <p:nvSpPr>
          <p:cNvPr id="648" name="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7CDC-82BB-46CB-91C2-B60FB2F2AF4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opósitos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532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6240" indent="-336240">
              <a:spcBef>
                <a:spcPts val="550"/>
              </a:spcBef>
              <a:buClr>
                <a:srgbClr val="cc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 ¿Qué VP entrega la Organización X?;  a su juicio, ¿la hace una diferencia relevante para el país?; ¿es sustantivamente valiosa?, ¿dónde está específicamente la “agregación” de valor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Qué beneficios y costos específicos enfrentan los diversos clientes, comunidad, fiscalizados? , ¿cómo se pueden maximizar o minimiz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ómo agrega valor a nivel de productos/servicios y de impacto final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Qué percepción tienen los clientes, los ciudadano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uál es la agregación de valor de los últimos 6 años?¿Hay “progreso” en la agregación de VP ?, ¿en qué sentido? ¿Hay alguna acción puntual/proceso/ función especialmente destacabl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FD3C-971E-4710-B3E9-E30FD0EFC60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opósitos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04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Debería ajustarse o enfatizarse en algún sentid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Hay alguna línea de desarrollo que agrega más Valo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Hay algún indicador relevante que dé cuenta de la agregación de valor público? (costos, beneficios, tendencias…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Cuál es la causalidad de la generación de valo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Qué espacios de ganancia en materias de calidad de servicio existen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Qué espacios de ganancia en confianza existen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5380-6D9D-45BB-8273-7BFDD2E0438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1760" y="549360"/>
            <a:ext cx="79246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¿Qué complejidades/demandas enfrenta la organización X en relación a su entorno/</a:t>
            </a:r>
            <a:r>
              <a:rPr b="1" i="1" lang="es-CL" sz="2200" spc="-1" strike="noStrike">
                <a:solidFill>
                  <a:srgbClr val="cc0000"/>
                </a:solidFill>
                <a:latin typeface="Century Gothic"/>
              </a:rPr>
              <a:t>stakeholders</a:t>
            </a: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 claves?, ¿cómo se debería gestionar dicha situació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Cuáles son los “</a:t>
            </a:r>
            <a:r>
              <a:rPr b="1" i="1" lang="es-CL" sz="2100" spc="-1" strike="noStrike">
                <a:solidFill>
                  <a:srgbClr val="000099"/>
                </a:solidFill>
                <a:latin typeface="Century Gothic"/>
              </a:rPr>
              <a:t>stakeholders clave</a:t>
            </a: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”, más a allá de la ciudadanía,  y qué valor esperan de la organización? ¿Cómo la dicha organización ha sido efectiva en esa agregación de Valor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Ha gestionado la dicha organización suficientemente las Alianzas, y las capacidades externas que requiere para cumplir sus propósitos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Cuenta esta organización con suficiente legitimidad e influencia en su entorno relevante?¿Qué debería hacer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254-622A-4F66-883F-C38939FD765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92468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uáles son las implicaciones del estado actual (o cambios anticipados) en el entorno de la organización?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afecta el entorno a las capacidades de la organización para alcanzar su propósit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Debe la organización adaptar o revisar sus metas y propósitos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deben adaptarse las capacidades organizacionales para reflejar los cambios del entorn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debe la organización vincularse con actores externos clave, instituciones y electores?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94C8-0EFA-4D5D-BBA6-FC3536FD052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¿Cuáles son las tendencias actuales y de mediano plazo que pueden afectar a la organización en el futur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Tecnologí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Leyes/Polític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Valores Sociales/Culturales del paí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Cambios sociale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Factores económico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5E07-01B4-4487-863D-064F2DD8F99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Supone que los </a:t>
            </a:r>
            <a:r>
              <a:rPr b="1" lang="es-ES" sz="3600" spc="-1" strike="noStrike">
                <a:solidFill>
                  <a:srgbClr val="00a3d6"/>
                </a:solidFill>
                <a:latin typeface="Calibri"/>
              </a:rPr>
              <a:t>propósitos son nítidos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 las pautas normativas (Leyes, discursos o declaraciones de las “autoridades”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fatiza más en l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“administración”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objetivos y procedimientos definidos)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que en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“la gestión”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respuesta a objetivos declarados, procedimientos amplios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FB20-5FB6-4EAC-B6E9-F12870366A0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0" y="333360"/>
            <a:ext cx="9144000" cy="792000"/>
          </a:xfrm>
          <a:prstGeom prst="roundRect">
            <a:avLst>
              <a:gd name="adj" fmla="val 21667"/>
            </a:avLst>
          </a:prstGeom>
          <a:solidFill>
            <a:srgbClr val="ed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Capacida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 ¿Existe  congruencia entre las capacidades de todo tipo (cualitativa y cuantitativamente) con los propósitos de la organización?  (Personas, Sistemas, conocimientos, infraestructura, organización…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Es viable técnica y operativamente el desarrollo de largo plazo de la organización dada las demandas  actuales y las tendencias del entorno que enfrenta?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Se enfrenta algún riesgo intern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uáles son los espacios de capacidades más necesitados de desarroll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4726-3AAD-44FA-8973-DD04BDE1D4B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9001080" cy="40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directivo debe cumplir sus mandatos con eficacia y eficiencia; tiende 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suponer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conocimiento experto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se conocen la respuestas, no requiere participación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ás “burocracia”, menos “emprendimiento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Las fuerzas son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descendentes y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hacia adentr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iende a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abrir reflexión sobre propósito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47E8-9D88-4C00-9260-149E863D1B4E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ark Moo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BE4-3C51-4CE8-8546-80EE34549673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573200" y="2286000"/>
            <a:ext cx="42181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4:25:03Z</dcterms:created>
  <dc:creator>cuc</dc:creator>
  <dc:description/>
  <dc:language>en-US</dc:language>
  <cp:lastModifiedBy>paula</cp:lastModifiedBy>
  <dcterms:modified xsi:type="dcterms:W3CDTF">2012-03-05T13:39:15Z</dcterms:modified>
  <cp:revision>246</cp:revision>
  <dc:subject/>
  <dc:title>Diapositiva 1</dc:title>
</cp:coreProperties>
</file>