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FB9F-B1B1-4F24-BDD1-A51050AE40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DB68-631A-4467-9C4A-6EF8FC3E74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2B10-F4C1-4A85-A394-6AB26E341C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3096-A7F0-4FAF-8AF8-5356F0F28D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925D-53CF-4E72-AD3F-3F67721136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5869-D101-49B5-934D-CC2F60139C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204E-DD89-41FB-B7C4-25657A5594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A6B0-2EBF-4C65-9961-A941534B2A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8E78-CEEC-41B9-B389-B4D7BF6C97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CCBC-6068-4D8D-A1D4-EA83A5678E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78D4-E65E-4EF2-8722-4CF5452554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5059-D7BF-4A43-BB47-8C34417366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362D-D988-40EB-94B9-C08589409D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86CE-AB5B-494F-9533-F0A6C83522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3E30-3E3F-4EAD-9446-DEA5FFC957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6AD8-7580-4D90-88B8-64671D9366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5FD5-0348-45B0-AC88-EF47E1E7DE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.      En síntesis, cuál era el desafío relevante y prioritario de Ruckelshau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ii.      ¿Cuáles fueron las amenazas-restricciones y las oportunidades observadas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v.      En síntesis, explique cuál fue la estrategia y sus atributos (ventajas, desventajas) de la misma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.      ¿Qué ventajas/desventajas desde el punto de vista de los ecologistas, industriales, organización, gobiern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.      ¿Qué otra misión habría usted señalad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ii.      ¿Qué hizo R. respecto a los siguiente atributos deseables (como señala el texto) de una estrategia en el sector público?)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      Sustantivamente releva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      Viable políticame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      Operativamente factible y suficientemente cla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2455-6980-40FB-8B0C-81E59A5699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064F-99CF-4BB7-81AE-45B70795F0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AF23-5310-4234-819D-CF6610A964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4B3-E8EB-4B72-A2BB-2AB00FD89E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574C-2305-4AB9-96DE-C94584A36D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124F-1F1C-4CF4-9898-D7A2746B44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D020-5CD7-4348-916F-FDA1D02E12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0899-5C4D-4365-888E-2B639526E6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B51-FBB2-40BF-ACD8-21E4B460FC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B95C-7C9E-4FD6-B39D-C41C908C69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4D4E-91AA-4D93-A0FD-C2541DA4B9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0AF3-A128-4A2C-8992-A4977EEEF4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85C-B29F-46AF-BD2E-A60F366E7F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6219-9504-44CE-AC09-7DEE750CA0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B140-5FEF-433B-B9D9-5041D009F9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04D7-C30F-4BC5-B170-E4A90E680B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C44-FFD7-4442-923A-5356CE250F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D3A7-EADE-4FCE-A49F-80D9E2C445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D5BE-04DE-4487-8915-1218DB48F1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EA9E-31E0-487D-A3C8-345FEE799D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C405-E96B-4D22-8C11-4534F25F6B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21E2-99AB-4C06-B830-A3223AB2FE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CB31-A8B0-4C01-8125-52CEC6EC73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0A17-00C7-4F5A-B079-88A4B7A420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4012-7CD7-4FE9-97B5-8D0F5BC76F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0D5B-2E8A-4DA6-8AF4-B8C58A395F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46EC-218F-46D9-9EE3-28556D15B0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76DD-8C19-4550-B385-F6299A38A8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F626-421A-42C4-B7A4-D8D0B22802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2DBE-8E8F-4EDB-82C5-1EECF7B9B3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932F-3053-4BB5-B150-C17E5AAABE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7485-6381-4039-9EEB-9A39C42CE2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8892-FE4D-4205-BC14-1102124D40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FC90-9731-4511-B45D-B7CBE40F07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1111-1DC4-4D0F-85A9-AFF3892618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46A-31BC-4977-9D63-B3E032FE74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B6EF-4FB6-4B78-8CF1-95AA4605CF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E898-0C65-40E8-B009-2645F6A20C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EEA4-1269-45C3-82B5-70509524F6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61EA-6213-4872-8F5A-FDF63C9019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0EAF-8713-4799-9C1D-86E00E26A9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FD4A-00A3-40C8-AE15-3AAB6CF4D7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D103-D483-4BF2-93BE-FCF78619EB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1133-D93A-4368-BBAC-DDF4E73FD9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7BBE-2164-4940-8727-5363C13895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2BD6-3B25-48DE-837D-706040E805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B9E0-26C6-4EAA-9DF1-98673AD826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D4C3-F466-4A71-B923-9734ED4915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802C-8C04-4266-99DB-1D9907E710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715F-E2BA-4DC4-B55C-2AA5B7A5FE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CCAF-74B0-42FA-8053-82047019F1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043-D048-47D6-9CDD-BBF3A35C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4B8-5F0B-4397-97A4-488019CB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49B-304A-4AEB-8761-4DCD4DF0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F36-0C53-470C-9A88-6365B2E2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B9BB-1C81-4CE0-AF63-CF7D5E05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0062-AE52-4F60-A138-B6916CD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BE2D-AFD4-4304-A90A-298680F0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2AC5-3217-4897-A432-91EAEC53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49BE-D661-4190-A1B2-193B6688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EC76-5097-411F-B229-0AA41EB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D334-0B25-4A4A-9CAA-555A110D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5E6-13FE-4761-813D-AE62DFBE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DCAC-404C-4256-B863-59B9F38D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1813-91B2-4B32-A040-E24D953E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E3A8-7B21-47F8-9ABB-F6D324AD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8053-64E6-4AE7-9198-BFCEEB78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C209-7E5D-47F4-A228-739650A3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8DC3-CB1E-4A26-BF97-FB9C0BD2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F42F-5D24-4AB7-8A2B-91325866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1656-8DC8-4833-846F-24B8129C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1DAB-A086-4895-9FE7-1A4A8691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671F-4956-443D-8F9A-A6C83B2E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D1D-24B9-4096-947A-CE3D77F4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6088-50A9-4369-8C8C-E644BBD5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3481-5BAB-405C-956E-40A73CA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8653-6D28-4B00-95EA-AE0CC6B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3899-0B82-40BF-9BE5-748665A0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0047-8007-4420-AA05-402CD92F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A600-4BBE-4CC5-BD21-8404AB0E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6A7B-7BAE-4C83-8E03-9EFCF54D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0F603-FCC6-4E9F-8F1E-D9CBBFB1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0CA8-7922-4541-8E47-0E252116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EF58-E876-40EF-B133-7B3421CC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54C-C835-4131-8C3A-8779FCAF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E34D-E8AA-449D-B292-EA186657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5221-CA9B-42DB-AEF9-33E3C6F1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ED105-6678-47E4-BB32-C4790B6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3BA08-CC5B-436C-826B-8781A7E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0B892-CC88-4D1A-AC52-377C1369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48BBF-4EEF-40BF-BDA6-05B086F9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5758-C588-4707-85F6-DB6662CF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FE5C-29B1-404E-A24B-E1787F6E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9373-BB1E-4750-829D-B6ED2BD9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F8D-697B-4A10-8DB3-F6870DF6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5CA-41E9-4F66-8E86-85973356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3EE-ADDC-4DEF-BFD0-8157FE3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C89-6152-4984-817D-4BFBC37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686-E941-44E8-8BA6-583CFE7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771280" y="638136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4360" y="6381360"/>
            <a:ext cx="1042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BA28-6132-4F6C-B941-618D9367815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Carlos Urriola\Escritorio\My Dropbox\A.3.2 CSP\E. Documentos\Imagenes\Logos\CSP-color+bajada.bmp"/>
          <p:cNvPicPr/>
          <p:nvPr/>
        </p:nvPicPr>
        <p:blipFill>
          <a:blip r:embed="rId5"/>
          <a:stretch/>
        </p:blipFill>
        <p:spPr>
          <a:xfrm>
            <a:off x="1892160" y="5300640"/>
            <a:ext cx="5359680" cy="86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Carlos Urriola\Escritorio\My Dropbox\A.3.2 CSP\E. Documentos\Imagenes\Logos\CSP3.bmp"/>
          <p:cNvPicPr/>
          <p:nvPr/>
        </p:nvPicPr>
        <p:blipFill>
          <a:blip r:embed="rId6"/>
          <a:srcRect l="6653" t="0" r="0" b="0"/>
          <a:stretch/>
        </p:blipFill>
        <p:spPr>
          <a:xfrm>
            <a:off x="0" y="0"/>
            <a:ext cx="352908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Carlos Urriola\Escritorio\My Dropbox\A.3.2 CSP\E. Documentos\Imagenes\Logos\CSP3.bmp"/>
          <p:cNvPicPr/>
          <p:nvPr/>
        </p:nvPicPr>
        <p:blipFill>
          <a:blip r:embed="rId7"/>
          <a:srcRect l="0" t="0" r="6653" b="0"/>
          <a:stretch/>
        </p:blipFill>
        <p:spPr>
          <a:xfrm>
            <a:off x="5516640" y="0"/>
            <a:ext cx="362736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9 CuadroTexto"/>
          <p:cNvSpPr/>
          <p:nvPr/>
        </p:nvSpPr>
        <p:spPr>
          <a:xfrm>
            <a:off x="0" y="5934240"/>
            <a:ext cx="199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0" y="6237360"/>
            <a:ext cx="19368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343320" y="6381720"/>
            <a:ext cx="2457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740360" y="6308640"/>
            <a:ext cx="10429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ED62-8836-4F0C-AA41-974EFA4F670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771280" y="6381360"/>
            <a:ext cx="100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624360" y="6381360"/>
            <a:ext cx="1042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5197-4F65-4153-97AC-704932400FB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1A46-71C7-44AF-A090-D27DAAF6D0E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inostro@dii.uchile.cl" TargetMode="External"/><Relationship Id="rId2" Type="http://schemas.openxmlformats.org/officeDocument/2006/relationships/hyperlink" Target="http://www.sistemaspublicos.cl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520" y="1655640"/>
            <a:ext cx="8548560" cy="18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6349"/>
                </a:solidFill>
                <a:latin typeface="Century Gothic"/>
              </a:rPr>
              <a:t>Enfoque Tradicional, Creación de Valor Público y </a:t>
            </a:r>
            <a:r>
              <a:rPr b="1" i="1" lang="es-ES" sz="4400" spc="-1" strike="noStrike">
                <a:solidFill>
                  <a:srgbClr val="d16349"/>
                </a:solidFill>
                <a:latin typeface="Century Gothic"/>
              </a:rPr>
              <a:t>New Public Manage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20560" y="3578040"/>
            <a:ext cx="72518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                   </a:t>
            </a:r>
            <a:r>
              <a:rPr b="1" lang="es-ES_tradnl" sz="1400" spc="-1" strike="noStrike">
                <a:solidFill>
                  <a:srgbClr val="898989"/>
                </a:solidFill>
                <a:latin typeface="Century Gothic"/>
              </a:rPr>
              <a:t>Curso: Introducción a la </a:t>
            </a:r>
            <a:r>
              <a:rPr b="1" lang="es-ES" sz="1400" spc="-1" strike="noStrike">
                <a:solidFill>
                  <a:srgbClr val="898989"/>
                </a:solidFill>
                <a:latin typeface="Century Gothic"/>
              </a:rPr>
              <a:t>Gestión Pública; Ministerio de Energia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Profesor: José Inostroza, </a:t>
            </a:r>
            <a:r>
              <a:rPr b="0" lang="es-ES_tradnl" sz="1100" spc="-1" strike="noStrike" u="sng">
                <a:solidFill>
                  <a:srgbClr val="00a3d6"/>
                </a:solidFill>
                <a:uFillTx/>
                <a:latin typeface="Century Gothic"/>
                <a:hlinkClick r:id="rId1"/>
              </a:rPr>
              <a:t>jinostro@dii.uchile.cl</a:t>
            </a: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; @jinostro, </a:t>
            </a:r>
            <a:r>
              <a:rPr b="0" lang="es-ES_tradnl" sz="1100" spc="-1" strike="noStrike" u="sng">
                <a:solidFill>
                  <a:srgbClr val="00a3d6"/>
                </a:solidFill>
                <a:uFillTx/>
                <a:latin typeface="Century Gothic"/>
                <a:hlinkClick r:id="rId2"/>
              </a:rPr>
              <a:t>www.sistemaspublicos.c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Moore, Mark: “Gestión Estratégica y Creación de Valor en el Sector Público”. Paidos, 1998.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Kelly, G. y Muers, S., “Creating Public Value. An analytical framework for public service reform”, Strategy Unit, Cabinet Office UK, 2002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9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1892160" y="5300640"/>
            <a:ext cx="5359680" cy="86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Carlos Urriola\Escritorio\My Dropbox\A.3.2 CSP\E. Documentos\Imagenes\Logos\CSP3.bmp"/>
          <p:cNvPicPr/>
          <p:nvPr/>
        </p:nvPicPr>
        <p:blipFill>
          <a:blip r:embed="rId4"/>
          <a:srcRect l="6653" t="0" r="0" b="0"/>
          <a:stretch/>
        </p:blipFill>
        <p:spPr>
          <a:xfrm>
            <a:off x="0" y="0"/>
            <a:ext cx="3529080" cy="90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Carlos Urriola\Escritorio\My Dropbox\A.3.2 CSP\E. Documentos\Imagenes\Logos\CSP3.bmp"/>
          <p:cNvPicPr/>
          <p:nvPr/>
        </p:nvPicPr>
        <p:blipFill>
          <a:blip r:embed="rId5"/>
          <a:stretch/>
        </p:blipFill>
        <p:spPr>
          <a:xfrm>
            <a:off x="7650000" y="5973840"/>
            <a:ext cx="1494000" cy="884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Documents and Settings\Carlos Urriola\Escritorio\My Dropbox\A.3.2 CSP\E. Documentos\Imagenes\Logos\CSP3.bmp"/>
          <p:cNvPicPr/>
          <p:nvPr/>
        </p:nvPicPr>
        <p:blipFill>
          <a:blip r:embed="rId6"/>
          <a:srcRect l="0" t="0" r="6653" b="0"/>
          <a:stretch/>
        </p:blipFill>
        <p:spPr>
          <a:xfrm>
            <a:off x="5516640" y="0"/>
            <a:ext cx="3627360" cy="907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Carlos Urriola\Escritorio\My Dropbox\A.3.2 CSP\E. Documentos\Imagenes\Logos\CSP3.bmp"/>
          <p:cNvPicPr/>
          <p:nvPr/>
        </p:nvPicPr>
        <p:blipFill>
          <a:blip r:embed="rId7"/>
          <a:stretch/>
        </p:blipFill>
        <p:spPr>
          <a:xfrm>
            <a:off x="0" y="5973840"/>
            <a:ext cx="1465200" cy="88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Gothic"/>
              </a:rPr>
              <a:t>¿QUÉ ES EL VALOR PÚBLICO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entury Gothic"/>
            </a:endParaRPr>
          </a:p>
        </p:txBody>
      </p:sp>
      <p:sp>
        <p:nvSpPr>
          <p:cNvPr id="251" name="3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77CB-CB3F-405B-A079-58EBEFCBBF7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3480"/>
            <a:ext cx="9144000" cy="9349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0360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 “ </a:t>
            </a:r>
            <a:r>
              <a:rPr b="1" lang="es-ES" sz="4000" spc="-1" strike="noStrike">
                <a:solidFill>
                  <a:srgbClr val="c00000"/>
                </a:solidFill>
                <a:latin typeface="Calibri"/>
              </a:rPr>
              <a:t>Valor agregad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produce el sector público”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veniente de los  “beneficios percibidos” por (a) ciudadanos/comunidad 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b) usuarios/consumidores /clientes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contando los costos” en los que se incurr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 “Valor Presente”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6772-D301-4F03-BA0F-7853A175423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20680"/>
            <a:ext cx="9144000" cy="9079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os beneficio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ueden darse a nivel d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roductos o servicios  (outputs): Ej .Vacun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mpactos o resultados (outcomes) Ej. Tasa de enfermedad específic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nfianza: (Ejs.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Filtración de info en Banco Central, Caso CORFO/Inverlink,  Crisis sanitarias (ESB/´vaca loca’), Corrupción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755640" indent="-755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Componentes de la </a:t>
            </a:r>
            <a:r>
              <a:rPr b="1" lang="es-CL" sz="3200" spc="-1" strike="noStrike">
                <a:solidFill>
                  <a:srgbClr val="c00000"/>
                </a:solidFill>
                <a:latin typeface="Calibri"/>
              </a:rPr>
              <a:t>Confianza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eficacia/desempeño (aunque causalidad es compleja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integridad, ética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transparencia/sinceridad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B671-4AF4-4759-B1AD-AD49298E85F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524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 los costos, también se refiere a 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stos monetarios y NO monetarios. Ejs. de NO monetarios: 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pérdida de confianza, pérdida de libertad, medidas coercitivas, perdida de intimida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499"/>
              </a:spcBef>
              <a:buClr>
                <a:srgbClr val="00a3d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irectos, Indirectos y de Oportunidad (¿Qué se podría hacer alternativamente con los recursos utilizados?)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CD3-ADE0-4AD1-BD46-3E77635EB08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7812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5238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ambos casos  -beneficios y costos - el criterio para su definición son las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“preferencias públicas”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generadas en procesos colectivos (Ej. ley, grupo de ciudadanos, medios de comunicación)-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también las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“preferencias privadas”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xpresadas por los usuarios/clientes/beneficiarios de los servicios públic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A94E-42F0-43F6-9E42-11495905D6C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  <p:sp>
        <p:nvSpPr>
          <p:cNvPr id="273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081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RIGEN DE LAS PREFERENCIA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76" name="Rectangle 4"/>
          <p:cNvGrpSpPr/>
          <p:nvPr/>
        </p:nvGrpSpPr>
        <p:grpSpPr>
          <a:xfrm>
            <a:off x="5602320" y="2779560"/>
            <a:ext cx="3120840" cy="1756080"/>
            <a:chOff x="5602320" y="2779560"/>
            <a:chExt cx="3120840" cy="1756080"/>
          </a:xfrm>
        </p:grpSpPr>
        <p:pic>
          <p:nvPicPr>
            <p:cNvPr id="277" name="Rectangle 4" descr=""/>
            <p:cNvPicPr/>
            <p:nvPr/>
          </p:nvPicPr>
          <p:blipFill>
            <a:blip r:embed="rId1"/>
            <a:stretch/>
          </p:blipFill>
          <p:spPr>
            <a:xfrm>
              <a:off x="5602320" y="2779560"/>
              <a:ext cx="312084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38680" y="2819520"/>
              <a:ext cx="297180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Valor Púb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Oval 5"/>
          <p:cNvGrpSpPr/>
          <p:nvPr/>
        </p:nvGrpSpPr>
        <p:grpSpPr>
          <a:xfrm>
            <a:off x="407880" y="2505240"/>
            <a:ext cx="2517840" cy="2536560"/>
            <a:chOff x="407880" y="2505240"/>
            <a:chExt cx="2517840" cy="2536560"/>
          </a:xfrm>
        </p:grpSpPr>
        <p:pic>
          <p:nvPicPr>
            <p:cNvPr id="280" name="Oval 5" descr=""/>
            <p:cNvPicPr/>
            <p:nvPr/>
          </p:nvPicPr>
          <p:blipFill>
            <a:blip r:embed="rId2"/>
            <a:stretch/>
          </p:blipFill>
          <p:spPr>
            <a:xfrm>
              <a:off x="407880" y="2505240"/>
              <a:ext cx="251784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82640" y="2889360"/>
              <a:ext cx="1647720" cy="16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Clientes/Usu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Oval 6"/>
          <p:cNvGrpSpPr/>
          <p:nvPr/>
        </p:nvGrpSpPr>
        <p:grpSpPr>
          <a:xfrm>
            <a:off x="3316320" y="2603520"/>
            <a:ext cx="1938240" cy="2444760"/>
            <a:chOff x="3316320" y="2603520"/>
            <a:chExt cx="1938240" cy="2444760"/>
          </a:xfrm>
        </p:grpSpPr>
        <p:pic>
          <p:nvPicPr>
            <p:cNvPr id="283" name="Oval 6" descr=""/>
            <p:cNvPicPr/>
            <p:nvPr/>
          </p:nvPicPr>
          <p:blipFill>
            <a:blip r:embed="rId3"/>
            <a:stretch/>
          </p:blipFill>
          <p:spPr>
            <a:xfrm>
              <a:off x="3316320" y="2603520"/>
              <a:ext cx="193824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611520" y="2975040"/>
              <a:ext cx="127332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Mand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7"/>
          <p:cNvSpPr/>
          <p:nvPr/>
        </p:nvSpPr>
        <p:spPr>
          <a:xfrm>
            <a:off x="518148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3352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2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1A47-3873-4D9E-8518-081EFE67C7F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8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9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64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a3d6"/>
                </a:solidFill>
                <a:latin typeface="Calibri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a3d6"/>
                </a:solidFill>
                <a:latin typeface="Calibri"/>
              </a:rPr>
              <a:t>Valor final NO se define en gabinete, sino por ciudadanos/usuarios/cliente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yores esfuerzos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“procesos de identificación y valoración”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focus group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sejos consultivos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áginas web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municación con las autoridades políticas y representantes de las comunidad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ncuestas de satisfacción de usuarios..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50D5-8CB3-42A4-B3B3-1CF3ADAF0F9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0" dur="1" fill="hold"/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29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29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4" dur="1" fill="hold"/>
                                  <p:tgtEl>
                                    <p:spTgt spid="29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826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ÁMBITOS BÁSICOS D0NDE MEDI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96" name="Rectangle 3"/>
          <p:cNvGrpSpPr/>
          <p:nvPr/>
        </p:nvGrpSpPr>
        <p:grpSpPr>
          <a:xfrm>
            <a:off x="1438200" y="4896000"/>
            <a:ext cx="6499440" cy="1822320"/>
            <a:chOff x="1438200" y="4896000"/>
            <a:chExt cx="6499440" cy="1822320"/>
          </a:xfrm>
        </p:grpSpPr>
        <p:pic>
          <p:nvPicPr>
            <p:cNvPr id="297" name="Rectangle 3" descr=""/>
            <p:cNvPicPr/>
            <p:nvPr/>
          </p:nvPicPr>
          <p:blipFill>
            <a:blip r:embed="rId1"/>
            <a:stretch/>
          </p:blipFill>
          <p:spPr>
            <a:xfrm>
              <a:off x="1438200" y="4896000"/>
              <a:ext cx="64994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560600" y="4941720"/>
              <a:ext cx="610056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5400" spc="-1" strike="noStrike">
                  <a:solidFill>
                    <a:srgbClr val="000000"/>
                  </a:solidFill>
                  <a:latin typeface="Arial"/>
                </a:rPr>
                <a:t>VALOR PÚBLIC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Oval 4"/>
          <p:cNvGrpSpPr/>
          <p:nvPr/>
        </p:nvGrpSpPr>
        <p:grpSpPr>
          <a:xfrm>
            <a:off x="-30240" y="1523880"/>
            <a:ext cx="3443400" cy="2225880"/>
            <a:chOff x="-30240" y="1523880"/>
            <a:chExt cx="3443400" cy="2225880"/>
          </a:xfrm>
        </p:grpSpPr>
        <p:pic>
          <p:nvPicPr>
            <p:cNvPr id="300" name="Oval 4" descr=""/>
            <p:cNvPicPr/>
            <p:nvPr/>
          </p:nvPicPr>
          <p:blipFill>
            <a:blip r:embed="rId2"/>
            <a:stretch/>
          </p:blipFill>
          <p:spPr>
            <a:xfrm>
              <a:off x="-30240" y="1523880"/>
              <a:ext cx="344340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76280" y="1863720"/>
              <a:ext cx="229536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ODUCTOS/SERVIC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Oval 5"/>
          <p:cNvGrpSpPr/>
          <p:nvPr/>
        </p:nvGrpSpPr>
        <p:grpSpPr>
          <a:xfrm>
            <a:off x="3316320" y="1523880"/>
            <a:ext cx="3035160" cy="2225880"/>
            <a:chOff x="3316320" y="1523880"/>
            <a:chExt cx="3035160" cy="2225880"/>
          </a:xfrm>
        </p:grpSpPr>
        <p:pic>
          <p:nvPicPr>
            <p:cNvPr id="303" name="Oval 5" descr=""/>
            <p:cNvPicPr/>
            <p:nvPr/>
          </p:nvPicPr>
          <p:blipFill>
            <a:blip r:embed="rId3"/>
            <a:stretch/>
          </p:blipFill>
          <p:spPr>
            <a:xfrm>
              <a:off x="3316320" y="1523880"/>
              <a:ext cx="30351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773520" y="1863720"/>
              <a:ext cx="204948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Oval 6"/>
          <p:cNvGrpSpPr/>
          <p:nvPr/>
        </p:nvGrpSpPr>
        <p:grpSpPr>
          <a:xfrm>
            <a:off x="6351480" y="1414440"/>
            <a:ext cx="2792520" cy="2408400"/>
            <a:chOff x="6351480" y="1414440"/>
            <a:chExt cx="2792520" cy="2408400"/>
          </a:xfrm>
        </p:grpSpPr>
        <p:pic>
          <p:nvPicPr>
            <p:cNvPr id="306" name="Oval 6" descr=""/>
            <p:cNvPicPr/>
            <p:nvPr/>
          </p:nvPicPr>
          <p:blipFill>
            <a:blip r:embed="rId4"/>
            <a:stretch/>
          </p:blipFill>
          <p:spPr>
            <a:xfrm>
              <a:off x="6351480" y="1414440"/>
              <a:ext cx="27925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762600" y="1779480"/>
              <a:ext cx="188604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entury Gothic"/>
                </a:rPr>
                <a:t>CONFIA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Line 7"/>
          <p:cNvSpPr/>
          <p:nvPr/>
        </p:nvSpPr>
        <p:spPr>
          <a:xfrm>
            <a:off x="2195640" y="3789360"/>
            <a:ext cx="936360" cy="86364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 flipH="1">
            <a:off x="4716000" y="3809880"/>
            <a:ext cx="1800" cy="77148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 flipH="1">
            <a:off x="6535800" y="3716280"/>
            <a:ext cx="557280" cy="93672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2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D083-5F26-4EE7-BDBA-A2AD30A6DF5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0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1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0080" y="259920"/>
            <a:ext cx="7150320" cy="1143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ogamente a como ocurre en el sector privado se podría hacer un esfuerzo de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estimación en un periodo futuro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traerlo a valor presente</a:t>
            </a:r>
            <a:r>
              <a:rPr b="1" lang="es-ES" sz="2400" spc="-1" strike="noStrike">
                <a:solidFill>
                  <a:srgbClr val="00a3d6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¿Cuánto vale una organización pública?= flujo de beneficios-costos, a valor presen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muchos casos, los beneficios y costos, no pueden ser medidos monetariamente, pero es intrínseco a esta aproximación generar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esfuerzos crecientes</a:t>
            </a:r>
            <a:r>
              <a:rPr b="1" lang="es-ES" sz="2400" spc="-1" strike="noStrike">
                <a:solidFill>
                  <a:srgbClr val="00a3d6"/>
                </a:solidFill>
                <a:latin typeface="Calibri"/>
              </a:rPr>
              <a:t> de cuantific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en aquellos ámbitos donde sea posible. Con el tiempo se crearán indicador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1121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1C1D-D9A7-46E8-886D-341259A8E5C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  <p:sp>
        <p:nvSpPr>
          <p:cNvPr id="318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748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concepto de VP e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análogo al de Valor Privado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: valor para dueños y valor para clientes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ero difiere de manera importante por l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dificultad de la métrica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 El valor público no es completamente reducible a $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demás el VP en rigor debiera considerar el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efecto coordinación y descoordinación interagencia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varios servicios actuando: “una gran empresa”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C24C-9647-48BF-AEE6-201501D4DCF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6" name="AutoShape 4"/>
          <p:cNvGrpSpPr/>
          <p:nvPr/>
        </p:nvGrpSpPr>
        <p:grpSpPr>
          <a:xfrm>
            <a:off x="901800" y="4462560"/>
            <a:ext cx="2421000" cy="1798560"/>
            <a:chOff x="901800" y="4462560"/>
            <a:chExt cx="2421000" cy="1798560"/>
          </a:xfrm>
        </p:grpSpPr>
        <p:pic>
          <p:nvPicPr>
            <p:cNvPr id="197" name="AutoShape 4" descr=""/>
            <p:cNvPicPr/>
            <p:nvPr/>
          </p:nvPicPr>
          <p:blipFill>
            <a:blip r:embed="rId1"/>
            <a:stretch/>
          </p:blipFill>
          <p:spPr>
            <a:xfrm>
              <a:off x="901800" y="4462560"/>
              <a:ext cx="2421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052640" y="4589640"/>
              <a:ext cx="207000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Desmontand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Paradig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AutoShape 5" descr=""/>
          <p:cNvPicPr/>
          <p:nvPr/>
        </p:nvPicPr>
        <p:blipFill>
          <a:blip r:embed="rId2"/>
          <a:stretch/>
        </p:blipFill>
        <p:spPr>
          <a:xfrm>
            <a:off x="3176640" y="3432240"/>
            <a:ext cx="191916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00" name="AutoShape 6"/>
          <p:cNvGrpSpPr/>
          <p:nvPr/>
        </p:nvGrpSpPr>
        <p:grpSpPr>
          <a:xfrm>
            <a:off x="4498920" y="1878120"/>
            <a:ext cx="4243320" cy="2522520"/>
            <a:chOff x="4498920" y="1878120"/>
            <a:chExt cx="4243320" cy="2522520"/>
          </a:xfrm>
        </p:grpSpPr>
        <p:pic>
          <p:nvPicPr>
            <p:cNvPr id="201" name="AutoShape 6" descr=""/>
            <p:cNvPicPr/>
            <p:nvPr/>
          </p:nvPicPr>
          <p:blipFill>
            <a:blip r:embed="rId3"/>
            <a:stretch/>
          </p:blipFill>
          <p:spPr>
            <a:xfrm>
              <a:off x="4498920" y="1878120"/>
              <a:ext cx="4243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687920" y="2033640"/>
              <a:ext cx="38718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Nuevo Enfoque, Nuevo Rol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Creación de Valor Púb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1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1CA5-6F93-4AD4-A70F-8CF65E44522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8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r otra parte, en el caso del VP lo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iudadanos (dueños) son clientes y usuarios también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mbién son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proveedores y empleado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ej. Funcionarios de salud y educación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comunidad de dueños también considera a la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generaciones futura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59EB-280B-4933-9C06-4212151B72F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el sector público el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trato </a:t>
            </a:r>
            <a:r>
              <a:rPr b="1" lang="es-ES" sz="3600" spc="-1" strike="noStrike">
                <a:solidFill>
                  <a:srgbClr val="00a3d6"/>
                </a:solidFill>
                <a:latin typeface="Calibri"/>
              </a:rPr>
              <a:t>equitativo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es muy relevante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. Valoración de los usuarios depende también del trato a otr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El VP es </a:t>
            </a:r>
            <a:r>
              <a:rPr b="1" lang="es-CL" sz="2800" spc="-1" strike="noStrike">
                <a:solidFill>
                  <a:srgbClr val="00a3d6"/>
                </a:solidFill>
                <a:latin typeface="Calibri"/>
              </a:rPr>
              <a:t>más intensivo en demandar cambios en normas sociales y códigos de comportamiento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(COPRODUCCIÓN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conducción bajo alcoho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higiene y prevención (salud públic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lactancia materna y salud infanti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Programas contra la pobrez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BEA4-C46B-4846-B7F1-0C2CC7ED967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3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368360"/>
          </a:xfrm>
          <a:prstGeom prst="rect">
            <a:avLst/>
          </a:prstGeom>
          <a:ln w="0">
            <a:noFill/>
          </a:ln>
        </p:spPr>
      </p:pic>
      <p:sp>
        <p:nvSpPr>
          <p:cNvPr id="334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3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7" dur="1" fill="hold"/>
                                  <p:tgtEl>
                                    <p:spTgt spid="3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3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3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33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623960"/>
            <a:ext cx="7772400" cy="18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La Estrategia Organizativa en el Sector Públic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77880" y="315576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entury Gothic"/>
              </a:rPr>
              <a:t>Enfoque ESTRATEGICO de Creación de Valor Públi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2: “William Ruckelshaus y la Agencia de Protección Ambiental” </a:t>
            </a:r>
            <a:br>
              <a:rPr sz="3200"/>
            </a:b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( Moore, 1998; p 108 y s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Se arman grupos (proyecto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ectura individual (20´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iscusión del caso en grupo (30´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os antecedentes básicos? (actores/intereses/tendencia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 es el valor público asociado a la agencia de la EPA? (aplique conceptos clase pasad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as motivaciones del gobierno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os “desafíos clave” de Ruckleshaus? ¿Cuáles son los “ámbitos donde debe gestionar” R.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as estratégicas que adopta? ¿Qué características/ventajas tiene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Agrega Valor Público la gestión de R., cómo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9A99-F188-4CAB-90EE-E81AEADEB03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44880" y="333360"/>
            <a:ext cx="6999120" cy="13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Modelo Analítico Básico (Mark Moore)</a:t>
            </a: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iagnóstico de la Posició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Estratégica de una Organiza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1763640" y="3068640"/>
            <a:ext cx="2675160" cy="2279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451560" y="1878120"/>
            <a:ext cx="25131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79280" y="1341360"/>
            <a:ext cx="2116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Polí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Super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616800" y="3889440"/>
            <a:ext cx="2376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 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Procesos Sustantivos y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Sistemas de evaluación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RR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331920" y="5888160"/>
            <a:ext cx="4252680" cy="39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V="1">
            <a:off x="1914480" y="3852360"/>
            <a:ext cx="2266920" cy="19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879640" y="2392200"/>
            <a:ext cx="2732040" cy="2189160"/>
            <a:chOff x="2879640" y="2392200"/>
            <a:chExt cx="2732040" cy="2189160"/>
          </a:xfrm>
        </p:grpSpPr>
        <p:sp>
          <p:nvSpPr>
            <p:cNvPr id="351" name="Oval 4"/>
            <p:cNvSpPr/>
            <p:nvPr/>
          </p:nvSpPr>
          <p:spPr>
            <a:xfrm>
              <a:off x="2879640" y="2392200"/>
              <a:ext cx="2732040" cy="218916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4134600" y="278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5"/>
          <p:cNvGrpSpPr/>
          <p:nvPr/>
        </p:nvGrpSpPr>
        <p:grpSpPr>
          <a:xfrm>
            <a:off x="3610080" y="3371760"/>
            <a:ext cx="2917800" cy="1889280"/>
            <a:chOff x="3610080" y="3371760"/>
            <a:chExt cx="2917800" cy="1889280"/>
          </a:xfrm>
        </p:grpSpPr>
        <p:sp>
          <p:nvSpPr>
            <p:cNvPr id="354" name="Oval 5"/>
            <p:cNvSpPr/>
            <p:nvPr/>
          </p:nvSpPr>
          <p:spPr>
            <a:xfrm>
              <a:off x="3610080" y="3371760"/>
              <a:ext cx="2917800" cy="1889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3"/>
            <p:cNvSpPr/>
            <p:nvPr/>
          </p:nvSpPr>
          <p:spPr>
            <a:xfrm>
              <a:off x="5337720" y="424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16"/>
          <p:cNvSpPr/>
          <p:nvPr/>
        </p:nvSpPr>
        <p:spPr>
          <a:xfrm>
            <a:off x="2268360" y="1982880"/>
            <a:ext cx="424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2AF4-CAA8-4D0A-BA96-FEAF6D39C68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6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9246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4D74-1D77-45A6-BB34-4669768415D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0" y="44784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3: Mahoney y el Park 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12880" y="1412640"/>
            <a:ext cx="8331120" cy="21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D</a:t>
            </a: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el análisis anterior, ¿Cómo deben ser las estrategias efectivas en la gestión pública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7 Triángulo isósceles"/>
          <p:cNvGrpSpPr/>
          <p:nvPr/>
        </p:nvGrpSpPr>
        <p:grpSpPr>
          <a:xfrm>
            <a:off x="2352600" y="1755720"/>
            <a:ext cx="4145040" cy="2852640"/>
            <a:chOff x="2352600" y="1755720"/>
            <a:chExt cx="4145040" cy="2852640"/>
          </a:xfrm>
        </p:grpSpPr>
        <p:pic>
          <p:nvPicPr>
            <p:cNvPr id="367" name="7 Triángulo isósceles" descr=""/>
            <p:cNvPicPr/>
            <p:nvPr/>
          </p:nvPicPr>
          <p:blipFill>
            <a:blip r:embed="rId1"/>
            <a:stretch/>
          </p:blipFill>
          <p:spPr>
            <a:xfrm>
              <a:off x="2352600" y="1755720"/>
              <a:ext cx="414504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05240" y="3157560"/>
              <a:ext cx="2016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9 CuadroTexto"/>
          <p:cNvSpPr/>
          <p:nvPr/>
        </p:nvSpPr>
        <p:spPr>
          <a:xfrm>
            <a:off x="108000" y="452592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B) Políticamente Suste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0 CuadroTexto"/>
          <p:cNvSpPr/>
          <p:nvPr/>
        </p:nvSpPr>
        <p:spPr>
          <a:xfrm>
            <a:off x="2700360" y="9255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A) Sustantivamente Val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1 CuadroTexto"/>
          <p:cNvSpPr/>
          <p:nvPr/>
        </p:nvSpPr>
        <p:spPr>
          <a:xfrm>
            <a:off x="6084720" y="3878280"/>
            <a:ext cx="30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C) Técnicamente Fact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2 Flecha curvada hacia la izquierda"/>
          <p:cNvSpPr/>
          <p:nvPr/>
        </p:nvSpPr>
        <p:spPr>
          <a:xfrm>
            <a:off x="4427640" y="3157560"/>
            <a:ext cx="936360" cy="1297080"/>
          </a:xfrm>
          <a:custGeom>
            <a:avLst/>
            <a:gdLst>
              <a:gd name="textAreaLeft" fmla="*/ 125280 w 936360"/>
              <a:gd name="textAreaRight" fmla="*/ 811080 w 936360"/>
              <a:gd name="textAreaTop" fmla="*/ 236520 h 1297080"/>
              <a:gd name="textAreaBottom" fmla="*/ 94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76" stAng="-5400000" swAng="5400000"/>
                <a:lnTo>
                  <a:pt x="21600" y="11775"/>
                </a:lnTo>
                <a:arcTo wR="21600" hR="7876" stAng="0" swAng="3281729"/>
                <a:lnTo>
                  <a:pt x="5400" y="21350"/>
                </a:lnTo>
                <a:lnTo>
                  <a:pt x="0" y="17701"/>
                </a:lnTo>
                <a:lnTo>
                  <a:pt x="5400" y="13551"/>
                </a:lnTo>
                <a:lnTo>
                  <a:pt x="5400" y="15501"/>
                </a:lnTo>
                <a:arcTo wR="21600" hR="7876" stAng="3281729" swAng="-2962412"/>
                <a:lnTo>
                  <a:pt x="20928" y="9825"/>
                </a:lnTo>
                <a:arcTo wR="21600" hR="7876" stAng="-319318" swAng="-5080682"/>
                <a:close/>
              </a:path>
              <a:path fill="darkenLess" w="21600" h="21600">
                <a:moveTo>
                  <a:pt x="0" y="0"/>
                </a:moveTo>
                <a:arcTo wR="21600" hR="7876" stAng="-5400000" swAng="5400000"/>
                <a:lnTo>
                  <a:pt x="21600" y="11775"/>
                </a:lnTo>
                <a:arcTo wR="21600" hR="7876" stAng="0" swAng="-319318"/>
                <a:lnTo>
                  <a:pt x="20928" y="9825"/>
                </a:lnTo>
                <a:arcTo wR="21600" hR="7876" stAng="-319318" swAng="-5080682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5 Flecha curvada hacia abajo"/>
          <p:cNvSpPr/>
          <p:nvPr/>
        </p:nvSpPr>
        <p:spPr>
          <a:xfrm rot="17814000">
            <a:off x="3310560" y="2763000"/>
            <a:ext cx="1527120" cy="852480"/>
          </a:xfrm>
          <a:custGeom>
            <a:avLst/>
            <a:gdLst>
              <a:gd name="textAreaLeft" fmla="*/ 301680 w 1527120"/>
              <a:gd name="textAreaRight" fmla="*/ 1118880 w 1527120"/>
              <a:gd name="textAreaTop" fmla="*/ 114120 h 852480"/>
              <a:gd name="textAreaBottom" fmla="*/ 738360 h 8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1554" y="0"/>
                </a:lnTo>
                <a:arcTo wR="8539" hR="21600" stAng="-5400000" swAng="3411009"/>
                <a:lnTo>
                  <a:pt x="21329" y="16200"/>
                </a:lnTo>
                <a:lnTo>
                  <a:pt x="18586" y="21600"/>
                </a:lnTo>
                <a:lnTo>
                  <a:pt x="15300" y="16200"/>
                </a:lnTo>
                <a:lnTo>
                  <a:pt x="16807" y="16200"/>
                </a:lnTo>
                <a:arcTo wR="8539" hR="21600" stAng="-1988991" swAng="-3167662"/>
                <a:lnTo>
                  <a:pt x="10047" y="339"/>
                </a:lnTo>
                <a:arcTo wR="8539" hR="21600" stAng="-5643347" swAng="-5156653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243347"/>
                <a:lnTo>
                  <a:pt x="10047" y="339"/>
                </a:lnTo>
                <a:arcTo wR="8539" hR="21600" stAng="-5643347" swAng="-5156653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840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Preguntas clave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 es el valor público que la organización genera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 es Visión de la Organización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es son los Valores / Historia e ideas clav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Son la Misión y las metas específicas las adecuada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6D1-A996-44B4-A08F-D67376B207C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tarea central del ejecutivo público e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rear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Valor público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pero ello demanda primero identificar cuál es ese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Valor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....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 ese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Valo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, a diferencia del caso de las organizaciones privadas no necesariamente es unidimensional, no es fácil de medir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de hecho existen serias dificultades traducir las preferencias de los mandantes en un mandato claro e incontrovertible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y por otra parte los clientes o receptores de los “servicios de la organización” tampoco tienen formas simples y directas de manifestar sus preferencias 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 modo que 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ejecutivo público NO tiene alternativa que formular un concepto de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Valor Público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 partir de múltiple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fuentes imperfecta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mandatos estatutarios, técnicas analíticas, consultas a clientes, etc.), entre las cuales el proceso de deliberación política es probablemente la más importante, e ir ajustándolo a través de un proceso de prueba y erro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E6B-D165-4829-A51B-34B23F88286E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1714680"/>
            <a:ext cx="8893080" cy="45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son los hechos básicos?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el problema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fueron las primeras aproximacion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son las restricciones/dificultad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ómo se solucionó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al aprendizaje general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F26C-9BFB-43A8-9FAC-9C5ACD3AB13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0" y="23652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1: Un caso de imaginación (innovación) g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9144000" cy="6872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Pero, hay pistas.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valor público está enraizado en los valores y preferencias de los individu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múltiples preferencias de los ciudadanos son mediadas por el sistema representativ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esa tanto la producción de bienes públicos (orientado a grupos específicos), como el que la producción se haga de manera ordenada, equitativa y confiable (trust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eficiencia y la calidad del servicio son altamente valorada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 deseable la utilización de métodos analíticos para evidenciar la generación de valor ( especialmente ante agentes representativos relevantes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carácter cambiante del mundo demanda capacidad de adaptació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2C39-6B01-4515-BD84-5684077F364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2216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Preguntas clav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32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se perdería si esta organización no existiera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otras formas existen para hacer lo que esta organización hoy día hace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A quién realmente sirvo? (Focalización)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Cuál es la causalidad de la generación de valor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espacios de ganancia en materias de calidad de servicio exist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espacios de ganancia de confianza exist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E001-DD55-4B16-BC73-AA7EE7085F9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entury Gothic"/>
              </a:rPr>
              <a:t>Entorno: Gestión de </a:t>
            </a:r>
            <a:r>
              <a:rPr b="1" i="1" lang="es-ES_tradnl" sz="4800" spc="-1" strike="noStrike">
                <a:solidFill>
                  <a:srgbClr val="000000"/>
                </a:solidFill>
                <a:latin typeface="Century Gothic"/>
              </a:rPr>
              <a:t>Stakeholders</a:t>
            </a:r>
            <a:r>
              <a:rPr b="1" lang="es-ES_tradnl" sz="5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5292720" y="267984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4978080" y="47563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9874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Preguntas clave</a:t>
            </a: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8920" y="1562040"/>
            <a:ext cx="8713800" cy="45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uáles son las implicaciones del estado actual (o cambios anticipados) en el entorno de la organización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afecta el entorno las capacidades de la organización para alcanzar su propósit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Debe la organización adaptar o revisar sus metas y propósito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deben adaptarse las capacidades organizacionales para reflejar los cambios del entorn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debe la organización vincularse con actores externos clave, instituciones y electores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2A1C-80B5-45FF-AF13-83AC1BD1802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428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¿Cuáles  son los roles, posiciones e intereses de los distintos actores (</a:t>
            </a:r>
            <a:r>
              <a:rPr b="1" i="1" lang="es-ES_tradnl" sz="3200" spc="-1" strike="noStrike">
                <a:solidFill>
                  <a:srgbClr val="000000"/>
                </a:solidFill>
                <a:latin typeface="Century Gothic"/>
              </a:rPr>
              <a:t>stakeholders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) y sus implicancia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roveedo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oder legisla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gencias evaluadoras/supervisor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rupos asociados o defenso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rupos de emplead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rens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tros actores influyen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8227-CCE0-41E2-A717-510178B9321F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13716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¿Cuáles son las tendencias actuales y de mediano plazo que pueden afectar a la organización en el futur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1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Tecnologí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Polític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Valores/Cultur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Economí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A432-07BA-4EF7-8021-978CF084FD3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</a:rPr>
              <a:t>El Entorno Político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413" name="Picture 4" descr="j0233018"/>
          <p:cNvPicPr/>
          <p:nvPr/>
        </p:nvPicPr>
        <p:blipFill>
          <a:blip r:embed="rId1"/>
          <a:stretch/>
        </p:blipFill>
        <p:spPr>
          <a:xfrm>
            <a:off x="0" y="5226120"/>
            <a:ext cx="209376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Es necesario hacer </a:t>
            </a:r>
            <a:r>
              <a:rPr b="1" lang="es-ES_tradnl" sz="3600" spc="-1" strike="noStrike">
                <a:solidFill>
                  <a:srgbClr val="d16349"/>
                </a:solidFill>
                <a:latin typeface="Century Gothic"/>
              </a:rPr>
              <a:t>gestión activa 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del entorno político cuando ....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573200"/>
            <a:ext cx="849600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fectúa rendición de cuentas rutinaria (reportes a DIPRES o SEGPRES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necesita apoyo para innovaciones o </a:t>
            </a: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cambio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 lo que implica mostrar que la iniciativa se ajusta a las concepciones de valor público del agente externo respectivo. En general aquí se abre la necesidad de gestionar la activación de grupos de apoyo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requiere alcanzar coordinación interagencia. Ejemplos: CORFO-PYME o CORFO-Prochile. Otro ejemplo reciente: CORFO - Banco del Estado. Coordinación vía un superior, lo que no siempre es posibl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requiere coproducción descentralizada (persuación masiv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B050-823E-457B-B330-452716A4AA9F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477360"/>
            <a:ext cx="9144000" cy="12985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Gestión política se refiere a la tarea de construir apoyo y legitimidad para ciertos propósit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2172960"/>
            <a:ext cx="813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llo involucra construir un clima de tolerancia, apoyo activo o asistencia operativa para un gestor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a política o una estrategia integral entre aquellos que, estando fuera del alcance de la autoridad del ejecutivo, son necesarios para aportar asistencia o proveer de apoyo o autoridad a la iniciativa del directivo públic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D977-75B7-4F06-888A-99430A03997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55000" cy="981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ores Políticos…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jecutivos políticos: aquellos que contratan a los directivos (ministros y subsecretarios, etc.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ervisores legislativ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isterio de Hacienda, Contraloría, SEGPRE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¡¡¡Y LOS ASESORES DE TODOS ELLOS!!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dios de Comunicación: son quienes dibujan la cancha en  la cual la  discusión se va a dar. Ejemplo: CASO Seremi de Educación, Hospital Curepto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Interé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dos Polític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grupos organizados (empresarios, org. de trabajadores, etc.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ibunal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9745-395C-4685-9AAF-B63DB72F04B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6043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el principal supuesto de la doctrina tradicional de las funciones del sector público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0" y="3498840"/>
            <a:ext cx="9144000" cy="2997360"/>
          </a:xfrm>
          <a:prstGeom prst="wedgeRectCallout">
            <a:avLst>
              <a:gd name="adj1" fmla="val -518"/>
              <a:gd name="adj2" fmla="val -776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d16349"/>
                </a:solidFill>
                <a:latin typeface="Arial Black"/>
              </a:rPr>
              <a:t>(1)El funcionario debe hacer lo que está mandatado expresamente por las normas, y esto es siempre muy cl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d16349"/>
                </a:solidFill>
                <a:latin typeface="Arial Black"/>
              </a:rPr>
              <a:t>(2) La Misión es ser fiel al mandato formal y producirlo eficient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74EF-D2E3-4F9F-A8D1-2AA98939C22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</a:rPr>
              <a:t>Técnicas de Gestión Polític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omoción activ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Gestión del Desarrollo de la polític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gociació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liberación pública, aprendizaje social y liderazgo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Marketing y Comunicación Estratégic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230D-D9E7-47B1-887A-F423A5C1E7A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Énfasis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Una organización pública, robusta y con proyecciones, para maximizar el cumplimiento de sus mandatos más nobles, debe necesariamente pasar por una </a:t>
            </a:r>
            <a:r>
              <a:rPr b="1" lang="es-CL" sz="2800" spc="-1" strike="noStrike">
                <a:solidFill>
                  <a:srgbClr val="cc0000"/>
                </a:solidFill>
                <a:latin typeface="Century Gothic"/>
              </a:rPr>
              <a:t>pequeña revolución de enfoque</a:t>
            </a: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pero no como mero formalismo, moda o sistema, herramienta gerencial, sino como </a:t>
            </a:r>
            <a:r>
              <a:rPr b="1" lang="es-CL" sz="2800" spc="-1" strike="noStrike">
                <a:solidFill>
                  <a:srgbClr val="cc0000"/>
                </a:solidFill>
                <a:latin typeface="Century Gothic"/>
              </a:rPr>
              <a:t>ACTITUD y CONCEPTUALIZACIÓN compartida</a:t>
            </a: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 en la comunidad de funcionarios y directivos.</a:t>
            </a:r>
            <a:r>
              <a:rPr b="0" lang="es-C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87E2-7DA0-4420-8FF3-732833320FA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4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9246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Énfasis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Un buen gerente o profesional liderando organizaciones/proyectos debería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INTEGRAR PERMANENTE y CREATIVAMENTE 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estas dimensiones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Una institución pública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EXCELENTE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 se parece más a una institución privada excelente que a una pública mediocre </a:t>
            </a:r>
            <a:r>
              <a:rPr b="1" lang="es-CL" sz="2200" spc="-1" strike="noStrike">
                <a:solidFill>
                  <a:srgbClr val="0070c0"/>
                </a:solidFill>
                <a:latin typeface="Century Gothic"/>
              </a:rPr>
              <a:t>(</a:t>
            </a:r>
            <a:r>
              <a:rPr b="1" i="1" lang="en-US" sz="2000" spc="-1" strike="noStrike">
                <a:solidFill>
                  <a:srgbClr val="0070c0"/>
                </a:solidFill>
                <a:latin typeface="Century Gothic"/>
              </a:rPr>
              <a:t>Collins, J.,  “Good to Great and the Social Sectors”, 2005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En el fondo, una reflexión/acción sistemática con este enfoque contribuye a la </a:t>
            </a: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INNOVACIÓN y MEJORAMIENTO CONTINUO EN LA ORGANIZACIÓN</a:t>
            </a: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, en un proceso AUTOsustentado…(</a:t>
            </a:r>
            <a:r>
              <a:rPr b="1" i="1" lang="en-US" sz="2000" spc="-1" strike="noStrike">
                <a:solidFill>
                  <a:srgbClr val="0070c0"/>
                </a:solidFill>
                <a:latin typeface="Century Gothic"/>
              </a:rPr>
              <a:t>H. Maturana, concepto de Autopoiesis en De Máquinas y Seres Vivos, 1972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El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enfoque NO es un instrumento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, pero contribuye a orientar las definiciones básicas de los instrumentos de gestión (Planificación Estratégica, Control, Procesos, Mejoramiento Continuo, TICs, Análisis de Riesgos…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E87-CA6E-4E2D-94B0-C9ACB017E82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4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24000" y="268200"/>
          <a:ext cx="8640720" cy="6180120"/>
        </p:xfrm>
        <a:graphic>
          <a:graphicData uri="http://schemas.openxmlformats.org/drawingml/2006/table">
            <a:tbl>
              <a:tblPr/>
              <a:tblGrid>
                <a:gridCol w="1800000"/>
                <a:gridCol w="2160720"/>
                <a:gridCol w="2160360"/>
                <a:gridCol w="2519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men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ra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ew Public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Val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Quién define interés/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or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ientes/usuario y la comunidad ciudadana de un modo delibe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Foco de medición de desempe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/Outp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/Outputs/Outcomes…Confianza (cla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Accoun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Administrativo/Político Jerárqu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actualismo/Mecanismos de Mercado/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eriores+énfasis en control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Preferencias de entrega/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ministración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rcado Pri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últi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Valoración Ética de l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brevaloración del Estado/Monopolio de BB Públ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rítico del Estado monopó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ización de lo público y su singularidad, pero no restringido a lo esta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446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1CEF-A28F-4FED-818B-4E8A6DC030D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6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Sistemas Complejos: 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o las falsas seguridades del mecanicismo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¿Qué es un sistema complicad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¿Qué es un sistema complej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La autorganización administrativa pervive con fuerza a las “modernizaciones” ¿Por qué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Ver la complejidad implica ver sistémicamente. Una mirada exclusivamente analítica es ineficaz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Las 10 características de los sistemas complejo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oore rebate una tendencia reduccionista o simplificadora de esta doctrin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Propone un tránsito de un enfoque (A) burocrático a uno (B)  de “emprendedor público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19" name="AutoShape 4"/>
          <p:cNvGrpSpPr/>
          <p:nvPr/>
        </p:nvGrpSpPr>
        <p:grpSpPr>
          <a:xfrm>
            <a:off x="-365040" y="378000"/>
            <a:ext cx="4900680" cy="6499080"/>
            <a:chOff x="-365040" y="378000"/>
            <a:chExt cx="4900680" cy="6499080"/>
          </a:xfrm>
        </p:grpSpPr>
        <p:pic>
          <p:nvPicPr>
            <p:cNvPr id="220" name="AutoShape 4" descr=""/>
            <p:cNvPicPr/>
            <p:nvPr/>
          </p:nvPicPr>
          <p:blipFill>
            <a:blip r:embed="rId1"/>
            <a:stretch/>
          </p:blipFill>
          <p:spPr>
            <a:xfrm>
              <a:off x="-365040" y="378000"/>
              <a:ext cx="4900680" cy="649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80920" y="404640"/>
              <a:ext cx="2413080" cy="57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Enfoqu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descend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5"/>
          <p:cNvGrpSpPr/>
          <p:nvPr/>
        </p:nvGrpSpPr>
        <p:grpSpPr>
          <a:xfrm>
            <a:off x="4102200" y="450720"/>
            <a:ext cx="4822560" cy="6162840"/>
            <a:chOff x="4102200" y="450720"/>
            <a:chExt cx="4822560" cy="6162840"/>
          </a:xfrm>
        </p:grpSpPr>
        <p:pic>
          <p:nvPicPr>
            <p:cNvPr id="223" name="AutoShape 5" descr=""/>
            <p:cNvPicPr/>
            <p:nvPr/>
          </p:nvPicPr>
          <p:blipFill>
            <a:blip r:embed="rId2"/>
            <a:stretch/>
          </p:blipFill>
          <p:spPr>
            <a:xfrm>
              <a:off x="4102200" y="450720"/>
              <a:ext cx="48225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327640" y="1362240"/>
              <a:ext cx="2376360" cy="52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Enfoqu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ascend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E7E2-79A1-46FC-9C5C-95CFD211A36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6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1. Gran Cantidad de Elementos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2.Cantidad de elementos no basta… estos interactúan dinámicamente entre sí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3. Las interacciones son múltiples…como redes neuronales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4.Efectos-estimulos no son lineales. Pequeños estímulos pueden generar grandes efectos sistémicos(!)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5. Normalmente, interacciones son de corto alcance. La cercanía es clave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6. Las interacciones generan retroalimentaciones (amplificaciones o inhibiciones)…las recurrencias son serias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7. Los sistemas complejos son abiertos…interactúan con el entorno (en rigor, todo es un sistema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8. Los sistemas complejos no tienen un equilibrio estático, es dinámico. Mantener el equilibrio implica energía constante…(atención con liderazgo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9. Los sistemas complejos, tienen historia…que explica el presente </a:t>
            </a:r>
            <a:br>
              <a:rPr sz="4400"/>
            </a:b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entury Gothic"/>
              </a:rPr>
              <a:t>path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entury Gothic"/>
              </a:rPr>
              <a:t>dependence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10. Cada parte del sistema es relativamente ignorante de toda la información del sistema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792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RADICION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cribe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ómo deben entende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llevar a cabo su trabajo los funcionarios público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frenta el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riesgo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los directivos públicos conduzcan la administración según intereses distinto a los público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ne énfasis en el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ontrol de procedimientos y la verticalidad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2767-5F24-4CAE-8587-A40A1B79C113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119700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304920" y="2892600"/>
            <a:ext cx="5576760" cy="3127320"/>
            <a:chOff x="304920" y="2892600"/>
            <a:chExt cx="5576760" cy="3127320"/>
          </a:xfrm>
        </p:grpSpPr>
        <p:sp>
          <p:nvSpPr>
            <p:cNvPr id="468" name="Text Box 5"/>
            <p:cNvSpPr/>
            <p:nvPr/>
          </p:nvSpPr>
          <p:spPr>
            <a:xfrm>
              <a:off x="4165560" y="3022560"/>
              <a:ext cx="139392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6"/>
            <p:cNvSpPr/>
            <p:nvPr/>
          </p:nvSpPr>
          <p:spPr>
            <a:xfrm>
              <a:off x="2557440" y="3022560"/>
              <a:ext cx="12859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 flipV="1">
              <a:off x="3738600" y="3543480"/>
              <a:ext cx="534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3308400" y="4325760"/>
              <a:ext cx="12859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36560" y="4325760"/>
              <a:ext cx="224964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26640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1"/>
            <p:cNvSpPr/>
            <p:nvPr/>
          </p:nvSpPr>
          <p:spPr>
            <a:xfrm>
              <a:off x="2878200" y="44560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2"/>
            <p:cNvSpPr/>
            <p:nvPr/>
          </p:nvSpPr>
          <p:spPr>
            <a:xfrm flipV="1">
              <a:off x="437976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3"/>
            <p:cNvSpPr/>
            <p:nvPr/>
          </p:nvSpPr>
          <p:spPr>
            <a:xfrm>
              <a:off x="628560" y="3022560"/>
              <a:ext cx="1611360" cy="914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202104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4916520" y="4325760"/>
              <a:ext cx="85716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 flipH="1">
              <a:off x="4487760" y="471636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37368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148428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9"/>
            <p:cNvSpPr/>
            <p:nvPr/>
          </p:nvSpPr>
          <p:spPr>
            <a:xfrm>
              <a:off x="4137120" y="5369040"/>
              <a:ext cx="1208160" cy="390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0"/>
            <p:cNvSpPr/>
            <p:nvPr/>
          </p:nvSpPr>
          <p:spPr>
            <a:xfrm flipV="1">
              <a:off x="4702320" y="380340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1"/>
            <p:cNvSpPr/>
            <p:nvPr/>
          </p:nvSpPr>
          <p:spPr>
            <a:xfrm>
              <a:off x="3243240" y="3695760"/>
              <a:ext cx="0" cy="18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2"/>
            <p:cNvSpPr/>
            <p:nvPr/>
          </p:nvSpPr>
          <p:spPr>
            <a:xfrm>
              <a:off x="3243240" y="5584680"/>
              <a:ext cx="10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5130720" y="4846680"/>
              <a:ext cx="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4"/>
            <p:cNvSpPr/>
            <p:nvPr/>
          </p:nvSpPr>
          <p:spPr>
            <a:xfrm>
              <a:off x="304920" y="2892600"/>
              <a:ext cx="3646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5"/>
            <p:cNvSpPr/>
            <p:nvPr/>
          </p:nvSpPr>
          <p:spPr>
            <a:xfrm>
              <a:off x="304920" y="2892600"/>
              <a:ext cx="0" cy="31273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 flipV="1">
              <a:off x="3951360" y="2892600"/>
              <a:ext cx="0" cy="11728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>
              <a:off x="304920" y="6019920"/>
              <a:ext cx="55767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H="1">
              <a:off x="3951360" y="406548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 flipV="1">
              <a:off x="5881680" y="4065120"/>
              <a:ext cx="0" cy="1954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0"/>
            <p:cNvSpPr/>
            <p:nvPr/>
          </p:nvSpPr>
          <p:spPr>
            <a:xfrm>
              <a:off x="733320" y="5497560"/>
              <a:ext cx="128772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>
              <a:off x="2343240" y="3152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2"/>
            <p:cNvSpPr/>
            <p:nvPr/>
          </p:nvSpPr>
          <p:spPr>
            <a:xfrm>
              <a:off x="2021040" y="4195800"/>
              <a:ext cx="15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3"/>
            <p:cNvSpPr/>
            <p:nvPr/>
          </p:nvSpPr>
          <p:spPr>
            <a:xfrm>
              <a:off x="352260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33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DDF5-94C2-4F7A-AA35-A3CFAA921DA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3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304920" y="2892240"/>
            <a:ext cx="8578800" cy="3127680"/>
            <a:chOff x="304920" y="2892240"/>
            <a:chExt cx="8578800" cy="3127680"/>
          </a:xfrm>
        </p:grpSpPr>
        <p:sp>
          <p:nvSpPr>
            <p:cNvPr id="503" name="Text Box 5"/>
            <p:cNvSpPr/>
            <p:nvPr/>
          </p:nvSpPr>
          <p:spPr>
            <a:xfrm>
              <a:off x="6053040" y="5294160"/>
              <a:ext cx="278928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PROCESOS Y ESTRATEG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6"/>
            <p:cNvSpPr/>
            <p:nvPr/>
          </p:nvSpPr>
          <p:spPr>
            <a:xfrm>
              <a:off x="4165560" y="3022560"/>
              <a:ext cx="139392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7"/>
            <p:cNvSpPr/>
            <p:nvPr/>
          </p:nvSpPr>
          <p:spPr>
            <a:xfrm>
              <a:off x="2557440" y="3022560"/>
              <a:ext cx="12859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8"/>
            <p:cNvSpPr/>
            <p:nvPr/>
          </p:nvSpPr>
          <p:spPr>
            <a:xfrm flipV="1">
              <a:off x="3738600" y="3543480"/>
              <a:ext cx="534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9"/>
            <p:cNvSpPr/>
            <p:nvPr/>
          </p:nvSpPr>
          <p:spPr>
            <a:xfrm>
              <a:off x="3308400" y="4325760"/>
              <a:ext cx="12859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0"/>
            <p:cNvSpPr/>
            <p:nvPr/>
          </p:nvSpPr>
          <p:spPr>
            <a:xfrm>
              <a:off x="736560" y="4325760"/>
              <a:ext cx="224964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26640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2"/>
            <p:cNvSpPr/>
            <p:nvPr/>
          </p:nvSpPr>
          <p:spPr>
            <a:xfrm>
              <a:off x="2878200" y="44560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 flipV="1">
              <a:off x="437976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4"/>
            <p:cNvSpPr/>
            <p:nvPr/>
          </p:nvSpPr>
          <p:spPr>
            <a:xfrm>
              <a:off x="628560" y="3022560"/>
              <a:ext cx="1611360" cy="914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5"/>
            <p:cNvSpPr/>
            <p:nvPr/>
          </p:nvSpPr>
          <p:spPr>
            <a:xfrm>
              <a:off x="202104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6"/>
            <p:cNvSpPr/>
            <p:nvPr/>
          </p:nvSpPr>
          <p:spPr>
            <a:xfrm>
              <a:off x="5883120" y="3022560"/>
              <a:ext cx="12877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cia de indicadores 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7"/>
            <p:cNvSpPr/>
            <p:nvPr/>
          </p:nvSpPr>
          <p:spPr>
            <a:xfrm>
              <a:off x="7277040" y="3022560"/>
              <a:ext cx="1500120" cy="8193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cesos con-fusos y sistemas desarticul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8"/>
            <p:cNvSpPr/>
            <p:nvPr/>
          </p:nvSpPr>
          <p:spPr>
            <a:xfrm>
              <a:off x="748980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 flipH="1">
              <a:off x="5344920" y="4195800"/>
              <a:ext cx="21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0"/>
            <p:cNvSpPr/>
            <p:nvPr/>
          </p:nvSpPr>
          <p:spPr>
            <a:xfrm flipV="1">
              <a:off x="5345280" y="380340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21"/>
            <p:cNvSpPr/>
            <p:nvPr/>
          </p:nvSpPr>
          <p:spPr>
            <a:xfrm>
              <a:off x="4916520" y="4325760"/>
              <a:ext cx="85716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 flipH="1">
              <a:off x="4487760" y="471636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6203880" y="4325760"/>
              <a:ext cx="23605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usión en su misión, servicios, usuarios y 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4"/>
            <p:cNvSpPr/>
            <p:nvPr/>
          </p:nvSpPr>
          <p:spPr>
            <a:xfrm flipV="1">
              <a:off x="7586640" y="3695400"/>
              <a:ext cx="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5"/>
            <p:cNvSpPr/>
            <p:nvPr/>
          </p:nvSpPr>
          <p:spPr>
            <a:xfrm flipV="1">
              <a:off x="6310440" y="376848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6"/>
            <p:cNvSpPr/>
            <p:nvPr/>
          </p:nvSpPr>
          <p:spPr>
            <a:xfrm flipH="1">
              <a:off x="7061040" y="3413160"/>
              <a:ext cx="32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7"/>
            <p:cNvSpPr/>
            <p:nvPr/>
          </p:nvSpPr>
          <p:spPr>
            <a:xfrm>
              <a:off x="37368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8"/>
            <p:cNvSpPr/>
            <p:nvPr/>
          </p:nvSpPr>
          <p:spPr>
            <a:xfrm>
              <a:off x="148428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4137120" y="5369040"/>
              <a:ext cx="1208160" cy="390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0"/>
            <p:cNvSpPr/>
            <p:nvPr/>
          </p:nvSpPr>
          <p:spPr>
            <a:xfrm flipV="1">
              <a:off x="4702320" y="380340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1"/>
            <p:cNvSpPr/>
            <p:nvPr/>
          </p:nvSpPr>
          <p:spPr>
            <a:xfrm>
              <a:off x="3243240" y="3695760"/>
              <a:ext cx="0" cy="18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2"/>
            <p:cNvSpPr/>
            <p:nvPr/>
          </p:nvSpPr>
          <p:spPr>
            <a:xfrm>
              <a:off x="3243240" y="5584680"/>
              <a:ext cx="10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3"/>
            <p:cNvSpPr/>
            <p:nvPr/>
          </p:nvSpPr>
          <p:spPr>
            <a:xfrm>
              <a:off x="5130720" y="4846680"/>
              <a:ext cx="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4"/>
            <p:cNvSpPr/>
            <p:nvPr/>
          </p:nvSpPr>
          <p:spPr>
            <a:xfrm>
              <a:off x="6095880" y="380376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5"/>
            <p:cNvSpPr/>
            <p:nvPr/>
          </p:nvSpPr>
          <p:spPr>
            <a:xfrm flipH="1">
              <a:off x="5238360" y="549756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6"/>
            <p:cNvSpPr/>
            <p:nvPr/>
          </p:nvSpPr>
          <p:spPr>
            <a:xfrm>
              <a:off x="304920" y="2892600"/>
              <a:ext cx="3646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7"/>
            <p:cNvSpPr/>
            <p:nvPr/>
          </p:nvSpPr>
          <p:spPr>
            <a:xfrm>
              <a:off x="304920" y="2892600"/>
              <a:ext cx="0" cy="31273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8"/>
            <p:cNvSpPr/>
            <p:nvPr/>
          </p:nvSpPr>
          <p:spPr>
            <a:xfrm flipV="1">
              <a:off x="3951360" y="2892600"/>
              <a:ext cx="0" cy="11728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9"/>
            <p:cNvSpPr/>
            <p:nvPr/>
          </p:nvSpPr>
          <p:spPr>
            <a:xfrm>
              <a:off x="304920" y="6019920"/>
              <a:ext cx="55767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0"/>
            <p:cNvSpPr/>
            <p:nvPr/>
          </p:nvSpPr>
          <p:spPr>
            <a:xfrm flipH="1">
              <a:off x="3951360" y="406548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1"/>
            <p:cNvSpPr/>
            <p:nvPr/>
          </p:nvSpPr>
          <p:spPr>
            <a:xfrm flipV="1">
              <a:off x="5881680" y="4065120"/>
              <a:ext cx="0" cy="1954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2"/>
            <p:cNvSpPr/>
            <p:nvPr/>
          </p:nvSpPr>
          <p:spPr>
            <a:xfrm>
              <a:off x="733320" y="5497560"/>
              <a:ext cx="128772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3"/>
            <p:cNvSpPr/>
            <p:nvPr/>
          </p:nvSpPr>
          <p:spPr>
            <a:xfrm flipV="1">
              <a:off x="5987880" y="3935520"/>
              <a:ext cx="0" cy="1954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4"/>
            <p:cNvSpPr/>
            <p:nvPr/>
          </p:nvSpPr>
          <p:spPr>
            <a:xfrm>
              <a:off x="5987880" y="5889600"/>
              <a:ext cx="2895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5"/>
            <p:cNvSpPr/>
            <p:nvPr/>
          </p:nvSpPr>
          <p:spPr>
            <a:xfrm flipV="1">
              <a:off x="8883720" y="2892240"/>
              <a:ext cx="0" cy="2997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6"/>
            <p:cNvSpPr/>
            <p:nvPr/>
          </p:nvSpPr>
          <p:spPr>
            <a:xfrm>
              <a:off x="5773680" y="2892600"/>
              <a:ext cx="3110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47"/>
            <p:cNvSpPr/>
            <p:nvPr/>
          </p:nvSpPr>
          <p:spPr>
            <a:xfrm>
              <a:off x="5773680" y="3935520"/>
              <a:ext cx="214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48"/>
            <p:cNvSpPr/>
            <p:nvPr/>
          </p:nvSpPr>
          <p:spPr>
            <a:xfrm flipV="1">
              <a:off x="5773680" y="2892240"/>
              <a:ext cx="0" cy="1042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49"/>
            <p:cNvSpPr/>
            <p:nvPr/>
          </p:nvSpPr>
          <p:spPr>
            <a:xfrm>
              <a:off x="2343240" y="3152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50"/>
            <p:cNvSpPr/>
            <p:nvPr/>
          </p:nvSpPr>
          <p:spPr>
            <a:xfrm>
              <a:off x="2021040" y="4195800"/>
              <a:ext cx="15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1"/>
            <p:cNvSpPr/>
            <p:nvPr/>
          </p:nvSpPr>
          <p:spPr>
            <a:xfrm>
              <a:off x="352260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52"/>
            <p:cNvSpPr/>
            <p:nvPr/>
          </p:nvSpPr>
          <p:spPr>
            <a:xfrm>
              <a:off x="3092400" y="3768840"/>
              <a:ext cx="3240" cy="14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53"/>
            <p:cNvSpPr/>
            <p:nvPr/>
          </p:nvSpPr>
          <p:spPr>
            <a:xfrm>
              <a:off x="3092400" y="5238720"/>
              <a:ext cx="354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54"/>
            <p:cNvSpPr/>
            <p:nvPr/>
          </p:nvSpPr>
          <p:spPr>
            <a:xfrm flipV="1">
              <a:off x="6632640" y="484632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5"/>
            <p:cNvSpPr/>
            <p:nvPr/>
          </p:nvSpPr>
          <p:spPr>
            <a:xfrm flipH="1">
              <a:off x="5452920" y="354024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5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5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717F-2666-4A15-8997-AAED19D3C69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5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304920" y="1371600"/>
            <a:ext cx="8686800" cy="4648320"/>
            <a:chOff x="304920" y="1371600"/>
            <a:chExt cx="8686800" cy="4648320"/>
          </a:xfrm>
        </p:grpSpPr>
        <p:sp>
          <p:nvSpPr>
            <p:cNvPr id="560" name="Text Box 5"/>
            <p:cNvSpPr/>
            <p:nvPr/>
          </p:nvSpPr>
          <p:spPr>
            <a:xfrm>
              <a:off x="6053400" y="5293440"/>
              <a:ext cx="278820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PROCESOS Y ESTRATEG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6"/>
            <p:cNvSpPr/>
            <p:nvPr/>
          </p:nvSpPr>
          <p:spPr>
            <a:xfrm>
              <a:off x="734040" y="1371600"/>
              <a:ext cx="7935480" cy="13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7"/>
            <p:cNvSpPr/>
            <p:nvPr/>
          </p:nvSpPr>
          <p:spPr>
            <a:xfrm>
              <a:off x="4165560" y="3021840"/>
              <a:ext cx="139428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"/>
            <p:cNvSpPr/>
            <p:nvPr/>
          </p:nvSpPr>
          <p:spPr>
            <a:xfrm>
              <a:off x="1055520" y="1848600"/>
              <a:ext cx="13942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esiones del entorno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2666520" y="1848600"/>
              <a:ext cx="12844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stricciones norm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0"/>
            <p:cNvSpPr/>
            <p:nvPr/>
          </p:nvSpPr>
          <p:spPr>
            <a:xfrm>
              <a:off x="4165560" y="1848600"/>
              <a:ext cx="13942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stricción presupuest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5776560" y="1848600"/>
              <a:ext cx="12844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inanciadores descont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7275960" y="1848600"/>
              <a:ext cx="118152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umores de desprestig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3"/>
            <p:cNvSpPr/>
            <p:nvPr/>
          </p:nvSpPr>
          <p:spPr>
            <a:xfrm flipH="1">
              <a:off x="6954120" y="230544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4"/>
            <p:cNvSpPr/>
            <p:nvPr/>
          </p:nvSpPr>
          <p:spPr>
            <a:xfrm flipH="1">
              <a:off x="5452920" y="224100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5"/>
            <p:cNvSpPr/>
            <p:nvPr/>
          </p:nvSpPr>
          <p:spPr>
            <a:xfrm>
              <a:off x="3843360" y="2370240"/>
              <a:ext cx="42948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2557080" y="3021840"/>
              <a:ext cx="1286280" cy="859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7"/>
            <p:cNvSpPr/>
            <p:nvPr/>
          </p:nvSpPr>
          <p:spPr>
            <a:xfrm>
              <a:off x="2342520" y="224100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8"/>
            <p:cNvSpPr/>
            <p:nvPr/>
          </p:nvSpPr>
          <p:spPr>
            <a:xfrm flipV="1">
              <a:off x="3738960" y="3542760"/>
              <a:ext cx="53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9"/>
            <p:cNvSpPr/>
            <p:nvPr/>
          </p:nvSpPr>
          <p:spPr>
            <a:xfrm>
              <a:off x="3307680" y="4325040"/>
              <a:ext cx="128700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20"/>
            <p:cNvSpPr/>
            <p:nvPr/>
          </p:nvSpPr>
          <p:spPr>
            <a:xfrm>
              <a:off x="735840" y="4325040"/>
              <a:ext cx="224964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>
              <a:off x="2664720" y="367452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2"/>
            <p:cNvSpPr/>
            <p:nvPr/>
          </p:nvSpPr>
          <p:spPr>
            <a:xfrm>
              <a:off x="2878560" y="445644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3"/>
            <p:cNvSpPr/>
            <p:nvPr/>
          </p:nvSpPr>
          <p:spPr>
            <a:xfrm flipV="1">
              <a:off x="438012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24"/>
            <p:cNvSpPr/>
            <p:nvPr/>
          </p:nvSpPr>
          <p:spPr>
            <a:xfrm>
              <a:off x="628560" y="3022920"/>
              <a:ext cx="1611000" cy="913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5"/>
            <p:cNvSpPr/>
            <p:nvPr/>
          </p:nvSpPr>
          <p:spPr>
            <a:xfrm flipV="1">
              <a:off x="1591920" y="276120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6"/>
            <p:cNvSpPr/>
            <p:nvPr/>
          </p:nvSpPr>
          <p:spPr>
            <a:xfrm>
              <a:off x="1591920" y="2761560"/>
              <a:ext cx="30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7"/>
            <p:cNvSpPr/>
            <p:nvPr/>
          </p:nvSpPr>
          <p:spPr>
            <a:xfrm>
              <a:off x="4595040" y="2761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8"/>
            <p:cNvSpPr/>
            <p:nvPr/>
          </p:nvSpPr>
          <p:spPr>
            <a:xfrm flipH="1">
              <a:off x="2019960" y="2418480"/>
              <a:ext cx="857880" cy="73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9"/>
            <p:cNvSpPr/>
            <p:nvPr/>
          </p:nvSpPr>
          <p:spPr>
            <a:xfrm>
              <a:off x="2020320" y="3674520"/>
              <a:ext cx="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30"/>
            <p:cNvSpPr/>
            <p:nvPr/>
          </p:nvSpPr>
          <p:spPr>
            <a:xfrm>
              <a:off x="5884200" y="3022920"/>
              <a:ext cx="1286280" cy="858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cia de indicadores 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31"/>
            <p:cNvSpPr/>
            <p:nvPr/>
          </p:nvSpPr>
          <p:spPr>
            <a:xfrm flipV="1">
              <a:off x="652536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32"/>
            <p:cNvSpPr/>
            <p:nvPr/>
          </p:nvSpPr>
          <p:spPr>
            <a:xfrm>
              <a:off x="7277760" y="3021840"/>
              <a:ext cx="1499040" cy="8190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cesos con-fusos y sistemas desarticul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3"/>
            <p:cNvSpPr/>
            <p:nvPr/>
          </p:nvSpPr>
          <p:spPr>
            <a:xfrm>
              <a:off x="5238000" y="237024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4"/>
            <p:cNvSpPr/>
            <p:nvPr/>
          </p:nvSpPr>
          <p:spPr>
            <a:xfrm>
              <a:off x="7490520" y="3674520"/>
              <a:ext cx="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H="1">
              <a:off x="5345640" y="4195800"/>
              <a:ext cx="214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6"/>
            <p:cNvSpPr/>
            <p:nvPr/>
          </p:nvSpPr>
          <p:spPr>
            <a:xfrm flipV="1">
              <a:off x="5345640" y="380340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7"/>
            <p:cNvSpPr/>
            <p:nvPr/>
          </p:nvSpPr>
          <p:spPr>
            <a:xfrm>
              <a:off x="5238000" y="276156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>
              <a:off x="7704360" y="2761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39"/>
            <p:cNvSpPr/>
            <p:nvPr/>
          </p:nvSpPr>
          <p:spPr>
            <a:xfrm>
              <a:off x="4916160" y="4325040"/>
              <a:ext cx="85752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0"/>
            <p:cNvSpPr/>
            <p:nvPr/>
          </p:nvSpPr>
          <p:spPr>
            <a:xfrm>
              <a:off x="5452920" y="2109960"/>
              <a:ext cx="21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1"/>
            <p:cNvSpPr/>
            <p:nvPr/>
          </p:nvSpPr>
          <p:spPr>
            <a:xfrm>
              <a:off x="5666760" y="2109960"/>
              <a:ext cx="0" cy="23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42"/>
            <p:cNvSpPr/>
            <p:nvPr/>
          </p:nvSpPr>
          <p:spPr>
            <a:xfrm flipH="1">
              <a:off x="4487760" y="471672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43"/>
            <p:cNvSpPr/>
            <p:nvPr/>
          </p:nvSpPr>
          <p:spPr>
            <a:xfrm>
              <a:off x="6203520" y="4325040"/>
              <a:ext cx="236160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usión en su misión, servicios, usuarios y 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44"/>
            <p:cNvSpPr/>
            <p:nvPr/>
          </p:nvSpPr>
          <p:spPr>
            <a:xfrm flipH="1">
              <a:off x="519120" y="2370240"/>
              <a:ext cx="75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45"/>
            <p:cNvSpPr/>
            <p:nvPr/>
          </p:nvSpPr>
          <p:spPr>
            <a:xfrm>
              <a:off x="519480" y="2370240"/>
              <a:ext cx="0" cy="27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6"/>
            <p:cNvSpPr/>
            <p:nvPr/>
          </p:nvSpPr>
          <p:spPr>
            <a:xfrm>
              <a:off x="519480" y="51080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7"/>
            <p:cNvSpPr/>
            <p:nvPr/>
          </p:nvSpPr>
          <p:spPr>
            <a:xfrm flipV="1">
              <a:off x="6310800" y="48466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8"/>
            <p:cNvSpPr/>
            <p:nvPr/>
          </p:nvSpPr>
          <p:spPr>
            <a:xfrm flipV="1">
              <a:off x="7586280" y="3695400"/>
              <a:ext cx="0" cy="72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9"/>
            <p:cNvSpPr/>
            <p:nvPr/>
          </p:nvSpPr>
          <p:spPr>
            <a:xfrm flipV="1">
              <a:off x="6310800" y="376848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50"/>
            <p:cNvSpPr/>
            <p:nvPr/>
          </p:nvSpPr>
          <p:spPr>
            <a:xfrm flipH="1">
              <a:off x="7061040" y="341316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1"/>
            <p:cNvSpPr/>
            <p:nvPr/>
          </p:nvSpPr>
          <p:spPr>
            <a:xfrm>
              <a:off x="3736440" y="367452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52"/>
            <p:cNvSpPr/>
            <p:nvPr/>
          </p:nvSpPr>
          <p:spPr>
            <a:xfrm>
              <a:off x="148464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53"/>
            <p:cNvSpPr/>
            <p:nvPr/>
          </p:nvSpPr>
          <p:spPr>
            <a:xfrm>
              <a:off x="4137120" y="5367960"/>
              <a:ext cx="1208160" cy="391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54"/>
            <p:cNvSpPr/>
            <p:nvPr/>
          </p:nvSpPr>
          <p:spPr>
            <a:xfrm flipV="1">
              <a:off x="4701600" y="3803400"/>
              <a:ext cx="0" cy="16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55"/>
            <p:cNvSpPr/>
            <p:nvPr/>
          </p:nvSpPr>
          <p:spPr>
            <a:xfrm>
              <a:off x="3242880" y="3695760"/>
              <a:ext cx="0" cy="188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56"/>
            <p:cNvSpPr/>
            <p:nvPr/>
          </p:nvSpPr>
          <p:spPr>
            <a:xfrm>
              <a:off x="3242880" y="5583960"/>
              <a:ext cx="10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57"/>
            <p:cNvSpPr/>
            <p:nvPr/>
          </p:nvSpPr>
          <p:spPr>
            <a:xfrm>
              <a:off x="5130720" y="4846680"/>
              <a:ext cx="0" cy="65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8"/>
            <p:cNvSpPr/>
            <p:nvPr/>
          </p:nvSpPr>
          <p:spPr>
            <a:xfrm>
              <a:off x="6096240" y="3803760"/>
              <a:ext cx="0" cy="16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59"/>
            <p:cNvSpPr/>
            <p:nvPr/>
          </p:nvSpPr>
          <p:spPr>
            <a:xfrm flipH="1">
              <a:off x="5237640" y="5498280"/>
              <a:ext cx="8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60"/>
            <p:cNvSpPr/>
            <p:nvPr/>
          </p:nvSpPr>
          <p:spPr>
            <a:xfrm>
              <a:off x="4165560" y="1458000"/>
              <a:ext cx="128700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61"/>
            <p:cNvSpPr/>
            <p:nvPr/>
          </p:nvSpPr>
          <p:spPr>
            <a:xfrm>
              <a:off x="304920" y="2891520"/>
              <a:ext cx="3646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62"/>
            <p:cNvSpPr/>
            <p:nvPr/>
          </p:nvSpPr>
          <p:spPr>
            <a:xfrm>
              <a:off x="304920" y="2891520"/>
              <a:ext cx="0" cy="31280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63"/>
            <p:cNvSpPr/>
            <p:nvPr/>
          </p:nvSpPr>
          <p:spPr>
            <a:xfrm flipV="1">
              <a:off x="3951000" y="2891160"/>
              <a:ext cx="0" cy="1173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4"/>
            <p:cNvSpPr/>
            <p:nvPr/>
          </p:nvSpPr>
          <p:spPr>
            <a:xfrm>
              <a:off x="304920" y="6019920"/>
              <a:ext cx="5576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65"/>
            <p:cNvSpPr/>
            <p:nvPr/>
          </p:nvSpPr>
          <p:spPr>
            <a:xfrm flipH="1">
              <a:off x="3951000" y="406476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66"/>
            <p:cNvSpPr/>
            <p:nvPr/>
          </p:nvSpPr>
          <p:spPr>
            <a:xfrm flipV="1">
              <a:off x="5881320" y="4064760"/>
              <a:ext cx="0" cy="19548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67"/>
            <p:cNvSpPr/>
            <p:nvPr/>
          </p:nvSpPr>
          <p:spPr>
            <a:xfrm>
              <a:off x="734040" y="5498280"/>
              <a:ext cx="128628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68"/>
            <p:cNvSpPr/>
            <p:nvPr/>
          </p:nvSpPr>
          <p:spPr>
            <a:xfrm flipV="1">
              <a:off x="5988600" y="3934800"/>
              <a:ext cx="0" cy="19548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69"/>
            <p:cNvSpPr/>
            <p:nvPr/>
          </p:nvSpPr>
          <p:spPr>
            <a:xfrm>
              <a:off x="5988600" y="5889600"/>
              <a:ext cx="2895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70"/>
            <p:cNvSpPr/>
            <p:nvPr/>
          </p:nvSpPr>
          <p:spPr>
            <a:xfrm flipV="1">
              <a:off x="8884440" y="2891520"/>
              <a:ext cx="0" cy="2998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71"/>
            <p:cNvSpPr/>
            <p:nvPr/>
          </p:nvSpPr>
          <p:spPr>
            <a:xfrm>
              <a:off x="5774040" y="2891520"/>
              <a:ext cx="3110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72"/>
            <p:cNvSpPr/>
            <p:nvPr/>
          </p:nvSpPr>
          <p:spPr>
            <a:xfrm>
              <a:off x="5774040" y="3934800"/>
              <a:ext cx="2145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73"/>
            <p:cNvSpPr/>
            <p:nvPr/>
          </p:nvSpPr>
          <p:spPr>
            <a:xfrm flipV="1">
              <a:off x="5774040" y="2891160"/>
              <a:ext cx="0" cy="1042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74"/>
            <p:cNvSpPr/>
            <p:nvPr/>
          </p:nvSpPr>
          <p:spPr>
            <a:xfrm>
              <a:off x="2342520" y="315288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>
              <a:off x="2020320" y="419580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6"/>
            <p:cNvSpPr/>
            <p:nvPr/>
          </p:nvSpPr>
          <p:spPr>
            <a:xfrm>
              <a:off x="352224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77"/>
            <p:cNvSpPr/>
            <p:nvPr/>
          </p:nvSpPr>
          <p:spPr>
            <a:xfrm flipV="1">
              <a:off x="791928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78"/>
            <p:cNvSpPr/>
            <p:nvPr/>
          </p:nvSpPr>
          <p:spPr>
            <a:xfrm>
              <a:off x="137736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79"/>
            <p:cNvSpPr/>
            <p:nvPr/>
          </p:nvSpPr>
          <p:spPr>
            <a:xfrm>
              <a:off x="5238000" y="5629320"/>
              <a:ext cx="375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80"/>
            <p:cNvSpPr/>
            <p:nvPr/>
          </p:nvSpPr>
          <p:spPr>
            <a:xfrm flipV="1">
              <a:off x="8991720" y="2241000"/>
              <a:ext cx="0" cy="338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81"/>
            <p:cNvSpPr/>
            <p:nvPr/>
          </p:nvSpPr>
          <p:spPr>
            <a:xfrm flipH="1">
              <a:off x="8240760" y="2241000"/>
              <a:ext cx="75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82"/>
            <p:cNvSpPr/>
            <p:nvPr/>
          </p:nvSpPr>
          <p:spPr>
            <a:xfrm>
              <a:off x="3093120" y="3768480"/>
              <a:ext cx="2520" cy="14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83"/>
            <p:cNvSpPr/>
            <p:nvPr/>
          </p:nvSpPr>
          <p:spPr>
            <a:xfrm>
              <a:off x="3093120" y="5238000"/>
              <a:ext cx="35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84"/>
            <p:cNvSpPr/>
            <p:nvPr/>
          </p:nvSpPr>
          <p:spPr>
            <a:xfrm flipV="1">
              <a:off x="6631920" y="484632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85"/>
            <p:cNvSpPr/>
            <p:nvPr/>
          </p:nvSpPr>
          <p:spPr>
            <a:xfrm>
              <a:off x="502344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86"/>
            <p:cNvSpPr/>
            <p:nvPr/>
          </p:nvSpPr>
          <p:spPr>
            <a:xfrm flipH="1">
              <a:off x="5452920" y="354024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86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87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F7BB-F448-495E-AE2A-48CEB70F702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88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Ver la complejidad implica ver sistémicamente. Una mirada exclusivamente analítica es ineficaz para un directivo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Gothic"/>
              </a:rPr>
              <a:t>ANEXO: PAUTA PRÁCTICA DE ANÁLISIS ESTRATÉGICO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entury Gothic"/>
            </a:endParaRPr>
          </a:p>
        </p:txBody>
      </p:sp>
      <p:sp>
        <p:nvSpPr>
          <p:cNvPr id="648" name="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77AE-FC77-44DB-8FB8-5B29CD38928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opósitos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532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6240" indent="-336240">
              <a:spcBef>
                <a:spcPts val="550"/>
              </a:spcBef>
              <a:buClr>
                <a:srgbClr val="cc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 ¿Qué VP entrega la Organización X?;  a su juicio, ¿la hace una diferencia relevante para el país?; ¿es sustantivamente valiosa?, ¿dónde está específicamente la “agregación” de valor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Qué beneficios y costos específicos enfrentan los diversos clientes, comunidad, fiscalizados? , ¿cómo se pueden maximizar o minimiz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ómo agrega valor a nivel de productos/servicios y de impacto final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Qué percepción tienen los clientes, los ciudadano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uál es la agregación de valor de los últimos 6 años?¿Hay “progreso” en la agregación de VP ?, ¿en qué sentido? ¿Hay alguna acción puntual/proceso/ función especialmente destacabl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2CFE-73BB-4D0E-BEFB-4DB27825294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opósitos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04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Debería ajustarse o enfatizarse en algún sentid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Hay alguna línea de desarrollo que agrega más Valo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Hay algún indicador relevante que dé cuenta de la agregación de valor público? (costos, beneficios, tendencias…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Cuál es la causalidad de la generación de valo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Qué espacios de ganancia en materias de calidad de servicio existen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Qué espacios de ganancia en confianza existen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DBC6-F7C5-40B5-9EEF-A43AACC607E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1760" y="549360"/>
            <a:ext cx="79246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¿Qué complejidades/demandas enfrenta la organización X en relación a su entorno/</a:t>
            </a:r>
            <a:r>
              <a:rPr b="1" i="1" lang="es-CL" sz="2200" spc="-1" strike="noStrike">
                <a:solidFill>
                  <a:srgbClr val="cc0000"/>
                </a:solidFill>
                <a:latin typeface="Century Gothic"/>
              </a:rPr>
              <a:t>stakeholders</a:t>
            </a: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 claves?, ¿cómo se debería gestionar dicha situació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Cuáles son los “</a:t>
            </a:r>
            <a:r>
              <a:rPr b="1" i="1" lang="es-CL" sz="2100" spc="-1" strike="noStrike">
                <a:solidFill>
                  <a:srgbClr val="000099"/>
                </a:solidFill>
                <a:latin typeface="Century Gothic"/>
              </a:rPr>
              <a:t>stakeholders clave</a:t>
            </a: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”, más a allá de la ciudadanía,  y qué valor esperan de la organización? ¿Cómo la dicha organización ha sido efectiva en esa agregación de Valor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Ha gestionado la dicha organización suficientemente las Alianzas, y las capacidades externas que requiere para cumplir sus propósitos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Cuenta esta organización con suficiente legitimidad e influencia en su entorno relevante?¿Qué debería hacer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ADE9-EA9E-447D-BC86-2F47816B667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92468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uáles son las implicaciones del estado actual (o cambios anticipados) en el entorno de la organización?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afecta el entorno a las capacidades de la organización para alcanzar su propósit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Debe la organización adaptar o revisar sus metas y propósitos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deben adaptarse las capacidades organizacionales para reflejar los cambios del entorn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debe la organización vincularse con actores externos clave, instituciones y electores?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FA98-0C67-4635-B3E7-92D00CC0290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¿Cuáles son las tendencias actuales y de mediano plazo que pueden afectar a la organización en el futur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Tecnologí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Leyes/Polític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Valores Sociales/Culturales del paí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Cambios sociale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Factores económico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C6D-878C-45D4-8EDD-61EE5F8F620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Supone que los </a:t>
            </a:r>
            <a:r>
              <a:rPr b="1" lang="es-ES" sz="3600" spc="-1" strike="noStrike">
                <a:solidFill>
                  <a:srgbClr val="00a3d6"/>
                </a:solidFill>
                <a:latin typeface="Calibri"/>
              </a:rPr>
              <a:t>propósitos son nítidos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 las pautas normativas (Leyes, discursos o declaraciones de las “autoridades”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fatiza más en l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“administración”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objetivos y procedimientos definidos)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que en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“la gestión”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respuesta a objetivos declarados, procedimientos amplios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165D-D1B5-4334-B15E-EE31E7046776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0" y="333360"/>
            <a:ext cx="9144000" cy="792000"/>
          </a:xfrm>
          <a:prstGeom prst="roundRect">
            <a:avLst>
              <a:gd name="adj" fmla="val 21667"/>
            </a:avLst>
          </a:prstGeom>
          <a:solidFill>
            <a:srgbClr val="ed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Capacida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 ¿Existe  congruencia entre las capacidades de todo tipo (cualitativa y cuantitativamente) con los propósitos de la organización?  (Personas, Sistemas, conocimientos, infraestructura, organización…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Es viable técnica y operativamente el desarrollo de largo plazo de la organización dada las demandas  actuales y las tendencias del entorno que enfrenta?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Se enfrenta algún riesgo intern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uáles son los espacios de capacidades más necesitados de desarroll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F67E-8098-427C-8D60-BC0DFF3ED1C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9001080" cy="40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directivo debe cumplir sus mandatos con eficacia y eficiencia; tiende 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suponer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conocimiento experto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se conocen la respuestas, no requiere participación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ás “burocracia”, menos “emprendimiento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Las fuerzas son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descendentes y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hacia adentro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iende a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abrir reflexión sobre propósito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AAD5-77B5-4CAB-B8A4-3159D8B787C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ark Moo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3668-D031-4B75-9926-391ED9BB4A3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573200" y="2286000"/>
            <a:ext cx="42181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4:25:03Z</dcterms:created>
  <dc:creator>cuc</dc:creator>
  <dc:description/>
  <dc:language>en-US</dc:language>
  <cp:lastModifiedBy>paula</cp:lastModifiedBy>
  <dcterms:modified xsi:type="dcterms:W3CDTF">2012-03-05T13:39:15Z</dcterms:modified>
  <cp:revision>246</cp:revision>
  <dc:subject/>
  <dc:title>Diapositiva 1</dc:title>
</cp:coreProperties>
</file>