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8044-9D4A-4574-9B98-7BBA23F3D28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73B7-5740-450A-B60B-F07052DF2B6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8FA7-C963-4A58-89F3-0F8CD2C68CC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B578-476B-4230-8FBF-364A6E263A2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6037-D49D-4C92-B97B-D7BA28F7BC1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78F0-6243-4419-8FEF-659634BEC64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963F-3318-49EE-B6BB-4105FDB8A96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1CD2-2063-478D-85D7-FCEB343AF27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819F-542B-4A73-BF4E-465D040C626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8F42-3A0D-4944-B557-10BBAE3D7A5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74F8-263E-4AF7-92C3-26910D1D690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1F9B-4297-45DC-B7C9-D0BC240D6C5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17EF-E223-4A4E-A942-3021513663E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2B52-DC99-4080-85E2-B5DDE9761DC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0008-4ED3-4E0F-8356-D231E8E7E16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5A9A-6F0F-421A-B068-AE31757E75F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75B4-4880-4E09-972B-45B722F7239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i.      En síntesis, cuál era el desafío relevante y prioritario de Ruckelshaus.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i.      Identifique el listado de actores, sus intereses  y sus posiciones relativas, que están en el entorno relevante de la EPA y señale cómo  determinan a las definiciones estratégicas.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iii.      ¿Cuáles fueron las amenazas-restricciones y las oportunidades observadas?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iv.      En síntesis, explique cuál fue la estrategia y sus atributos (ventajas, desventajas) de la misma.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v.      ¿Qué ventajas/desventajas desde el punto de vista de los ecologistas, industriales, organización, gobierno?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vi.      ¿Qué otra misión habría usted señalado?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viii.      ¿Qué hizo R. respecto a los siguiente atributos deseables (como señala el texto) de una estrategia en el sector público?)</a:t>
            </a:r>
            <a:br>
              <a:rPr sz="1200"/>
            </a:b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.      Sustantivamente relevante</a:t>
            </a:r>
            <a:br>
              <a:rPr sz="1200"/>
            </a:b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2.      Viable políticamente</a:t>
            </a:r>
            <a:br>
              <a:rPr sz="1200"/>
            </a:b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3.      Operativamente factible y suficientemente cla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8FE6-492E-4D0E-9F51-E531772CF1B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14A3-FDD1-4197-89E5-1A770C38648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1F88-0EC4-4D98-B58E-591E07B52F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E864-5CE2-4A68-827C-08342A6C680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591E-125C-43E2-9AEE-FCC2CD396CE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5D6E-C3DA-4DE4-B1D1-63AC350B4A9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4827-D7C1-4429-B32D-55537CDC412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38F7-878A-48F3-A239-C37C66F57F5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8DA0-43E8-4DBD-847F-F64CF9E4854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D339-6F40-4777-B425-75D12472880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B3F3-800E-481A-9FED-56888935653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A3DD-1FC1-4389-9D8E-6282C825288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5F2B-3ECD-47E9-BE6E-E738B2F5059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FC50-AEF2-49EB-A646-987701D60A9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ABEB-7231-466E-AB44-06382355721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D955-2DC7-4582-BD21-07181FA5F3F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0557-9DAE-4300-97D6-69ABB58CAD9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C35E-6518-44EA-9735-40A44D5E115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7608-B48F-4290-984F-6059C16F6B8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C6F2-D797-4413-A31E-320DA135F10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BD52-B9EE-499B-9B04-385203BAF0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A9DC-6C6E-4EDF-993B-AD3E6DFF5BA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47EB-38A9-459E-8BD5-DC48381923D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9353-EAFE-4A5F-BC1D-FE77EEA43F9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B18D-E1F7-4C93-8531-94CEE11A6A9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5C87-D9CD-4CBC-8AD2-F2D1F380D71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0013-EFA8-4BB9-A0EB-C14905F2520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BDBA-F254-428D-AE81-C9ED83BB322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8E27-694E-4252-83D3-ADA3CB49B26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6BBD-9359-46EC-A479-C3ACA8C2430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171F-9B12-4A34-BFCC-AA9906EDEC3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A76B-22BD-4D1E-A9B0-7EE2123EDCF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6CDD-6738-45B2-9A03-FC2157F5EF2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E733-86F5-4961-9027-C570F288152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382A-BE48-4577-BF39-CC6C5C25468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D8D0-9560-4B53-A413-5749FC55474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067C-79D2-4D84-8CE9-DCB2ADD4665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3ADC-8640-4FC9-AE6D-72EED1C05E3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8991-F79F-4ADF-AA30-3B817BF1AB2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8194-6C84-451D-BAB4-CBA928974B5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1EE1-3E8D-4DB0-AFDB-F78B4DDCC2E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F6B5-D790-4A07-92DC-F1C779D2F76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7913-61DD-49E2-BBAB-6A121343B6A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B9C8-E820-40BA-98E5-C22C5C569CC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FC11-81B3-4311-9969-D385E93A7AE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6948-32D0-49C1-A7B0-8E7FFFCCBE2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9086-8B88-4E9C-9221-EF5816EF6D0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DBAA-4A84-4894-A5E6-9EB65581FC7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9A88-AD9D-4FB6-89F9-1E9B8D624FA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F649-F33A-430B-BF87-8B333296221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7598-5986-4770-88E5-40AA9A1E390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C58D-9AA4-4766-B1BF-D2F48BBC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E19E-2C93-4C96-B770-FE261F21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22E9-5199-49D3-B665-AC931AB2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30E-6A94-447F-BC7F-B5277C15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5127-F9C6-40BE-A707-F3E8F205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87FB-F365-40B5-A69A-BBF91D71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26D2-97D8-4A08-932C-C1242244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91CD-1F67-4F3A-984E-8EB4A0E6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B420-0F72-4F55-8854-9A7DC3CF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CE92-642A-4DBD-BEA8-94552ADF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3835-F889-4461-92E7-9909EEB9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7B6E-FB94-4291-AB4F-671EB7F6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F57A-D6BA-4049-BADF-2008C311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C15A-0635-48DE-85E8-4717AF34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FEFB-220C-4A6D-8AA5-604A0FEE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BBB4-B338-48B6-9AFF-51264ADB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228D-CB4E-4409-A34B-C806BCF5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79690-6537-4073-B3A9-25BC80C3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8FCF8-9571-4DE1-8579-D66F8E3E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51D60-B1C5-4B8D-AB14-97078302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58F20-07F2-4412-8D41-979F5AAF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93686-4B5D-403B-B460-CE1025A8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8CB-38F4-49D6-8E48-6E7405AD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60051-3FE3-4027-9B49-B9E445B9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65E3D-C542-4974-8391-67681780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04F61-3788-4429-A7CC-DD7C8F88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55A6E-73AC-4A13-A89A-AAD2C480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B498C-4116-4EE3-A09C-025B6D76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B6AE3-2FBA-49A6-B24D-9A6CAFC1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E0313-6A31-4D4A-9E17-0C259BB3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9842D-74C2-461A-A5BE-5F4EF133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5DC6B-5477-48AE-8CA2-2DF5D1C8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8D848-775F-4413-AC9F-ED3ED2A7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4E33-0CFA-4F3C-A572-54111DEA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FD776-F505-4F77-B4D9-3213996B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8B7A0-0FB5-4B32-8972-D8D2D771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5111E-D48D-4491-A96F-F854B59B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4EBA9-BD49-448B-BB71-1D21B655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3DD19-1701-4583-A1E2-B4F6A41B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50570-24BB-464D-ADAF-4A31D85F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70220-3ACD-4DBC-BC2B-2D32136E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96BE0-2CAE-41E5-A8F5-60144700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F4C83-263D-41BB-B044-2B2E0B45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9566-E297-487A-AF7A-90901A47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E99F-0D88-4CC5-91C1-E4C32055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BA10-DFFA-4FD9-A893-70C9F65D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B6AE-CD2D-413B-B03D-6333EDCD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3434-B17B-4DAA-AD3E-D9DA1141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Carlos Urriola\Escritorio\My Dropbox\A.3.2 CSP\E. Documentos\Imagenes\Logos\CSP3.bmp"/>
          <p:cNvPicPr/>
          <p:nvPr/>
        </p:nvPicPr>
        <p:blipFill>
          <a:blip r:embed="rId2"/>
          <a:srcRect l="0" t="23605" r="6653" b="0"/>
          <a:stretch/>
        </p:blipFill>
        <p:spPr>
          <a:xfrm>
            <a:off x="5148360" y="0"/>
            <a:ext cx="3995640" cy="73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Carlos Urriola\Escritorio\My Dropbox\A.3.2 CSP\E. Documentos\Imagenes\Logos\CSP-color+bajada.bmp"/>
          <p:cNvPicPr/>
          <p:nvPr/>
        </p:nvPicPr>
        <p:blipFill>
          <a:blip r:embed="rId3"/>
          <a:stretch/>
        </p:blipFill>
        <p:spPr>
          <a:xfrm>
            <a:off x="34920" y="6448320"/>
            <a:ext cx="1838160" cy="297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C:\Documents and Settings\Carlos Urriola\Escritorio\My Dropbox\A.3.2 CSP\E. Documentos\Imagenes\Logos\CSP3.bmp"/>
          <p:cNvPicPr/>
          <p:nvPr/>
        </p:nvPicPr>
        <p:blipFill>
          <a:blip r:embed="rId4"/>
          <a:stretch/>
        </p:blipFill>
        <p:spPr>
          <a:xfrm>
            <a:off x="7650000" y="6237360"/>
            <a:ext cx="1494000" cy="62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771280" y="6381360"/>
            <a:ext cx="1079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4360" y="6381360"/>
            <a:ext cx="1042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4C8C-039B-46C0-A2AF-462797A913A3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C:\Documents and Settings\Carlos Urriola\Escritorio\My Dropbox\A.3.2 CSP\E. Documentos\Imagenes\Logos\CSP3.bmp"/>
          <p:cNvPicPr/>
          <p:nvPr/>
        </p:nvPicPr>
        <p:blipFill>
          <a:blip r:embed="rId2"/>
          <a:srcRect l="0" t="23605" r="6653" b="0"/>
          <a:stretch/>
        </p:blipFill>
        <p:spPr>
          <a:xfrm>
            <a:off x="5148360" y="0"/>
            <a:ext cx="3995640" cy="736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Carlos Urriola\Escritorio\My Dropbox\A.3.2 CSP\E. Documentos\Imagenes\Logos\CSP-color+bajada.bmp"/>
          <p:cNvPicPr/>
          <p:nvPr/>
        </p:nvPicPr>
        <p:blipFill>
          <a:blip r:embed="rId3"/>
          <a:stretch/>
        </p:blipFill>
        <p:spPr>
          <a:xfrm>
            <a:off x="34920" y="6448320"/>
            <a:ext cx="1838160" cy="297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Carlos Urriola\Escritorio\My Dropbox\A.3.2 CSP\E. Documentos\Imagenes\Logos\CSP3.bmp"/>
          <p:cNvPicPr/>
          <p:nvPr/>
        </p:nvPicPr>
        <p:blipFill>
          <a:blip r:embed="rId4"/>
          <a:stretch/>
        </p:blipFill>
        <p:spPr>
          <a:xfrm>
            <a:off x="7650000" y="6237360"/>
            <a:ext cx="1494000" cy="620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Documents and Settings\Carlos Urriola\Escritorio\My Dropbox\A.3.2 CSP\E. Documentos\Imagenes\Logos\CSP-color+bajada.bmp"/>
          <p:cNvPicPr/>
          <p:nvPr/>
        </p:nvPicPr>
        <p:blipFill>
          <a:blip r:embed="rId5"/>
          <a:stretch/>
        </p:blipFill>
        <p:spPr>
          <a:xfrm>
            <a:off x="1892160" y="5300640"/>
            <a:ext cx="5359680" cy="865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Carlos Urriola\Escritorio\My Dropbox\A.3.2 CSP\E. Documentos\Imagenes\Logos\CSP3.bmp"/>
          <p:cNvPicPr/>
          <p:nvPr/>
        </p:nvPicPr>
        <p:blipFill>
          <a:blip r:embed="rId6"/>
          <a:srcRect l="6653" t="0" r="0" b="0"/>
          <a:stretch/>
        </p:blipFill>
        <p:spPr>
          <a:xfrm>
            <a:off x="0" y="0"/>
            <a:ext cx="3529080" cy="907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Carlos Urriola\Escritorio\My Dropbox\A.3.2 CSP\E. Documentos\Imagenes\Logos\CSP3.bmp"/>
          <p:cNvPicPr/>
          <p:nvPr/>
        </p:nvPicPr>
        <p:blipFill>
          <a:blip r:embed="rId7"/>
          <a:srcRect l="0" t="0" r="6653" b="0"/>
          <a:stretch/>
        </p:blipFill>
        <p:spPr>
          <a:xfrm>
            <a:off x="5516640" y="0"/>
            <a:ext cx="3627360" cy="907920"/>
          </a:xfrm>
          <a:prstGeom prst="rect">
            <a:avLst/>
          </a:prstGeom>
          <a:ln w="0">
            <a:noFill/>
          </a:ln>
        </p:spPr>
      </p:pic>
      <p:sp>
        <p:nvSpPr>
          <p:cNvPr id="50" name="9 CuadroTexto"/>
          <p:cNvSpPr/>
          <p:nvPr/>
        </p:nvSpPr>
        <p:spPr>
          <a:xfrm>
            <a:off x="0" y="5934240"/>
            <a:ext cx="1998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0" y="6237360"/>
            <a:ext cx="193680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343320" y="6381720"/>
            <a:ext cx="2457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740360" y="6308640"/>
            <a:ext cx="10429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3C2D-7DE8-4002-933D-C3BF898591D6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C:\Documents and Settings\Carlos Urriola\Escritorio\My Dropbox\A.3.2 CSP\E. Documentos\Imagenes\Logos\CSP3.bmp"/>
          <p:cNvPicPr/>
          <p:nvPr/>
        </p:nvPicPr>
        <p:blipFill>
          <a:blip r:embed="rId2"/>
          <a:srcRect l="0" t="23605" r="6653" b="0"/>
          <a:stretch/>
        </p:blipFill>
        <p:spPr>
          <a:xfrm>
            <a:off x="5148360" y="0"/>
            <a:ext cx="3995640" cy="736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Carlos Urriola\Escritorio\My Dropbox\A.3.2 CSP\E. Documentos\Imagenes\Logos\CSP-color+bajada.bmp"/>
          <p:cNvPicPr/>
          <p:nvPr/>
        </p:nvPicPr>
        <p:blipFill>
          <a:blip r:embed="rId3"/>
          <a:stretch/>
        </p:blipFill>
        <p:spPr>
          <a:xfrm>
            <a:off x="34920" y="6448320"/>
            <a:ext cx="1838160" cy="297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Documents and Settings\Carlos Urriola\Escritorio\My Dropbox\A.3.2 CSP\E. Documentos\Imagenes\Logos\CSP3.bmp"/>
          <p:cNvPicPr/>
          <p:nvPr/>
        </p:nvPicPr>
        <p:blipFill>
          <a:blip r:embed="rId4"/>
          <a:stretch/>
        </p:blipFill>
        <p:spPr>
          <a:xfrm>
            <a:off x="7650000" y="6237360"/>
            <a:ext cx="1494000" cy="620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771280" y="6381360"/>
            <a:ext cx="1008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624360" y="6381360"/>
            <a:ext cx="1042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1A36-E0F9-405C-A3AE-CEC55F69D9AB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C:\Documents and Settings\Carlos Urriola\Escritorio\My Dropbox\A.3.2 CSP\E. Documentos\Imagenes\Logos\CSP3.bmp"/>
          <p:cNvPicPr/>
          <p:nvPr/>
        </p:nvPicPr>
        <p:blipFill>
          <a:blip r:embed="rId2"/>
          <a:srcRect l="0" t="23605" r="6653" b="0"/>
          <a:stretch/>
        </p:blipFill>
        <p:spPr>
          <a:xfrm>
            <a:off x="5148360" y="0"/>
            <a:ext cx="3995640" cy="736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Documents and Settings\Carlos Urriola\Escritorio\My Dropbox\A.3.2 CSP\E. Documentos\Imagenes\Logos\CSP-color+bajada.bmp"/>
          <p:cNvPicPr/>
          <p:nvPr/>
        </p:nvPicPr>
        <p:blipFill>
          <a:blip r:embed="rId3"/>
          <a:stretch/>
        </p:blipFill>
        <p:spPr>
          <a:xfrm>
            <a:off x="34920" y="6448320"/>
            <a:ext cx="1838160" cy="297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C:\Documents and Settings\Carlos Urriola\Escritorio\My Dropbox\A.3.2 CSP\E. Documentos\Imagenes\Logos\CSP3.bmp"/>
          <p:cNvPicPr/>
          <p:nvPr/>
        </p:nvPicPr>
        <p:blipFill>
          <a:blip r:embed="rId4"/>
          <a:stretch/>
        </p:blipFill>
        <p:spPr>
          <a:xfrm>
            <a:off x="7650000" y="6237360"/>
            <a:ext cx="1494000" cy="620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D964-6E69-48D1-9482-72007BC584DE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inostro@dii.uchile.cl" TargetMode="External"/><Relationship Id="rId2" Type="http://schemas.openxmlformats.org/officeDocument/2006/relationships/hyperlink" Target="http://www.sistemaspublicos.cl/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7520" y="1655640"/>
            <a:ext cx="8548560" cy="18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d16349"/>
                </a:solidFill>
                <a:latin typeface="Century Gothic"/>
              </a:rPr>
              <a:t>Enfoque Tradicional, Creación de Valor Público y </a:t>
            </a:r>
            <a:r>
              <a:rPr b="1" i="1" lang="es-ES" sz="4400" spc="-1" strike="noStrike">
                <a:solidFill>
                  <a:srgbClr val="d16349"/>
                </a:solidFill>
                <a:latin typeface="Century Gothic"/>
              </a:rPr>
              <a:t>New Public Managemen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20560" y="3578040"/>
            <a:ext cx="72518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898989"/>
                </a:solidFill>
                <a:latin typeface="Century Gothic"/>
              </a:rPr>
              <a:t>                   </a:t>
            </a:r>
            <a:r>
              <a:rPr b="1" lang="es-ES_tradnl" sz="1400" spc="-1" strike="noStrike">
                <a:solidFill>
                  <a:srgbClr val="898989"/>
                </a:solidFill>
                <a:latin typeface="Century Gothic"/>
              </a:rPr>
              <a:t>Curso: Introducción a la </a:t>
            </a:r>
            <a:r>
              <a:rPr b="1" lang="es-ES" sz="1400" spc="-1" strike="noStrike">
                <a:solidFill>
                  <a:srgbClr val="898989"/>
                </a:solidFill>
                <a:latin typeface="Century Gothic"/>
              </a:rPr>
              <a:t>Gestión Pública; Ministerio de Energia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898989"/>
                </a:solidFill>
                <a:latin typeface="Century Gothic"/>
              </a:rPr>
              <a:t>Profesor: José Inostroza, </a:t>
            </a:r>
            <a:r>
              <a:rPr b="0" lang="es-ES_tradnl" sz="1100" spc="-1" strike="noStrike" u="sng">
                <a:solidFill>
                  <a:srgbClr val="00a3d6"/>
                </a:solidFill>
                <a:uFillTx/>
                <a:latin typeface="Century Gothic"/>
                <a:hlinkClick r:id="rId1"/>
              </a:rPr>
              <a:t>jinostro@dii.uchile.cl</a:t>
            </a:r>
            <a:r>
              <a:rPr b="1" lang="es-ES_tradnl" sz="1100" spc="-1" strike="noStrike">
                <a:solidFill>
                  <a:srgbClr val="898989"/>
                </a:solidFill>
                <a:latin typeface="Century Gothic"/>
              </a:rPr>
              <a:t>; @jinostro, </a:t>
            </a:r>
            <a:r>
              <a:rPr b="0" lang="es-ES_tradnl" sz="1100" spc="-1" strike="noStrike" u="sng">
                <a:solidFill>
                  <a:srgbClr val="00a3d6"/>
                </a:solidFill>
                <a:uFillTx/>
                <a:latin typeface="Century Gothic"/>
                <a:hlinkClick r:id="rId2"/>
              </a:rPr>
              <a:t>www.sistemaspublicos.c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100" spc="-1" strike="noStrike">
                <a:solidFill>
                  <a:srgbClr val="898989"/>
                </a:solidFill>
                <a:latin typeface="Century Gothic"/>
              </a:rPr>
              <a:t>Moore, Mark: “Gestión Estratégica y Creación de Valor en el Sector Público”. Paidos, 1998. 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100" spc="-1" strike="noStrike">
                <a:solidFill>
                  <a:srgbClr val="898989"/>
                </a:solidFill>
                <a:latin typeface="Century Gothic"/>
              </a:rPr>
              <a:t> </a:t>
            </a:r>
            <a:r>
              <a:rPr b="1" i="1" lang="es-ES" sz="1100" spc="-1" strike="noStrike">
                <a:solidFill>
                  <a:srgbClr val="898989"/>
                </a:solidFill>
                <a:latin typeface="Century Gothic"/>
              </a:rPr>
              <a:t>Kelly, G. y Muers, S., “Creating Public Value. An analytical framework for public service reform”, Strategy Unit, Cabinet Office UK, 2002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9" name="Picture 2" descr="C:\Documents and Settings\Carlos Urriola\Escritorio\My Dropbox\A.3.2 CSP\E. Documentos\Imagenes\Logos\CSP-color+bajada.bmp"/>
          <p:cNvPicPr/>
          <p:nvPr/>
        </p:nvPicPr>
        <p:blipFill>
          <a:blip r:embed="rId3"/>
          <a:stretch/>
        </p:blipFill>
        <p:spPr>
          <a:xfrm>
            <a:off x="1892160" y="5300640"/>
            <a:ext cx="5359680" cy="865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C:\Documents and Settings\Carlos Urriola\Escritorio\My Dropbox\A.3.2 CSP\E. Documentos\Imagenes\Logos\CSP3.bmp"/>
          <p:cNvPicPr/>
          <p:nvPr/>
        </p:nvPicPr>
        <p:blipFill>
          <a:blip r:embed="rId4"/>
          <a:srcRect l="6653" t="0" r="0" b="0"/>
          <a:stretch/>
        </p:blipFill>
        <p:spPr>
          <a:xfrm>
            <a:off x="0" y="0"/>
            <a:ext cx="3529080" cy="907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C:\Documents and Settings\Carlos Urriola\Escritorio\My Dropbox\A.3.2 CSP\E. Documentos\Imagenes\Logos\CSP3.bmp"/>
          <p:cNvPicPr/>
          <p:nvPr/>
        </p:nvPicPr>
        <p:blipFill>
          <a:blip r:embed="rId5"/>
          <a:stretch/>
        </p:blipFill>
        <p:spPr>
          <a:xfrm>
            <a:off x="7650000" y="5973840"/>
            <a:ext cx="1494000" cy="884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C:\Documents and Settings\Carlos Urriola\Escritorio\My Dropbox\A.3.2 CSP\E. Documentos\Imagenes\Logos\CSP3.bmp"/>
          <p:cNvPicPr/>
          <p:nvPr/>
        </p:nvPicPr>
        <p:blipFill>
          <a:blip r:embed="rId6"/>
          <a:srcRect l="0" t="0" r="6653" b="0"/>
          <a:stretch/>
        </p:blipFill>
        <p:spPr>
          <a:xfrm>
            <a:off x="5516640" y="0"/>
            <a:ext cx="3627360" cy="907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C:\Documents and Settings\Carlos Urriola\Escritorio\My Dropbox\A.3.2 CSP\E. Documentos\Imagenes\Logos\CSP3.bmp"/>
          <p:cNvPicPr/>
          <p:nvPr/>
        </p:nvPicPr>
        <p:blipFill>
          <a:blip r:embed="rId7"/>
          <a:stretch/>
        </p:blipFill>
        <p:spPr>
          <a:xfrm>
            <a:off x="0" y="5973840"/>
            <a:ext cx="1465200" cy="884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Century Gothic"/>
              </a:rPr>
              <a:t>¿QUÉ ES EL VALOR PÚBLICO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898989"/>
              </a:solidFill>
              <a:latin typeface="Century Gothic"/>
            </a:endParaRPr>
          </a:p>
        </p:txBody>
      </p:sp>
      <p:sp>
        <p:nvSpPr>
          <p:cNvPr id="251" name="3 Marcador de fecha"/>
          <p:cNvSpPr/>
          <p:nvPr/>
        </p:nvSpPr>
        <p:spPr>
          <a:xfrm>
            <a:off x="2771640" y="638172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4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5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4AAD-B5EF-4220-AD3F-5F6C53758BCE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3480"/>
            <a:ext cx="9144000" cy="93492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03600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 “ </a:t>
            </a:r>
            <a:r>
              <a:rPr b="1" lang="es-ES" sz="4000" spc="-1" strike="noStrike">
                <a:solidFill>
                  <a:srgbClr val="c00000"/>
                </a:solidFill>
                <a:latin typeface="Calibri"/>
              </a:rPr>
              <a:t>Valor agregad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que produce el sector público”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990720" indent="-533520">
              <a:lnSpc>
                <a:spcPct val="100000"/>
              </a:lnSpc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roveniente de los  “beneficios percibidos” por (a) ciudadanos/comunidad y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(b) usuarios/consumidores /clientes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990720" indent="-533520" algn="just">
              <a:lnSpc>
                <a:spcPct val="100000"/>
              </a:lnSpc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scontando los costos” en los que se incurr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990720" indent="-533520" algn="just">
              <a:lnSpc>
                <a:spcPct val="100000"/>
              </a:lnSpc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a “Valor Presente”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0438-833F-4CDC-8778-088DA6211A8C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5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7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20680"/>
            <a:ext cx="9144000" cy="90792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755640" indent="-755640" algn="just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Los beneficios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ueden darse a nivel de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1086480" indent="-661320" algn="just">
              <a:lnSpc>
                <a:spcPct val="100000"/>
              </a:lnSpc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roductos o servicios  (outputs): Ej .Vacuna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086480" indent="-661320" algn="just">
              <a:lnSpc>
                <a:spcPct val="100000"/>
              </a:lnSpc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Impactos o resultados (outcomes) Ej. Tasa de enfermedad específica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086480" indent="-661320" algn="just">
              <a:lnSpc>
                <a:spcPct val="100000"/>
              </a:lnSpc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onfianza: (Ejs.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Filtración de info en Banco Central, Caso CORFO/Inverlink,  Crisis sanitarias (ESB/´vaca loca’), Corrupción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755640" indent="-7556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Componentes de la </a:t>
            </a:r>
            <a:r>
              <a:rPr b="1" lang="es-CL" sz="3200" spc="-1" strike="noStrike">
                <a:solidFill>
                  <a:srgbClr val="c00000"/>
                </a:solidFill>
                <a:latin typeface="Calibri"/>
              </a:rPr>
              <a:t>Confianza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1086480" indent="-661320" algn="just">
              <a:lnSpc>
                <a:spcPct val="100000"/>
              </a:lnSpc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Percepción de eficacia/desempeño (aunque causalidad es compleja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086480" indent="-661320" algn="just">
              <a:lnSpc>
                <a:spcPct val="100000"/>
              </a:lnSpc>
              <a:spcBef>
                <a:spcPts val="700"/>
              </a:spcBef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Percepción de integridad, ética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086480" indent="-661320" algn="just">
              <a:lnSpc>
                <a:spcPct val="100000"/>
              </a:lnSpc>
              <a:spcBef>
                <a:spcPts val="700"/>
              </a:spcBef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Percepción de transparencia/sinceridad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782D-072A-4681-8B54-F234D89796B3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85248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n los costos, también se refiere a :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1168560" indent="-711360" algn="just">
              <a:lnSpc>
                <a:spcPct val="120000"/>
              </a:lnSpc>
              <a:spcBef>
                <a:spcPts val="700"/>
              </a:spcBef>
              <a:buClr>
                <a:srgbClr val="00a3d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ostos monetarios y NO monetarios. Ejs. de NO monetarios:  </a:t>
            </a: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pérdida de confianza, pérdida de libertad, medidas coercitivas, perdida de intimida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168560" indent="-711360" algn="just">
              <a:lnSpc>
                <a:spcPct val="120000"/>
              </a:lnSpc>
              <a:spcBef>
                <a:spcPts val="499"/>
              </a:spcBef>
              <a:buClr>
                <a:srgbClr val="00a3d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Directos, Indirectos y de Oportunidad (¿Qué se podría hacer alternativamente con los recursos utilizados?)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52388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78BF-4251-4A2A-9BC3-5343510D54A8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260280"/>
            <a:ext cx="7924680" cy="78120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8000" y="1628280"/>
            <a:ext cx="8820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52388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812880" indent="-812880"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n ambos casos  -beneficios y costos - el criterio para su definición son las </a:t>
            </a:r>
            <a:r>
              <a:rPr b="1" lang="es-ES" sz="2800" spc="-1" strike="noStrike">
                <a:solidFill>
                  <a:srgbClr val="00a3d6"/>
                </a:solidFill>
                <a:latin typeface="Calibri"/>
              </a:rPr>
              <a:t>“preferencias públicas”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generadas en procesos colectivos (Ej. ley, grupo de ciudadanos, medios de comunicación)-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812880" indent="-812880"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y también las </a:t>
            </a:r>
            <a:r>
              <a:rPr b="1" lang="es-ES" sz="2800" spc="-1" strike="noStrike">
                <a:solidFill>
                  <a:srgbClr val="00a3d6"/>
                </a:solidFill>
                <a:latin typeface="Calibri"/>
              </a:rPr>
              <a:t>“preferencias privadas”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expresadas por los usuarios/clientes/beneficiarios de los servicios público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8898-68FA-4E67-89FC-8A2DFA1809E1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j0233018"/>
          <p:cNvPicPr/>
          <p:nvPr/>
        </p:nvPicPr>
        <p:blipFill>
          <a:blip r:embed="rId1"/>
          <a:stretch/>
        </p:blipFill>
        <p:spPr>
          <a:xfrm>
            <a:off x="0" y="260280"/>
            <a:ext cx="2093760" cy="1633680"/>
          </a:xfrm>
          <a:prstGeom prst="rect">
            <a:avLst/>
          </a:prstGeom>
          <a:ln w="0">
            <a:noFill/>
          </a:ln>
        </p:spPr>
      </p:pic>
      <p:sp>
        <p:nvSpPr>
          <p:cNvPr id="273" name="5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6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" dur="1" fill="hold"/>
                                  <p:tgtEl>
                                    <p:spTgt spid="2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70812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ORIGEN DE LAS PREFERENCIA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76" name="Rectangle 4"/>
          <p:cNvGrpSpPr/>
          <p:nvPr/>
        </p:nvGrpSpPr>
        <p:grpSpPr>
          <a:xfrm>
            <a:off x="5602320" y="2779560"/>
            <a:ext cx="3120840" cy="1756080"/>
            <a:chOff x="5602320" y="2779560"/>
            <a:chExt cx="3120840" cy="1756080"/>
          </a:xfrm>
        </p:grpSpPr>
        <p:pic>
          <p:nvPicPr>
            <p:cNvPr id="277" name="Rectangle 4" descr=""/>
            <p:cNvPicPr/>
            <p:nvPr/>
          </p:nvPicPr>
          <p:blipFill>
            <a:blip r:embed="rId1"/>
            <a:stretch/>
          </p:blipFill>
          <p:spPr>
            <a:xfrm>
              <a:off x="5602320" y="2779560"/>
              <a:ext cx="312084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5638680" y="2819520"/>
              <a:ext cx="2971800" cy="16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Valor Públ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Oval 5"/>
          <p:cNvGrpSpPr/>
          <p:nvPr/>
        </p:nvGrpSpPr>
        <p:grpSpPr>
          <a:xfrm>
            <a:off x="407880" y="2505240"/>
            <a:ext cx="2517840" cy="2536560"/>
            <a:chOff x="407880" y="2505240"/>
            <a:chExt cx="2517840" cy="2536560"/>
          </a:xfrm>
        </p:grpSpPr>
        <p:pic>
          <p:nvPicPr>
            <p:cNvPr id="280" name="Oval 5" descr=""/>
            <p:cNvPicPr/>
            <p:nvPr/>
          </p:nvPicPr>
          <p:blipFill>
            <a:blip r:embed="rId2"/>
            <a:stretch/>
          </p:blipFill>
          <p:spPr>
            <a:xfrm>
              <a:off x="407880" y="2505240"/>
              <a:ext cx="2517840" cy="25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82640" y="2889360"/>
              <a:ext cx="1647720" cy="16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Clientes/Usuari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Oval 6"/>
          <p:cNvGrpSpPr/>
          <p:nvPr/>
        </p:nvGrpSpPr>
        <p:grpSpPr>
          <a:xfrm>
            <a:off x="3316320" y="2603520"/>
            <a:ext cx="1938240" cy="2444760"/>
            <a:chOff x="3316320" y="2603520"/>
            <a:chExt cx="1938240" cy="2444760"/>
          </a:xfrm>
        </p:grpSpPr>
        <p:pic>
          <p:nvPicPr>
            <p:cNvPr id="283" name="Oval 6" descr=""/>
            <p:cNvPicPr/>
            <p:nvPr/>
          </p:nvPicPr>
          <p:blipFill>
            <a:blip r:embed="rId3"/>
            <a:stretch/>
          </p:blipFill>
          <p:spPr>
            <a:xfrm>
              <a:off x="3316320" y="2603520"/>
              <a:ext cx="193824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3611520" y="2975040"/>
              <a:ext cx="1273320" cy="16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Comunida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Manda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7"/>
          <p:cNvSpPr/>
          <p:nvPr/>
        </p:nvSpPr>
        <p:spPr>
          <a:xfrm>
            <a:off x="5181480" y="3429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19520" y="33526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12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9AD0-E404-4FFF-96EB-BFC62193E550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8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9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3484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064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just">
              <a:lnSpc>
                <a:spcPct val="100000"/>
              </a:lnSpc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a3d6"/>
                </a:solidFill>
                <a:latin typeface="Calibri"/>
              </a:rPr>
              <a:t>Fuerte componente subjetivo (preferencias)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8128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812880" indent="-8128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a3d6"/>
                </a:solidFill>
                <a:latin typeface="Calibri"/>
              </a:rPr>
              <a:t>Valor final NO se define en gabinete, sino por ciudadanos/usuarios/clientes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8128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812880" indent="-8128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ayores esfuerzos en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“procesos de identificación y valoración”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de preferencias públicas (profundiza la democracia) y las preferencias privada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focus groups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onsejos consultivos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áginas web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omunicación con las autoridades políticas y representantes de las comunidad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ncuestas de satisfacción de usuarios..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CAE6-3CDD-45D1-9CF2-29CDCC55F0A2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29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70" dur="1" fill="hold"/>
                                  <p:tgtEl>
                                    <p:spTgt spid="29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71" dur="1" fill="hold"/>
                                  <p:tgtEl>
                                    <p:spTgt spid="29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72" dur="1" fill="hold"/>
                                  <p:tgtEl>
                                    <p:spTgt spid="29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73" dur="1" fill="hold"/>
                                  <p:tgtEl>
                                    <p:spTgt spid="29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74" dur="1" fill="hold"/>
                                  <p:tgtEl>
                                    <p:spTgt spid="291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8264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ÁMBITOS BÁSICOS D0NDE MEDIR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96" name="Rectangle 3"/>
          <p:cNvGrpSpPr/>
          <p:nvPr/>
        </p:nvGrpSpPr>
        <p:grpSpPr>
          <a:xfrm>
            <a:off x="1438200" y="4896000"/>
            <a:ext cx="6499440" cy="1822320"/>
            <a:chOff x="1438200" y="4896000"/>
            <a:chExt cx="6499440" cy="1822320"/>
          </a:xfrm>
        </p:grpSpPr>
        <p:pic>
          <p:nvPicPr>
            <p:cNvPr id="297" name="Rectangle 3" descr=""/>
            <p:cNvPicPr/>
            <p:nvPr/>
          </p:nvPicPr>
          <p:blipFill>
            <a:blip r:embed="rId1"/>
            <a:stretch/>
          </p:blipFill>
          <p:spPr>
            <a:xfrm>
              <a:off x="1438200" y="4896000"/>
              <a:ext cx="64994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560600" y="4941720"/>
              <a:ext cx="610056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5400" spc="-1" strike="noStrike">
                  <a:solidFill>
                    <a:srgbClr val="000000"/>
                  </a:solidFill>
                  <a:latin typeface="Arial"/>
                </a:rPr>
                <a:t>VALOR PÚBLIC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Oval 4"/>
          <p:cNvGrpSpPr/>
          <p:nvPr/>
        </p:nvGrpSpPr>
        <p:grpSpPr>
          <a:xfrm>
            <a:off x="-30240" y="1523880"/>
            <a:ext cx="3443400" cy="2225880"/>
            <a:chOff x="-30240" y="1523880"/>
            <a:chExt cx="3443400" cy="2225880"/>
          </a:xfrm>
        </p:grpSpPr>
        <p:pic>
          <p:nvPicPr>
            <p:cNvPr id="300" name="Oval 4" descr=""/>
            <p:cNvPicPr/>
            <p:nvPr/>
          </p:nvPicPr>
          <p:blipFill>
            <a:blip r:embed="rId2"/>
            <a:stretch/>
          </p:blipFill>
          <p:spPr>
            <a:xfrm>
              <a:off x="-30240" y="1523880"/>
              <a:ext cx="3443400" cy="22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476280" y="1863720"/>
              <a:ext cx="229536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RODUCTOS/SERVICI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Oval 5"/>
          <p:cNvGrpSpPr/>
          <p:nvPr/>
        </p:nvGrpSpPr>
        <p:grpSpPr>
          <a:xfrm>
            <a:off x="3316320" y="1523880"/>
            <a:ext cx="3035160" cy="2225880"/>
            <a:chOff x="3316320" y="1523880"/>
            <a:chExt cx="3035160" cy="2225880"/>
          </a:xfrm>
        </p:grpSpPr>
        <p:pic>
          <p:nvPicPr>
            <p:cNvPr id="303" name="Oval 5" descr=""/>
            <p:cNvPicPr/>
            <p:nvPr/>
          </p:nvPicPr>
          <p:blipFill>
            <a:blip r:embed="rId3"/>
            <a:stretch/>
          </p:blipFill>
          <p:spPr>
            <a:xfrm>
              <a:off x="3316320" y="1523880"/>
              <a:ext cx="3035160" cy="22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3773520" y="1863720"/>
              <a:ext cx="204948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IMPAC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Oval 6"/>
          <p:cNvGrpSpPr/>
          <p:nvPr/>
        </p:nvGrpSpPr>
        <p:grpSpPr>
          <a:xfrm>
            <a:off x="6351480" y="1414440"/>
            <a:ext cx="2792520" cy="2408400"/>
            <a:chOff x="6351480" y="1414440"/>
            <a:chExt cx="2792520" cy="2408400"/>
          </a:xfrm>
        </p:grpSpPr>
        <p:pic>
          <p:nvPicPr>
            <p:cNvPr id="306" name="Oval 6" descr=""/>
            <p:cNvPicPr/>
            <p:nvPr/>
          </p:nvPicPr>
          <p:blipFill>
            <a:blip r:embed="rId4"/>
            <a:stretch/>
          </p:blipFill>
          <p:spPr>
            <a:xfrm>
              <a:off x="6351480" y="1414440"/>
              <a:ext cx="279252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762600" y="1779480"/>
              <a:ext cx="1886040" cy="160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entury Gothic"/>
                </a:rPr>
                <a:t>CONFIAN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Line 7"/>
          <p:cNvSpPr/>
          <p:nvPr/>
        </p:nvSpPr>
        <p:spPr>
          <a:xfrm>
            <a:off x="2195640" y="3789360"/>
            <a:ext cx="936360" cy="863640"/>
          </a:xfrm>
          <a:prstGeom prst="line">
            <a:avLst/>
          </a:prstGeom>
          <a:ln w="130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8"/>
          <p:cNvSpPr/>
          <p:nvPr/>
        </p:nvSpPr>
        <p:spPr>
          <a:xfrm flipH="1">
            <a:off x="4716000" y="3809880"/>
            <a:ext cx="1800" cy="771480"/>
          </a:xfrm>
          <a:prstGeom prst="line">
            <a:avLst/>
          </a:prstGeom>
          <a:ln w="130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 flipH="1">
            <a:off x="6535800" y="3716280"/>
            <a:ext cx="557280" cy="936720"/>
          </a:xfrm>
          <a:prstGeom prst="line">
            <a:avLst/>
          </a:prstGeom>
          <a:ln w="130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2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DB83-46E0-4C78-BCE5-821D7FE060A5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0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1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30080" y="259920"/>
            <a:ext cx="7150320" cy="114300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RIVADO VS PÚBLIC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8820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nálogamente a como ocurre en el sector privado se podría hacer un esfuerzo de </a:t>
            </a:r>
            <a:r>
              <a:rPr b="1" i="1" lang="es-ES" sz="2400" spc="-1" strike="noStrike">
                <a:solidFill>
                  <a:srgbClr val="00a3d6"/>
                </a:solidFill>
                <a:latin typeface="Calibri"/>
              </a:rPr>
              <a:t>estimación en un periodo futuro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i="1" lang="es-ES" sz="2400" spc="-1" strike="noStrike">
                <a:solidFill>
                  <a:srgbClr val="00a3d6"/>
                </a:solidFill>
                <a:latin typeface="Calibri"/>
              </a:rPr>
              <a:t>traerlo a valor presente</a:t>
            </a:r>
            <a:r>
              <a:rPr b="1" lang="es-ES" sz="2400" spc="-1" strike="noStrike">
                <a:solidFill>
                  <a:srgbClr val="00a3d6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780120" indent="-78012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¿Cuánto vale una organización pública?= flujo de beneficios-costos, a valor present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780120" indent="-78012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n muchos casos, los beneficios y costos, no pueden ser medidos monetariamente, pero es intrínseco a esta aproximación generar </a:t>
            </a:r>
            <a:r>
              <a:rPr b="1" i="1" lang="es-ES" sz="2400" spc="-1" strike="noStrike">
                <a:solidFill>
                  <a:srgbClr val="00a3d6"/>
                </a:solidFill>
                <a:latin typeface="Calibri"/>
              </a:rPr>
              <a:t>esfuerzos crecientes</a:t>
            </a:r>
            <a:r>
              <a:rPr b="1" lang="es-ES" sz="2400" spc="-1" strike="noStrike">
                <a:solidFill>
                  <a:srgbClr val="00a3d6"/>
                </a:solidFill>
                <a:latin typeface="Calibri"/>
              </a:rPr>
              <a:t> de cuantificación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en aquellos ámbitos donde sea posible. Con el tiempo se crearán indicador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1121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1B4D-FA03-42B9-834F-D2A8B6A23787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j0233018"/>
          <p:cNvPicPr/>
          <p:nvPr/>
        </p:nvPicPr>
        <p:blipFill>
          <a:blip r:embed="rId1"/>
          <a:stretch/>
        </p:blipFill>
        <p:spPr>
          <a:xfrm>
            <a:off x="0" y="260280"/>
            <a:ext cx="2093760" cy="1633680"/>
          </a:xfrm>
          <a:prstGeom prst="rect">
            <a:avLst/>
          </a:prstGeom>
          <a:ln w="0">
            <a:noFill/>
          </a:ln>
        </p:spPr>
      </p:pic>
      <p:sp>
        <p:nvSpPr>
          <p:cNvPr id="318" name="5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6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87487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l concepto de VP es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análogo al de Valor Privado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: valor para dueños y valor para clientes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780120" indent="-780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ero difiere de manera importante por la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dificultad de la métrica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. El valor público no es completamente reducible a $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780120" indent="-780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demás el VP en rigor debiera considerar el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efecto coordinación y descoordinación interagencias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(varios servicios actuando: “una gran empresa”)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E60B-8AC7-44D0-BCCB-C06614665151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3484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6" name="AutoShape 4"/>
          <p:cNvGrpSpPr/>
          <p:nvPr/>
        </p:nvGrpSpPr>
        <p:grpSpPr>
          <a:xfrm>
            <a:off x="901800" y="4462560"/>
            <a:ext cx="2421000" cy="1798560"/>
            <a:chOff x="901800" y="4462560"/>
            <a:chExt cx="2421000" cy="1798560"/>
          </a:xfrm>
        </p:grpSpPr>
        <p:pic>
          <p:nvPicPr>
            <p:cNvPr id="197" name="AutoShape 4" descr=""/>
            <p:cNvPicPr/>
            <p:nvPr/>
          </p:nvPicPr>
          <p:blipFill>
            <a:blip r:embed="rId1"/>
            <a:stretch/>
          </p:blipFill>
          <p:spPr>
            <a:xfrm>
              <a:off x="901800" y="4462560"/>
              <a:ext cx="242100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1052640" y="4589640"/>
              <a:ext cx="2070000" cy="14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 Black"/>
                </a:rPr>
                <a:t>Desmontand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 Black"/>
                </a:rPr>
                <a:t>Paradigm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AutoShape 5" descr=""/>
          <p:cNvPicPr/>
          <p:nvPr/>
        </p:nvPicPr>
        <p:blipFill>
          <a:blip r:embed="rId2"/>
          <a:stretch/>
        </p:blipFill>
        <p:spPr>
          <a:xfrm>
            <a:off x="3176640" y="3432240"/>
            <a:ext cx="1919160" cy="1334880"/>
          </a:xfrm>
          <a:prstGeom prst="rect">
            <a:avLst/>
          </a:prstGeom>
          <a:ln w="0">
            <a:noFill/>
          </a:ln>
        </p:spPr>
      </p:pic>
      <p:grpSp>
        <p:nvGrpSpPr>
          <p:cNvPr id="200" name="AutoShape 6"/>
          <p:cNvGrpSpPr/>
          <p:nvPr/>
        </p:nvGrpSpPr>
        <p:grpSpPr>
          <a:xfrm>
            <a:off x="4498920" y="1878120"/>
            <a:ext cx="4243320" cy="2522520"/>
            <a:chOff x="4498920" y="1878120"/>
            <a:chExt cx="4243320" cy="2522520"/>
          </a:xfrm>
        </p:grpSpPr>
        <p:pic>
          <p:nvPicPr>
            <p:cNvPr id="201" name="AutoShape 6" descr=""/>
            <p:cNvPicPr/>
            <p:nvPr/>
          </p:nvPicPr>
          <p:blipFill>
            <a:blip r:embed="rId3"/>
            <a:stretch/>
          </p:blipFill>
          <p:spPr>
            <a:xfrm>
              <a:off x="4498920" y="1878120"/>
              <a:ext cx="424332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687920" y="2033640"/>
              <a:ext cx="387180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 Black"/>
                </a:rPr>
                <a:t>Nuevo Enfoque, Nuevo Rol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 Black"/>
                </a:rPr>
                <a:t>Creación de Valor Públ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18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CCDD-133F-4892-98B6-BE17519602CB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7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8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8496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 algn="just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or otra parte, en el caso del VP los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ciudadanos (dueños) son clientes y usuarios también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780120" indent="-780120" algn="just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ambién son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proveedores y empleados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(ej. Funcionarios de salud y educación)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780120" indent="-780120" algn="just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a comunidad de dueños también considera a las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generaciones futura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780120" indent="0" algn="just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2022-FB08-41F4-9254-28B6085779FC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3484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88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68560" indent="-7113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n el sector público el </a:t>
            </a:r>
            <a:r>
              <a:rPr b="1" lang="es-ES" sz="2800" spc="-1" strike="noStrike">
                <a:solidFill>
                  <a:srgbClr val="00a3d6"/>
                </a:solidFill>
                <a:latin typeface="Calibri"/>
              </a:rPr>
              <a:t>trato </a:t>
            </a:r>
            <a:r>
              <a:rPr b="1" lang="es-ES" sz="3600" spc="-1" strike="noStrike">
                <a:solidFill>
                  <a:srgbClr val="00a3d6"/>
                </a:solidFill>
                <a:latin typeface="Calibri"/>
              </a:rPr>
              <a:t>equitativo </a:t>
            </a:r>
            <a:r>
              <a:rPr b="1" lang="es-ES" sz="2800" spc="-1" strike="noStrike">
                <a:solidFill>
                  <a:srgbClr val="00a3d6"/>
                </a:solidFill>
                <a:latin typeface="Calibri"/>
              </a:rPr>
              <a:t>es muy relevante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. Valoración de los usuarios depende también del trato a otro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El VP es </a:t>
            </a:r>
            <a:r>
              <a:rPr b="1" lang="es-CL" sz="2800" spc="-1" strike="noStrike">
                <a:solidFill>
                  <a:srgbClr val="00a3d6"/>
                </a:solidFill>
                <a:latin typeface="Calibri"/>
              </a:rPr>
              <a:t>más intensivo en demandar cambios en normas sociales y códigos de comportamiento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(COPRODUCCIÓN)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523880" indent="-609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conducción bajo alcoho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523880" indent="-609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higiene y prevención (salud pública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523880" indent="-609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lactancia materna y salud infanti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523880" indent="-609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Programas contra la pobrez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B4EC-780E-49D6-8C9C-98C53A8D6381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686800" cy="83484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33" name="Picture 4" descr="j0233018"/>
          <p:cNvPicPr/>
          <p:nvPr/>
        </p:nvPicPr>
        <p:blipFill>
          <a:blip r:embed="rId1"/>
          <a:stretch/>
        </p:blipFill>
        <p:spPr>
          <a:xfrm>
            <a:off x="0" y="260280"/>
            <a:ext cx="2093760" cy="1368360"/>
          </a:xfrm>
          <a:prstGeom prst="rect">
            <a:avLst/>
          </a:prstGeom>
          <a:ln w="0">
            <a:noFill/>
          </a:ln>
        </p:spPr>
      </p:pic>
      <p:sp>
        <p:nvSpPr>
          <p:cNvPr id="334" name="5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6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" dur="1" fill="hold"/>
                                  <p:tgtEl>
                                    <p:spTgt spid="3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97" dur="1" fill="hold"/>
                                  <p:tgtEl>
                                    <p:spTgt spid="3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98" dur="1" fill="hold"/>
                                  <p:tgtEl>
                                    <p:spTgt spid="3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99" dur="1" fill="hold"/>
                                  <p:tgtEl>
                                    <p:spTgt spid="33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100" dur="1" fill="hold"/>
                                  <p:tgtEl>
                                    <p:spTgt spid="33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623960"/>
            <a:ext cx="7772400" cy="18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entury Gothic"/>
              </a:rPr>
              <a:t>La Estrategia Organizativa en el Sector Públic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77880" y="315576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99"/>
                </a:solidFill>
                <a:latin typeface="Century Gothic"/>
              </a:rPr>
              <a:t>Enfoque ESTRATEGICO de Creación de Valor Públic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43028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Caso 2: “William Ruckelshaus y la Agencia de Protección Ambiental” </a:t>
            </a:r>
            <a:br>
              <a:rPr sz="3200"/>
            </a:b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( Moore, 1998; p 108 y ss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Se arman grupos (proyectos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Lectura individual (20´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Discusión del caso en grupo (30´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Century Gothic"/>
              </a:rPr>
              <a:t>¿Cuáles son los antecedentes básicos? (actores/intereses/tendencias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Century Gothic"/>
              </a:rPr>
              <a:t>¿Cuál es el valor público asociado a la agencia de la EPA? (aplique conceptos clase pasada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Century Gothic"/>
              </a:rPr>
              <a:t>¿Cuáles son las motivaciones del gobierno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Century Gothic"/>
              </a:rPr>
              <a:t>¿Cuáles son los “desafíos clave” de Ruckleshaus? ¿Cuáles son los “ámbitos donde debe gestionar” R.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Century Gothic"/>
              </a:rPr>
              <a:t>¿Cuáles son las estratégicas que adopta? ¿Qué características/ventajas tiene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Century Gothic"/>
              </a:rPr>
              <a:t>¿Agrega Valor Público la gestión de R., cómo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A7A7-A325-497F-8576-F969E81817D4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7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5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44880" y="333360"/>
            <a:ext cx="6999120" cy="134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994733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Modelo Analítico Básico (Mark Moore)</a:t>
            </a:r>
            <a:br>
              <a:rPr sz="2400"/>
            </a:b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Diagnóstico de la Posición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Estratégica de una Organiza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1763640" y="3068640"/>
            <a:ext cx="2675160" cy="2279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6451560" y="1878120"/>
            <a:ext cx="251316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. Propósito/Va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Va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179280" y="1341360"/>
            <a:ext cx="211608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. Ento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E. Polí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Super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E. Econó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Tecn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6616800" y="3889440"/>
            <a:ext cx="23763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 Capac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Estru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Procesos Sustantivos y de Apo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Sistemas de evaluación y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RRH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Finan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331920" y="5888160"/>
            <a:ext cx="4252680" cy="398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aximizar Valor Público que c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0"/>
          <p:cNvSpPr/>
          <p:nvPr/>
        </p:nvSpPr>
        <p:spPr>
          <a:xfrm flipV="1">
            <a:off x="1914480" y="3852360"/>
            <a:ext cx="2266920" cy="196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4"/>
          <p:cNvGrpSpPr/>
          <p:nvPr/>
        </p:nvGrpSpPr>
        <p:grpSpPr>
          <a:xfrm>
            <a:off x="2879640" y="2392200"/>
            <a:ext cx="2732040" cy="2189160"/>
            <a:chOff x="2879640" y="2392200"/>
            <a:chExt cx="2732040" cy="2189160"/>
          </a:xfrm>
        </p:grpSpPr>
        <p:sp>
          <p:nvSpPr>
            <p:cNvPr id="351" name="Oval 4"/>
            <p:cNvSpPr/>
            <p:nvPr/>
          </p:nvSpPr>
          <p:spPr>
            <a:xfrm>
              <a:off x="2879640" y="2392200"/>
              <a:ext cx="2732040" cy="2189160"/>
            </a:xfrm>
            <a:prstGeom prst="ellipse">
              <a:avLst/>
            </a:prstGeom>
            <a:noFill/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2"/>
            <p:cNvSpPr/>
            <p:nvPr/>
          </p:nvSpPr>
          <p:spPr>
            <a:xfrm>
              <a:off x="4134600" y="2781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15"/>
          <p:cNvGrpSpPr/>
          <p:nvPr/>
        </p:nvGrpSpPr>
        <p:grpSpPr>
          <a:xfrm>
            <a:off x="3610080" y="3371760"/>
            <a:ext cx="2917800" cy="1889280"/>
            <a:chOff x="3610080" y="3371760"/>
            <a:chExt cx="2917800" cy="1889280"/>
          </a:xfrm>
        </p:grpSpPr>
        <p:sp>
          <p:nvSpPr>
            <p:cNvPr id="354" name="Oval 5"/>
            <p:cNvSpPr/>
            <p:nvPr/>
          </p:nvSpPr>
          <p:spPr>
            <a:xfrm>
              <a:off x="3610080" y="3371760"/>
              <a:ext cx="2917800" cy="18892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3"/>
            <p:cNvSpPr/>
            <p:nvPr/>
          </p:nvSpPr>
          <p:spPr>
            <a:xfrm>
              <a:off x="5337720" y="4240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Text Box 16"/>
          <p:cNvSpPr/>
          <p:nvPr/>
        </p:nvSpPr>
        <p:spPr>
          <a:xfrm>
            <a:off x="2268360" y="1982880"/>
            <a:ext cx="42483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18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2FBA-976C-41E8-B01B-9F70FAD9629D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16 Marcador de fecha"/>
          <p:cNvSpPr/>
          <p:nvPr/>
        </p:nvSpPr>
        <p:spPr>
          <a:xfrm>
            <a:off x="2771640" y="638172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17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4000" y="764640"/>
            <a:ext cx="79246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3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76C4-7FD6-4A89-8618-A613E1ED5EF0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"/>
          <p:cNvSpPr/>
          <p:nvPr/>
        </p:nvSpPr>
        <p:spPr>
          <a:xfrm>
            <a:off x="0" y="447840"/>
            <a:ext cx="9144000" cy="143028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Caso 3: Mahoney y el Park Pl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5 Marcador de fecha"/>
          <p:cNvSpPr/>
          <p:nvPr/>
        </p:nvSpPr>
        <p:spPr>
          <a:xfrm>
            <a:off x="2771640" y="638172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6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12880" y="1412640"/>
            <a:ext cx="8331120" cy="21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s-CL" sz="4400" spc="-1" strike="noStrike">
                <a:solidFill>
                  <a:srgbClr val="000000"/>
                </a:solidFill>
                <a:latin typeface="Century Gothic"/>
              </a:rPr>
              <a:t>D</a:t>
            </a: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el análisis anterior, ¿Cómo deben ser las estrategias efectivas en la gestión pública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7 Triángulo isósceles"/>
          <p:cNvGrpSpPr/>
          <p:nvPr/>
        </p:nvGrpSpPr>
        <p:grpSpPr>
          <a:xfrm>
            <a:off x="2352600" y="1755720"/>
            <a:ext cx="4145040" cy="2852640"/>
            <a:chOff x="2352600" y="1755720"/>
            <a:chExt cx="4145040" cy="2852640"/>
          </a:xfrm>
        </p:grpSpPr>
        <p:pic>
          <p:nvPicPr>
            <p:cNvPr id="367" name="7 Triángulo isósceles" descr=""/>
            <p:cNvPicPr/>
            <p:nvPr/>
          </p:nvPicPr>
          <p:blipFill>
            <a:blip r:embed="rId1"/>
            <a:stretch/>
          </p:blipFill>
          <p:spPr>
            <a:xfrm>
              <a:off x="2352600" y="1755720"/>
              <a:ext cx="4145040" cy="28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3405240" y="3157560"/>
              <a:ext cx="201600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9 CuadroTexto"/>
          <p:cNvSpPr/>
          <p:nvPr/>
        </p:nvSpPr>
        <p:spPr>
          <a:xfrm>
            <a:off x="108000" y="4525920"/>
            <a:ext cx="30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Calibri"/>
              </a:rPr>
              <a:t>(B) Políticamente Susten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10 CuadroTexto"/>
          <p:cNvSpPr/>
          <p:nvPr/>
        </p:nvSpPr>
        <p:spPr>
          <a:xfrm>
            <a:off x="2700360" y="92556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Calibri"/>
              </a:rPr>
              <a:t>(A) Sustantivamente Val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11 CuadroTexto"/>
          <p:cNvSpPr/>
          <p:nvPr/>
        </p:nvSpPr>
        <p:spPr>
          <a:xfrm>
            <a:off x="6084720" y="3878280"/>
            <a:ext cx="30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Calibri"/>
              </a:rPr>
              <a:t>(C) Técnicamente Fact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12 Flecha curvada hacia la izquierda"/>
          <p:cNvSpPr/>
          <p:nvPr/>
        </p:nvSpPr>
        <p:spPr>
          <a:xfrm>
            <a:off x="4427640" y="3157560"/>
            <a:ext cx="936360" cy="1297080"/>
          </a:xfrm>
          <a:custGeom>
            <a:avLst/>
            <a:gdLst>
              <a:gd name="textAreaLeft" fmla="*/ 125280 w 936360"/>
              <a:gd name="textAreaRight" fmla="*/ 811080 w 936360"/>
              <a:gd name="textAreaTop" fmla="*/ 236520 h 1297080"/>
              <a:gd name="textAreaBottom" fmla="*/ 9435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76" stAng="-5400000" swAng="5400000"/>
                <a:lnTo>
                  <a:pt x="21600" y="11775"/>
                </a:lnTo>
                <a:arcTo wR="21600" hR="7876" stAng="0" swAng="3281729"/>
                <a:lnTo>
                  <a:pt x="5400" y="21350"/>
                </a:lnTo>
                <a:lnTo>
                  <a:pt x="0" y="17701"/>
                </a:lnTo>
                <a:lnTo>
                  <a:pt x="5400" y="13551"/>
                </a:lnTo>
                <a:lnTo>
                  <a:pt x="5400" y="15501"/>
                </a:lnTo>
                <a:arcTo wR="21600" hR="7876" stAng="3281729" swAng="-2962412"/>
                <a:lnTo>
                  <a:pt x="20928" y="9825"/>
                </a:lnTo>
                <a:arcTo wR="21600" hR="7876" stAng="-319318" swAng="-5080682"/>
                <a:close/>
              </a:path>
              <a:path fill="darkenLess" w="21600" h="21600">
                <a:moveTo>
                  <a:pt x="0" y="0"/>
                </a:moveTo>
                <a:arcTo wR="21600" hR="7876" stAng="-5400000" swAng="5400000"/>
                <a:lnTo>
                  <a:pt x="21600" y="11775"/>
                </a:lnTo>
                <a:arcTo wR="21600" hR="7876" stAng="0" swAng="-319318"/>
                <a:lnTo>
                  <a:pt x="20928" y="9825"/>
                </a:lnTo>
                <a:arcTo wR="21600" hR="7876" stAng="-319318" swAng="-5080682"/>
                <a:close/>
              </a:path>
            </a:pathLst>
          </a:cu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15 Flecha curvada hacia abajo"/>
          <p:cNvSpPr/>
          <p:nvPr/>
        </p:nvSpPr>
        <p:spPr>
          <a:xfrm rot="17814000">
            <a:off x="3310560" y="2763000"/>
            <a:ext cx="1527120" cy="852480"/>
          </a:xfrm>
          <a:custGeom>
            <a:avLst/>
            <a:gdLst>
              <a:gd name="textAreaLeft" fmla="*/ 301680 w 1527120"/>
              <a:gd name="textAreaRight" fmla="*/ 1118880 w 1527120"/>
              <a:gd name="textAreaTop" fmla="*/ 114120 h 852480"/>
              <a:gd name="textAreaBottom" fmla="*/ 738360 h 852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39" hR="21600" stAng="10800000" swAng="5400000"/>
                <a:lnTo>
                  <a:pt x="11554" y="0"/>
                </a:lnTo>
                <a:arcTo wR="8539" hR="21600" stAng="-5400000" swAng="3411009"/>
                <a:lnTo>
                  <a:pt x="21329" y="16200"/>
                </a:lnTo>
                <a:lnTo>
                  <a:pt x="18586" y="21600"/>
                </a:lnTo>
                <a:lnTo>
                  <a:pt x="15300" y="16200"/>
                </a:lnTo>
                <a:lnTo>
                  <a:pt x="16807" y="16200"/>
                </a:lnTo>
                <a:arcTo wR="8539" hR="21600" stAng="-1988991" swAng="-3167662"/>
                <a:lnTo>
                  <a:pt x="10047" y="339"/>
                </a:lnTo>
                <a:arcTo wR="8539" hR="21600" stAng="-5643347" swAng="-5156653"/>
                <a:close/>
              </a:path>
              <a:path fill="darkenLess" w="21600" h="21600">
                <a:moveTo>
                  <a:pt x="0" y="21600"/>
                </a:moveTo>
                <a:arcTo wR="8539" hR="21600" stAng="10800000" swAng="5400000"/>
                <a:lnTo>
                  <a:pt x="8539" y="0"/>
                </a:lnTo>
                <a:arcTo wR="8539" hR="21600" stAng="-5400000" swAng="243347"/>
                <a:lnTo>
                  <a:pt x="10047" y="339"/>
                </a:lnTo>
                <a:arcTo wR="8539" hR="21600" stAng="-5643347" swAng="-5156653"/>
                <a:close/>
              </a:path>
            </a:pathLst>
          </a:cu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8408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Preguntas clave: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44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¿Cuál es el valor público que la organización genera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¿Cuál es Visión de la Organización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¿Cuáles son los Valores / Historia e ideas clave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¿Son la Misión y las metas específicas las adecuadas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9BD2-4A89-44C5-80EB-61598C3B337B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7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5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64072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tarea central del ejecutivo público es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crear 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Valor público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.... pero ello demanda primero identificar cuál es ese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Valor...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....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y ese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Valor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, a diferencia del caso de las organizaciones privadas no necesariamente es unidimensional, no es fácil de medir...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.... de hecho existen serias dificultades traducir las preferencias de los mandantes en un mandato claro e incontrovertible...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.... y por otra parte los clientes o receptores de los “servicios de la organización” tampoco tienen formas simples y directas de manifestar sus preferencias ...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e modo que el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ejecutivo público NO tiene alternativa que formular un concepto de 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Valor Público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 partir de múltiples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fuentes imperfectas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(mandatos estatutarios, técnicas analíticas, consultas a clientes, etc.), entre las cuales el proceso de deliberación política es probablemente la más importante, e ir ajustándolo a través de un proceso de prueba y error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5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B367-0CF1-4A25-B2F0-26C96F3E84DD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4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50560" y="1714680"/>
            <a:ext cx="8893080" cy="45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¿Cuáles son los hechos básicos?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¿Cuál es el problema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¿Cuáles fueron las primeras aproximaciones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¿Cuáles son las restricciones/dificultades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¿Cómo se solucionó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¿Cuál es al aprendizaje general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1DA3-A4F5-4CAC-A565-5257E1FB5025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0" y="236520"/>
            <a:ext cx="9144000" cy="143028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Caso 1: Un caso de imaginación (innovación) gere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5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6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583920"/>
            <a:ext cx="9144000" cy="68724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Pero, hay pistas..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l valor público está enraizado en los valores y preferencias de los individuo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s múltiples preferencias de los ciudadanos son mediadas por el sistema representativo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teresa tanto la producción de bienes públicos (orientado a grupos específicos), como el que la producción se haga de manera ordenada, equitativa y confiable (trust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eficiencia y la calidad del servicio son altamente valorada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 deseable la utilización de métodos analíticos para evidenciar la generación de valor ( especialmente ante agentes representativos relevantes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l carácter cambiante del mundo demanda capacidad de adaptació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5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158B-1ACB-4390-BE2E-FA8F726698C2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72216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entury Gothic"/>
              </a:rPr>
              <a:t>Preguntas clav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532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¿Qué se perdería si esta organización no existiera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¿Qué otras formas existen para hacer lo que esta organización hoy día hace?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¿A quién realmente sirvo? (Focalización)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¿Cuál es la causalidad de la generación de valor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¿Qué espacios de ganancia en materias de calidad de servicio existe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¿Qué espacios de ganancia de confianza existe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CD1C-05DD-4E05-A395-F05F3066D354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192320"/>
            <a:ext cx="8229600" cy="14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Century Gothic"/>
              </a:rPr>
              <a:t>Entorno: Gestión de </a:t>
            </a:r>
            <a:r>
              <a:rPr b="1" i="1" lang="es-ES_tradnl" sz="4800" spc="-1" strike="noStrike">
                <a:solidFill>
                  <a:srgbClr val="000000"/>
                </a:solidFill>
                <a:latin typeface="Century Gothic"/>
              </a:rPr>
              <a:t>Stakeholders</a:t>
            </a:r>
            <a:r>
              <a:rPr b="1" lang="es-ES_tradnl" sz="5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Oval 3"/>
          <p:cNvSpPr/>
          <p:nvPr/>
        </p:nvSpPr>
        <p:spPr>
          <a:xfrm>
            <a:off x="5292720" y="2679840"/>
            <a:ext cx="182880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4978080" y="47563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alibri"/>
              </a:rPr>
              <a:t>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98748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entury Gothic"/>
              </a:rPr>
              <a:t>Preguntas clave</a:t>
            </a: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78920" y="1562040"/>
            <a:ext cx="8713800" cy="453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¿Cuáles son las implicaciones del estado actual (o cambios anticipados) en el entorno de la organización?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¿cómo afecta el entorno las capacidades de la organización para alcanzar su propósito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¿Debe la organización adaptar o revisar sus metas y propósito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¿cómo deben adaptarse las capacidades organizacionales para reflejar los cambios del entorno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¿cómo debe la organización vincularse con actores externos clave, instituciones y electores?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5327-BF86-4D15-919F-E37C1461CAAA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42884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¿Cuáles  son los roles, posiciones e intereses de los distintos actores (</a:t>
            </a:r>
            <a:r>
              <a:rPr b="1" i="1" lang="es-ES_tradnl" sz="3200" spc="-1" strike="noStrike">
                <a:solidFill>
                  <a:srgbClr val="000000"/>
                </a:solidFill>
                <a:latin typeface="Century Gothic"/>
              </a:rPr>
              <a:t>stakeholders</a:t>
            </a: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) y sus implicancias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Client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Proveedor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Poder legislativ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Agencias evaluadoras/supervisora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rupos asociados o defensor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rupos de emplead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Prens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Otros actores influyent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AFFD-E61D-41C0-959A-3FE70ED04474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137160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¿Cuáles son las tendencias actuales y de mediano plazo que pueden afectar a la organización en el futuro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1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Tecnología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Política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Valores/Cultura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Economía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BDF6-6099-4377-80E4-518AE6CBAB99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192320"/>
            <a:ext cx="8229600" cy="148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entury Gothic"/>
              </a:rPr>
              <a:t>El Entorno Político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371600" y="36446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898989"/>
              </a:solidFill>
              <a:latin typeface="Century Gothic"/>
            </a:endParaRPr>
          </a:p>
        </p:txBody>
      </p:sp>
      <p:pic>
        <p:nvPicPr>
          <p:cNvPr id="413" name="Picture 4" descr="j0233018"/>
          <p:cNvPicPr/>
          <p:nvPr/>
        </p:nvPicPr>
        <p:blipFill>
          <a:blip r:embed="rId1"/>
          <a:stretch/>
        </p:blipFill>
        <p:spPr>
          <a:xfrm>
            <a:off x="0" y="5226120"/>
            <a:ext cx="2093760" cy="16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solidFill>
            <a:srgbClr val="edd3b6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Es necesario hacer </a:t>
            </a:r>
            <a:r>
              <a:rPr b="1" lang="es-ES_tradnl" sz="3600" spc="-1" strike="noStrike">
                <a:solidFill>
                  <a:srgbClr val="d16349"/>
                </a:solidFill>
                <a:latin typeface="Century Gothic"/>
              </a:rPr>
              <a:t>gestión activa </a:t>
            </a: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del entorno político cuando ....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24000" y="1573200"/>
            <a:ext cx="8496000" cy="528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efectúa rendición de cuentas rutinaria (reportes a DIPRES o SEGPRES)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e necesita apoyo para innovaciones o </a:t>
            </a:r>
            <a:r>
              <a:rPr b="1" lang="es-CL" sz="2600" spc="-1" strike="noStrike">
                <a:solidFill>
                  <a:srgbClr val="000000"/>
                </a:solidFill>
                <a:latin typeface="Calibri"/>
              </a:rPr>
              <a:t>cambios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: lo que implica mostrar que la iniciativa se ajusta a las concepciones de valor público del agente externo respectivo. En general aquí se abre la necesidad de gestionar la activación de grupos de apoyo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e requiere alcanzar coordinación interagencia. Ejemplos: CORFO-PYME o CORFO-Prochile. Otro ejemplo reciente: CORFO - Banco del Estado. Coordinación vía un superior, lo que no siempre es posible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e requiere coproducción descentralizada (persuación masiv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0122-FD1D-47D4-B1B4-BF773F059D57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477360"/>
            <a:ext cx="9144000" cy="129852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Gestión política se refiere a la tarea de construir apoyo y legitimidad para ciertos propósit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95280" y="2172960"/>
            <a:ext cx="8136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llo involucra construir un clima de tolerancia, apoyo activo o asistencia operativa para un gestor,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na política o una estrategia integral entre aquellos que, estando fuera del alcance de la autoridad del ejecutivo, son necesarios para aportar asistencia o proveer de apoyo o autoridad a la iniciativa del directivo público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244E-217A-43CA-99B4-75B5E2BACC91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955000" cy="98100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ctores Políticos…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56908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jecutivos políticos: aquellos que contratan a los directivos (ministros y subsecretarios, etc.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pervisores legislativo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nisterio de Hacienda, Contraloría, SEGPRES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¡¡¡Y LOS ASESORES DE TODOS ELLOS!!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dios de Comunicación: son quienes dibujan la cancha en  la cual la  discusión se va a dar. Ejemplo: CASO Seremi de Educación, Hospital Curepto…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rupos de Interé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rtidos Político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ros grupos organizados (empresarios, org. de trabajadores, etc.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ibunal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6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7BB5-FEA3-4E81-A027-345ECF19E63C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6043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¿Cuál es el principal supuesto de la doctrina tradicional de las funciones del sector público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0" y="3498840"/>
            <a:ext cx="9144000" cy="2997360"/>
          </a:xfrm>
          <a:prstGeom prst="wedgeRectCallout">
            <a:avLst>
              <a:gd name="adj1" fmla="val -518"/>
              <a:gd name="adj2" fmla="val -7769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d16349"/>
                </a:solidFill>
                <a:latin typeface="Arial Black"/>
              </a:rPr>
              <a:t>(1)El funcionario debe hacer lo que está mandatado expresamente por las normas, y esto es siempre muy cla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d16349"/>
                </a:solidFill>
                <a:latin typeface="Arial Black"/>
              </a:rPr>
              <a:t>(2) La Misión es ser fiel al mandato formal y producirlo eficiente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5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0DD3-7EB5-4839-9965-CEC48C2CF1A5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entury Gothic"/>
              </a:rPr>
              <a:t>Técnicas de Gestión Polític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romoción activa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Gestión del Desarrollo de la política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egociación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Deliberación pública, aprendizaje social y liderazgo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Marketing y Comunicación Estratégica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1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A30C-4F71-419E-AC22-747BEE50AF33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entury Gothic"/>
              </a:rPr>
              <a:t>Énfasis I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Century Gothic"/>
              </a:rPr>
              <a:t>Una organización pública, robusta y con proyecciones, para maximizar el cumplimiento de sus mandatos más nobles, debe necesariamente pasar por una </a:t>
            </a:r>
            <a:r>
              <a:rPr b="1" lang="es-CL" sz="2800" spc="-1" strike="noStrike">
                <a:solidFill>
                  <a:srgbClr val="cc0000"/>
                </a:solidFill>
                <a:latin typeface="Century Gothic"/>
              </a:rPr>
              <a:t>pequeña revolución de enfoque</a:t>
            </a:r>
            <a:r>
              <a:rPr b="1" lang="es-CL" sz="2800" spc="-1" strike="noStrike">
                <a:solidFill>
                  <a:srgbClr val="000099"/>
                </a:solidFill>
                <a:latin typeface="Century Gothic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5280" indent="-305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Century Gothic"/>
              </a:rPr>
              <a:t>pero no como mero formalismo, moda o sistema, herramienta gerencial, sino como </a:t>
            </a:r>
            <a:r>
              <a:rPr b="1" lang="es-CL" sz="2800" spc="-1" strike="noStrike">
                <a:solidFill>
                  <a:srgbClr val="cc0000"/>
                </a:solidFill>
                <a:latin typeface="Century Gothic"/>
              </a:rPr>
              <a:t>ACTITUD y CONCEPTUALIZACIÓN compartida</a:t>
            </a:r>
            <a:r>
              <a:rPr b="1" lang="es-CL" sz="2800" spc="-1" strike="noStrike">
                <a:solidFill>
                  <a:srgbClr val="000099"/>
                </a:solidFill>
                <a:latin typeface="Century Gothic"/>
              </a:rPr>
              <a:t> en la comunidad de funcionarios y directivos.</a:t>
            </a:r>
            <a:r>
              <a:rPr b="0" lang="es-CL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4441-5F0A-462B-906E-D8EAE0960374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4" dur="1" fill="hold"/>
                                  <p:tgtEl>
                                    <p:spTgt spid="4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792468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entury Gothic"/>
              </a:rPr>
              <a:t>Énfasis II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Century Gothic"/>
              </a:rPr>
              <a:t>Un buen gerente o profesional liderando organizaciones/proyectos debería </a:t>
            </a:r>
            <a:r>
              <a:rPr b="1" lang="es-CL" sz="2200" spc="-1" strike="noStrike">
                <a:solidFill>
                  <a:srgbClr val="ff0000"/>
                </a:solidFill>
                <a:latin typeface="Century Gothic"/>
              </a:rPr>
              <a:t>INTEGRAR PERMANENTE y CREATIVAMENTE </a:t>
            </a:r>
            <a:r>
              <a:rPr b="1" lang="es-CL" sz="2200" spc="-1" strike="noStrike">
                <a:solidFill>
                  <a:srgbClr val="000099"/>
                </a:solidFill>
                <a:latin typeface="Century Gothic"/>
              </a:rPr>
              <a:t>estas dimensiones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Century Gothic"/>
              </a:rPr>
              <a:t>Una institución pública </a:t>
            </a:r>
            <a:r>
              <a:rPr b="1" lang="es-CL" sz="2200" spc="-1" strike="noStrike">
                <a:solidFill>
                  <a:srgbClr val="ff0000"/>
                </a:solidFill>
                <a:latin typeface="Century Gothic"/>
              </a:rPr>
              <a:t>EXCELENTE</a:t>
            </a:r>
            <a:r>
              <a:rPr b="1" lang="es-CL" sz="2200" spc="-1" strike="noStrike">
                <a:solidFill>
                  <a:srgbClr val="000099"/>
                </a:solidFill>
                <a:latin typeface="Century Gothic"/>
              </a:rPr>
              <a:t> se parece más a una institución privada excelente que a una pública mediocre </a:t>
            </a:r>
            <a:r>
              <a:rPr b="1" lang="es-CL" sz="2200" spc="-1" strike="noStrike">
                <a:solidFill>
                  <a:srgbClr val="0070c0"/>
                </a:solidFill>
                <a:latin typeface="Century Gothic"/>
              </a:rPr>
              <a:t>(</a:t>
            </a:r>
            <a:r>
              <a:rPr b="1" i="1" lang="en-US" sz="2000" spc="-1" strike="noStrike">
                <a:solidFill>
                  <a:srgbClr val="0070c0"/>
                </a:solidFill>
                <a:latin typeface="Century Gothic"/>
              </a:rPr>
              <a:t>Collins, J.,  “Good to Great and the Social Sectors”, 2005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Century Gothic"/>
              </a:rPr>
              <a:t>En el fondo, una reflexión/acción sistemática con este enfoque contribuye a la </a:t>
            </a:r>
            <a:r>
              <a:rPr b="1" lang="en-US" sz="2200" spc="-1" strike="noStrike">
                <a:solidFill>
                  <a:srgbClr val="ff0000"/>
                </a:solidFill>
                <a:latin typeface="Century Gothic"/>
              </a:rPr>
              <a:t>INNOVACIÓN y MEJORAMIENTO CONTINUO EN LA ORGANIZACIÓN</a:t>
            </a:r>
            <a:r>
              <a:rPr b="1" lang="en-US" sz="2200" spc="-1" strike="noStrike">
                <a:solidFill>
                  <a:srgbClr val="000099"/>
                </a:solidFill>
                <a:latin typeface="Century Gothic"/>
              </a:rPr>
              <a:t>, en un proceso AUTOsustentado…(</a:t>
            </a:r>
            <a:r>
              <a:rPr b="1" i="1" lang="en-US" sz="2000" spc="-1" strike="noStrike">
                <a:solidFill>
                  <a:srgbClr val="0070c0"/>
                </a:solidFill>
                <a:latin typeface="Century Gothic"/>
              </a:rPr>
              <a:t>H. Maturana, concepto de Autopoiesis en De Máquinas y Seres Vivos, 1972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Century Gothic"/>
              </a:rPr>
              <a:t>El </a:t>
            </a:r>
            <a:r>
              <a:rPr b="1" lang="es-CL" sz="2200" spc="-1" strike="noStrike">
                <a:solidFill>
                  <a:srgbClr val="ff0000"/>
                </a:solidFill>
                <a:latin typeface="Century Gothic"/>
              </a:rPr>
              <a:t>enfoque NO es un instrumento</a:t>
            </a:r>
            <a:r>
              <a:rPr b="1" lang="es-CL" sz="2200" spc="-1" strike="noStrike">
                <a:solidFill>
                  <a:srgbClr val="000099"/>
                </a:solidFill>
                <a:latin typeface="Century Gothic"/>
              </a:rPr>
              <a:t>, pero contribuye a orientar las definiciones básicas de los instrumentos de gestión (Planificación Estratégica, Control, Procesos, Mejoramiento Continuo, TICs, Análisis de Riesgos…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A723-99F3-46FE-BF44-15D3D0BF2B6B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8" dur="1" fill="hold"/>
                                  <p:tgtEl>
                                    <p:spTgt spid="4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324000" y="268200"/>
          <a:ext cx="8640720" cy="6180120"/>
        </p:xfrm>
        <a:graphic>
          <a:graphicData uri="http://schemas.openxmlformats.org/drawingml/2006/table">
            <a:tbl>
              <a:tblPr/>
              <a:tblGrid>
                <a:gridCol w="1800000"/>
                <a:gridCol w="2160720"/>
                <a:gridCol w="2160360"/>
                <a:gridCol w="2519640"/>
              </a:tblGrid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imen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radi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ew Public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Valor Públ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11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Quién define interés/prefer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utorid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li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lientes/usuario y la comunidad ciudadana de un modo deliber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90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Foco de medición de desempeñ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p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puts/Outp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puts/Outputs/Outcomes…Confianza (cla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90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Account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trol Administrativo/Político Jerárqu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tractualismo/Mecanismos de Mercado/cli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teriores+énfasis en control so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11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.Preferencias de entrega/produ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dministración Púb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rcado Priv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últip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. Valoración Ética de lo públ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obrevaloración del Estado/Monopolio de BB Públ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rítico del Estado monopól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alorización de lo público y su singularidad, pero no restringido a lo estat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  <p:sp>
        <p:nvSpPr>
          <p:cNvPr id="446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C7F2-F582-484A-88E2-062D6F3EAD71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6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7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Sistemas Complejos: </a:t>
            </a: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o las falsas seguridades del mecanicismo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¿Qué es un sistema complicado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¿Qué es un sistema complejo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La autorganización administrativa pervive con fuerza a las “modernizaciones” ¿Por qué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Ver la complejidad implica ver sistémicamente. Una mirada exclusivamente analítica es ineficaz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Las 10 características de los sistemas complejos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Gothic"/>
              </a:rPr>
              <a:t>Moore rebate una tendencia reduccionista o simplificadora de esta doctrina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Gothic"/>
              </a:rPr>
              <a:t>Propone un tránsito de un enfoque (A) burocrático a uno (B)  de “emprendedor público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19" name="AutoShape 4"/>
          <p:cNvGrpSpPr/>
          <p:nvPr/>
        </p:nvGrpSpPr>
        <p:grpSpPr>
          <a:xfrm>
            <a:off x="-365040" y="378000"/>
            <a:ext cx="4900680" cy="6499080"/>
            <a:chOff x="-365040" y="378000"/>
            <a:chExt cx="4900680" cy="6499080"/>
          </a:xfrm>
        </p:grpSpPr>
        <p:pic>
          <p:nvPicPr>
            <p:cNvPr id="220" name="AutoShape 4" descr=""/>
            <p:cNvPicPr/>
            <p:nvPr/>
          </p:nvPicPr>
          <p:blipFill>
            <a:blip r:embed="rId1"/>
            <a:stretch/>
          </p:blipFill>
          <p:spPr>
            <a:xfrm>
              <a:off x="-365040" y="378000"/>
              <a:ext cx="4900680" cy="649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880920" y="404640"/>
              <a:ext cx="2413080" cy="57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0000"/>
                  </a:solidFill>
                  <a:latin typeface="Arial Black"/>
                </a:rPr>
                <a:t>Enfoqu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0000"/>
                  </a:solidFill>
                  <a:latin typeface="Arial Black"/>
                </a:rPr>
                <a:t>descend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AutoShape 5"/>
          <p:cNvGrpSpPr/>
          <p:nvPr/>
        </p:nvGrpSpPr>
        <p:grpSpPr>
          <a:xfrm>
            <a:off x="4102200" y="450720"/>
            <a:ext cx="4822560" cy="6162840"/>
            <a:chOff x="4102200" y="450720"/>
            <a:chExt cx="4822560" cy="6162840"/>
          </a:xfrm>
        </p:grpSpPr>
        <p:pic>
          <p:nvPicPr>
            <p:cNvPr id="223" name="AutoShape 5" descr=""/>
            <p:cNvPicPr/>
            <p:nvPr/>
          </p:nvPicPr>
          <p:blipFill>
            <a:blip r:embed="rId2"/>
            <a:stretch/>
          </p:blipFill>
          <p:spPr>
            <a:xfrm>
              <a:off x="4102200" y="450720"/>
              <a:ext cx="482256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5327640" y="1362240"/>
              <a:ext cx="2376360" cy="52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0000"/>
                  </a:solidFill>
                  <a:latin typeface="Arial Black"/>
                </a:rPr>
                <a:t>Enfoqu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0000"/>
                  </a:solidFill>
                  <a:latin typeface="Arial Black"/>
                </a:rPr>
                <a:t>ascend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8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415E-54BB-4A04-92F8-4057B83D00E1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6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7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1. Gran Cantidad de Elementos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2.Cantidad de elementos no basta… estos interactúan dinámicamente entre sí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3. Las interacciones son múltiples…como redes neuronales.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4.Efectos-estimulos no son lineales. Pequeños estímulos pueden generar grandes efectos sistémicos(!)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5. Normalmente, interacciones son de corto alcance. La cercanía es clave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6. Las interacciones generan retroalimentaciones (amplificaciones o inhibiciones)…las recurrencias son serias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7. Los sistemas complejos son abiertos…interactúan con el entorno (en rigor, todo es un sistema)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8. Los sistemas complejos no tienen un equilibrio estático, es dinámico. Mantener el equilibrio implica energía constante…(atención con liderazgo)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9. Los sistemas complejos, tienen historia…que explica el presente </a:t>
            </a:r>
            <a:br>
              <a:rPr sz="4400"/>
            </a:b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Century Gothic"/>
              </a:rPr>
              <a:t>path</a:t>
            </a: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Century Gothic"/>
              </a:rPr>
              <a:t>dependence</a:t>
            </a: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10. Cada parte del sistema es relativamente ignorante de toda la información del sistema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301680"/>
            <a:ext cx="9144000" cy="792000"/>
          </a:xfrm>
          <a:prstGeom prst="rect">
            <a:avLst/>
          </a:prstGeom>
          <a:solidFill>
            <a:srgbClr val="edd3b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ODELO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TRADICIONA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036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scribe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cómo deben entender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llevar a cabo su trabajo los funcionarios público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nfrenta el </a:t>
            </a:r>
            <a:r>
              <a:rPr b="1" lang="es-ES" sz="4000" spc="-1" strike="noStrike">
                <a:solidFill>
                  <a:srgbClr val="00a3d6"/>
                </a:solidFill>
                <a:latin typeface="Calibri"/>
              </a:rPr>
              <a:t>riesgo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que los directivos públicos conduzcan la administración según intereses distinto a los público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one énfasis en el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control de procedimientos y la verticalidad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FCF4-BFBB-4422-9572-6DA2884BB4BD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1197000"/>
            <a:ext cx="9144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Diagrama sistémico de problemas frecuentes en instituciones públic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304920" y="2892600"/>
            <a:ext cx="5576760" cy="3127320"/>
            <a:chOff x="304920" y="2892600"/>
            <a:chExt cx="5576760" cy="3127320"/>
          </a:xfrm>
        </p:grpSpPr>
        <p:sp>
          <p:nvSpPr>
            <p:cNvPr id="468" name="Text Box 5"/>
            <p:cNvSpPr/>
            <p:nvPr/>
          </p:nvSpPr>
          <p:spPr>
            <a:xfrm>
              <a:off x="4165560" y="3022560"/>
              <a:ext cx="1393920" cy="91296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Baja calidad y eficacia en el servicio públ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6"/>
            <p:cNvSpPr/>
            <p:nvPr/>
          </p:nvSpPr>
          <p:spPr>
            <a:xfrm>
              <a:off x="2557440" y="3022560"/>
              <a:ext cx="1285920" cy="8589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tratación de ejecu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nadecu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7"/>
            <p:cNvSpPr/>
            <p:nvPr/>
          </p:nvSpPr>
          <p:spPr>
            <a:xfrm flipV="1">
              <a:off x="3738600" y="3543480"/>
              <a:ext cx="534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8"/>
            <p:cNvSpPr/>
            <p:nvPr/>
          </p:nvSpPr>
          <p:spPr>
            <a:xfrm>
              <a:off x="3308400" y="4325760"/>
              <a:ext cx="1285920" cy="6508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lima laboral inadecu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9"/>
            <p:cNvSpPr/>
            <p:nvPr/>
          </p:nvSpPr>
          <p:spPr>
            <a:xfrm>
              <a:off x="736560" y="4325760"/>
              <a:ext cx="2249640" cy="6508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flicto entre “antiguos” y “nuevos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10"/>
            <p:cNvSpPr/>
            <p:nvPr/>
          </p:nvSpPr>
          <p:spPr>
            <a:xfrm>
              <a:off x="2664000" y="3675240"/>
              <a:ext cx="0" cy="78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11"/>
            <p:cNvSpPr/>
            <p:nvPr/>
          </p:nvSpPr>
          <p:spPr>
            <a:xfrm>
              <a:off x="2878200" y="4456080"/>
              <a:ext cx="53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12"/>
            <p:cNvSpPr/>
            <p:nvPr/>
          </p:nvSpPr>
          <p:spPr>
            <a:xfrm flipV="1">
              <a:off x="4379760" y="3803760"/>
              <a:ext cx="0" cy="6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3"/>
            <p:cNvSpPr/>
            <p:nvPr/>
          </p:nvSpPr>
          <p:spPr>
            <a:xfrm>
              <a:off x="628560" y="3022560"/>
              <a:ext cx="1611360" cy="9144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nevaluabilidad e inamovilidad de trabajad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14"/>
            <p:cNvSpPr/>
            <p:nvPr/>
          </p:nvSpPr>
          <p:spPr>
            <a:xfrm>
              <a:off x="2021040" y="367524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5"/>
            <p:cNvSpPr/>
            <p:nvPr/>
          </p:nvSpPr>
          <p:spPr>
            <a:xfrm>
              <a:off x="4916520" y="4325760"/>
              <a:ext cx="857160" cy="6508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Bajos sala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16"/>
            <p:cNvSpPr/>
            <p:nvPr/>
          </p:nvSpPr>
          <p:spPr>
            <a:xfrm flipH="1">
              <a:off x="4487760" y="4716360"/>
              <a:ext cx="53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17"/>
            <p:cNvSpPr/>
            <p:nvPr/>
          </p:nvSpPr>
          <p:spPr>
            <a:xfrm>
              <a:off x="3736800" y="3675240"/>
              <a:ext cx="0" cy="78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18"/>
            <p:cNvSpPr/>
            <p:nvPr/>
          </p:nvSpPr>
          <p:spPr>
            <a:xfrm>
              <a:off x="1484280" y="3803760"/>
              <a:ext cx="0" cy="6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19"/>
            <p:cNvSpPr/>
            <p:nvPr/>
          </p:nvSpPr>
          <p:spPr>
            <a:xfrm>
              <a:off x="4137120" y="5369040"/>
              <a:ext cx="1208160" cy="390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rrup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20"/>
            <p:cNvSpPr/>
            <p:nvPr/>
          </p:nvSpPr>
          <p:spPr>
            <a:xfrm flipV="1">
              <a:off x="4702320" y="3803400"/>
              <a:ext cx="0" cy="16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21"/>
            <p:cNvSpPr/>
            <p:nvPr/>
          </p:nvSpPr>
          <p:spPr>
            <a:xfrm>
              <a:off x="3243240" y="3695760"/>
              <a:ext cx="0" cy="1888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22"/>
            <p:cNvSpPr/>
            <p:nvPr/>
          </p:nvSpPr>
          <p:spPr>
            <a:xfrm>
              <a:off x="3243240" y="5584680"/>
              <a:ext cx="10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23"/>
            <p:cNvSpPr/>
            <p:nvPr/>
          </p:nvSpPr>
          <p:spPr>
            <a:xfrm>
              <a:off x="5130720" y="4846680"/>
              <a:ext cx="0" cy="65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24"/>
            <p:cNvSpPr/>
            <p:nvPr/>
          </p:nvSpPr>
          <p:spPr>
            <a:xfrm>
              <a:off x="304920" y="2892600"/>
              <a:ext cx="36464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25"/>
            <p:cNvSpPr/>
            <p:nvPr/>
          </p:nvSpPr>
          <p:spPr>
            <a:xfrm>
              <a:off x="304920" y="2892600"/>
              <a:ext cx="0" cy="312732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26"/>
            <p:cNvSpPr/>
            <p:nvPr/>
          </p:nvSpPr>
          <p:spPr>
            <a:xfrm flipV="1">
              <a:off x="3951360" y="2892600"/>
              <a:ext cx="0" cy="11728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>
              <a:off x="304920" y="6019920"/>
              <a:ext cx="55767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28"/>
            <p:cNvSpPr/>
            <p:nvPr/>
          </p:nvSpPr>
          <p:spPr>
            <a:xfrm flipH="1">
              <a:off x="3951360" y="4065480"/>
              <a:ext cx="19303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29"/>
            <p:cNvSpPr/>
            <p:nvPr/>
          </p:nvSpPr>
          <p:spPr>
            <a:xfrm flipV="1">
              <a:off x="5881680" y="4065120"/>
              <a:ext cx="0" cy="19544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30"/>
            <p:cNvSpPr/>
            <p:nvPr/>
          </p:nvSpPr>
          <p:spPr>
            <a:xfrm>
              <a:off x="733320" y="5497560"/>
              <a:ext cx="128772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00"/>
                  </a:solidFill>
                  <a:latin typeface="Arial"/>
                </a:rPr>
                <a:t>PERSON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31"/>
            <p:cNvSpPr/>
            <p:nvPr/>
          </p:nvSpPr>
          <p:spPr>
            <a:xfrm>
              <a:off x="2343240" y="3152880"/>
              <a:ext cx="32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32"/>
            <p:cNvSpPr/>
            <p:nvPr/>
          </p:nvSpPr>
          <p:spPr>
            <a:xfrm>
              <a:off x="2021040" y="4195800"/>
              <a:ext cx="150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33"/>
            <p:cNvSpPr/>
            <p:nvPr/>
          </p:nvSpPr>
          <p:spPr>
            <a:xfrm>
              <a:off x="3522600" y="419580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33 Marcador de fecha"/>
          <p:cNvSpPr/>
          <p:nvPr/>
        </p:nvSpPr>
        <p:spPr>
          <a:xfrm>
            <a:off x="2771640" y="638172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3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38AB-0F4E-44AD-91E0-49004354E137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3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1219320"/>
            <a:ext cx="9144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Diagrama sistémico de problemas frecuentes en instituciones públic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02" name="Group 4"/>
          <p:cNvGrpSpPr/>
          <p:nvPr/>
        </p:nvGrpSpPr>
        <p:grpSpPr>
          <a:xfrm>
            <a:off x="304920" y="2892240"/>
            <a:ext cx="8578800" cy="3127680"/>
            <a:chOff x="304920" y="2892240"/>
            <a:chExt cx="8578800" cy="3127680"/>
          </a:xfrm>
        </p:grpSpPr>
        <p:sp>
          <p:nvSpPr>
            <p:cNvPr id="503" name="Text Box 5"/>
            <p:cNvSpPr/>
            <p:nvPr/>
          </p:nvSpPr>
          <p:spPr>
            <a:xfrm>
              <a:off x="6053040" y="5294160"/>
              <a:ext cx="2789280" cy="39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0000"/>
                  </a:solidFill>
                  <a:latin typeface="Arial"/>
                </a:rPr>
                <a:t>PROCESOS Y ESTRATEG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6"/>
            <p:cNvSpPr/>
            <p:nvPr/>
          </p:nvSpPr>
          <p:spPr>
            <a:xfrm>
              <a:off x="4165560" y="3022560"/>
              <a:ext cx="1393920" cy="91296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Baja calidad y eficacia en el servicio públ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7"/>
            <p:cNvSpPr/>
            <p:nvPr/>
          </p:nvSpPr>
          <p:spPr>
            <a:xfrm>
              <a:off x="2557440" y="3022560"/>
              <a:ext cx="1285920" cy="8589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tratación de ejecu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nadecu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8"/>
            <p:cNvSpPr/>
            <p:nvPr/>
          </p:nvSpPr>
          <p:spPr>
            <a:xfrm flipV="1">
              <a:off x="3738600" y="3543480"/>
              <a:ext cx="534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9"/>
            <p:cNvSpPr/>
            <p:nvPr/>
          </p:nvSpPr>
          <p:spPr>
            <a:xfrm>
              <a:off x="3308400" y="4325760"/>
              <a:ext cx="1285920" cy="6508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lima laboral inadecu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10"/>
            <p:cNvSpPr/>
            <p:nvPr/>
          </p:nvSpPr>
          <p:spPr>
            <a:xfrm>
              <a:off x="736560" y="4325760"/>
              <a:ext cx="2249640" cy="6508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flicto entre “antiguos” y “nuevos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11"/>
            <p:cNvSpPr/>
            <p:nvPr/>
          </p:nvSpPr>
          <p:spPr>
            <a:xfrm>
              <a:off x="2664000" y="3675240"/>
              <a:ext cx="0" cy="78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2"/>
            <p:cNvSpPr/>
            <p:nvPr/>
          </p:nvSpPr>
          <p:spPr>
            <a:xfrm>
              <a:off x="2878200" y="4456080"/>
              <a:ext cx="53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3"/>
            <p:cNvSpPr/>
            <p:nvPr/>
          </p:nvSpPr>
          <p:spPr>
            <a:xfrm flipV="1">
              <a:off x="4379760" y="3803760"/>
              <a:ext cx="0" cy="6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14"/>
            <p:cNvSpPr/>
            <p:nvPr/>
          </p:nvSpPr>
          <p:spPr>
            <a:xfrm>
              <a:off x="628560" y="3022560"/>
              <a:ext cx="1611360" cy="9144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nevaluabilidad e inamovilidad de trabajad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15"/>
            <p:cNvSpPr/>
            <p:nvPr/>
          </p:nvSpPr>
          <p:spPr>
            <a:xfrm>
              <a:off x="2021040" y="367524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16"/>
            <p:cNvSpPr/>
            <p:nvPr/>
          </p:nvSpPr>
          <p:spPr>
            <a:xfrm>
              <a:off x="5883120" y="3022560"/>
              <a:ext cx="1287720" cy="8589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arencia de indicadores  de gest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17"/>
            <p:cNvSpPr/>
            <p:nvPr/>
          </p:nvSpPr>
          <p:spPr>
            <a:xfrm>
              <a:off x="7277040" y="3022560"/>
              <a:ext cx="1500120" cy="8193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rocesos con-fusos y sistemas desarticul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18"/>
            <p:cNvSpPr/>
            <p:nvPr/>
          </p:nvSpPr>
          <p:spPr>
            <a:xfrm>
              <a:off x="7489800" y="367524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9"/>
            <p:cNvSpPr/>
            <p:nvPr/>
          </p:nvSpPr>
          <p:spPr>
            <a:xfrm flipH="1">
              <a:off x="5344920" y="4195800"/>
              <a:ext cx="214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20"/>
            <p:cNvSpPr/>
            <p:nvPr/>
          </p:nvSpPr>
          <p:spPr>
            <a:xfrm flipV="1">
              <a:off x="5345280" y="3803400"/>
              <a:ext cx="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21"/>
            <p:cNvSpPr/>
            <p:nvPr/>
          </p:nvSpPr>
          <p:spPr>
            <a:xfrm>
              <a:off x="4916520" y="4325760"/>
              <a:ext cx="857160" cy="6508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Bajos sala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22"/>
            <p:cNvSpPr/>
            <p:nvPr/>
          </p:nvSpPr>
          <p:spPr>
            <a:xfrm flipH="1">
              <a:off x="4487760" y="4716360"/>
              <a:ext cx="53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23"/>
            <p:cNvSpPr/>
            <p:nvPr/>
          </p:nvSpPr>
          <p:spPr>
            <a:xfrm>
              <a:off x="6203880" y="4325760"/>
              <a:ext cx="2360520" cy="6508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fusión en su misión, servicios, usuarios y estrateg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24"/>
            <p:cNvSpPr/>
            <p:nvPr/>
          </p:nvSpPr>
          <p:spPr>
            <a:xfrm flipV="1">
              <a:off x="7586640" y="3695400"/>
              <a:ext cx="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25"/>
            <p:cNvSpPr/>
            <p:nvPr/>
          </p:nvSpPr>
          <p:spPr>
            <a:xfrm flipV="1">
              <a:off x="6310440" y="3768480"/>
              <a:ext cx="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6"/>
            <p:cNvSpPr/>
            <p:nvPr/>
          </p:nvSpPr>
          <p:spPr>
            <a:xfrm flipH="1">
              <a:off x="7061040" y="3413160"/>
              <a:ext cx="32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7"/>
            <p:cNvSpPr/>
            <p:nvPr/>
          </p:nvSpPr>
          <p:spPr>
            <a:xfrm>
              <a:off x="3736800" y="3675240"/>
              <a:ext cx="0" cy="78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28"/>
            <p:cNvSpPr/>
            <p:nvPr/>
          </p:nvSpPr>
          <p:spPr>
            <a:xfrm>
              <a:off x="1484280" y="3803760"/>
              <a:ext cx="0" cy="6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9"/>
            <p:cNvSpPr/>
            <p:nvPr/>
          </p:nvSpPr>
          <p:spPr>
            <a:xfrm>
              <a:off x="4137120" y="5369040"/>
              <a:ext cx="1208160" cy="390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rrup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30"/>
            <p:cNvSpPr/>
            <p:nvPr/>
          </p:nvSpPr>
          <p:spPr>
            <a:xfrm flipV="1">
              <a:off x="4702320" y="3803400"/>
              <a:ext cx="0" cy="16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31"/>
            <p:cNvSpPr/>
            <p:nvPr/>
          </p:nvSpPr>
          <p:spPr>
            <a:xfrm>
              <a:off x="3243240" y="3695760"/>
              <a:ext cx="0" cy="1888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32"/>
            <p:cNvSpPr/>
            <p:nvPr/>
          </p:nvSpPr>
          <p:spPr>
            <a:xfrm>
              <a:off x="3243240" y="5584680"/>
              <a:ext cx="10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33"/>
            <p:cNvSpPr/>
            <p:nvPr/>
          </p:nvSpPr>
          <p:spPr>
            <a:xfrm>
              <a:off x="5130720" y="4846680"/>
              <a:ext cx="0" cy="65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34"/>
            <p:cNvSpPr/>
            <p:nvPr/>
          </p:nvSpPr>
          <p:spPr>
            <a:xfrm>
              <a:off x="6095880" y="3803760"/>
              <a:ext cx="0" cy="16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35"/>
            <p:cNvSpPr/>
            <p:nvPr/>
          </p:nvSpPr>
          <p:spPr>
            <a:xfrm flipH="1">
              <a:off x="5238360" y="5497560"/>
              <a:ext cx="85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36"/>
            <p:cNvSpPr/>
            <p:nvPr/>
          </p:nvSpPr>
          <p:spPr>
            <a:xfrm>
              <a:off x="304920" y="2892600"/>
              <a:ext cx="36464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7"/>
            <p:cNvSpPr/>
            <p:nvPr/>
          </p:nvSpPr>
          <p:spPr>
            <a:xfrm>
              <a:off x="304920" y="2892600"/>
              <a:ext cx="0" cy="312732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38"/>
            <p:cNvSpPr/>
            <p:nvPr/>
          </p:nvSpPr>
          <p:spPr>
            <a:xfrm flipV="1">
              <a:off x="3951360" y="2892600"/>
              <a:ext cx="0" cy="11728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39"/>
            <p:cNvSpPr/>
            <p:nvPr/>
          </p:nvSpPr>
          <p:spPr>
            <a:xfrm>
              <a:off x="304920" y="6019920"/>
              <a:ext cx="55767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40"/>
            <p:cNvSpPr/>
            <p:nvPr/>
          </p:nvSpPr>
          <p:spPr>
            <a:xfrm flipH="1">
              <a:off x="3951360" y="4065480"/>
              <a:ext cx="19303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41"/>
            <p:cNvSpPr/>
            <p:nvPr/>
          </p:nvSpPr>
          <p:spPr>
            <a:xfrm flipV="1">
              <a:off x="5881680" y="4065120"/>
              <a:ext cx="0" cy="19544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42"/>
            <p:cNvSpPr/>
            <p:nvPr/>
          </p:nvSpPr>
          <p:spPr>
            <a:xfrm>
              <a:off x="733320" y="5497560"/>
              <a:ext cx="128772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00"/>
                  </a:solidFill>
                  <a:latin typeface="Arial"/>
                </a:rPr>
                <a:t>PERSON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43"/>
            <p:cNvSpPr/>
            <p:nvPr/>
          </p:nvSpPr>
          <p:spPr>
            <a:xfrm flipV="1">
              <a:off x="5987880" y="3935520"/>
              <a:ext cx="0" cy="19540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44"/>
            <p:cNvSpPr/>
            <p:nvPr/>
          </p:nvSpPr>
          <p:spPr>
            <a:xfrm>
              <a:off x="5987880" y="5889600"/>
              <a:ext cx="28958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45"/>
            <p:cNvSpPr/>
            <p:nvPr/>
          </p:nvSpPr>
          <p:spPr>
            <a:xfrm flipV="1">
              <a:off x="8883720" y="2892240"/>
              <a:ext cx="0" cy="29970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46"/>
            <p:cNvSpPr/>
            <p:nvPr/>
          </p:nvSpPr>
          <p:spPr>
            <a:xfrm>
              <a:off x="5773680" y="2892600"/>
              <a:ext cx="31100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47"/>
            <p:cNvSpPr/>
            <p:nvPr/>
          </p:nvSpPr>
          <p:spPr>
            <a:xfrm>
              <a:off x="5773680" y="3935520"/>
              <a:ext cx="2142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48"/>
            <p:cNvSpPr/>
            <p:nvPr/>
          </p:nvSpPr>
          <p:spPr>
            <a:xfrm flipV="1">
              <a:off x="5773680" y="2892240"/>
              <a:ext cx="0" cy="104292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49"/>
            <p:cNvSpPr/>
            <p:nvPr/>
          </p:nvSpPr>
          <p:spPr>
            <a:xfrm>
              <a:off x="2343240" y="3152880"/>
              <a:ext cx="32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50"/>
            <p:cNvSpPr/>
            <p:nvPr/>
          </p:nvSpPr>
          <p:spPr>
            <a:xfrm>
              <a:off x="2021040" y="4195800"/>
              <a:ext cx="150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51"/>
            <p:cNvSpPr/>
            <p:nvPr/>
          </p:nvSpPr>
          <p:spPr>
            <a:xfrm>
              <a:off x="3522600" y="419580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52"/>
            <p:cNvSpPr/>
            <p:nvPr/>
          </p:nvSpPr>
          <p:spPr>
            <a:xfrm>
              <a:off x="3092400" y="3768840"/>
              <a:ext cx="3240" cy="14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53"/>
            <p:cNvSpPr/>
            <p:nvPr/>
          </p:nvSpPr>
          <p:spPr>
            <a:xfrm>
              <a:off x="3092400" y="5238720"/>
              <a:ext cx="354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54"/>
            <p:cNvSpPr/>
            <p:nvPr/>
          </p:nvSpPr>
          <p:spPr>
            <a:xfrm flipV="1">
              <a:off x="6632640" y="4846320"/>
              <a:ext cx="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55"/>
            <p:cNvSpPr/>
            <p:nvPr/>
          </p:nvSpPr>
          <p:spPr>
            <a:xfrm flipH="1">
              <a:off x="5452920" y="3540240"/>
              <a:ext cx="53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55 Marcador de fecha"/>
          <p:cNvSpPr/>
          <p:nvPr/>
        </p:nvSpPr>
        <p:spPr>
          <a:xfrm>
            <a:off x="2771640" y="638172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5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4F61-3276-4094-88E7-19751D83AF11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57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1219320"/>
            <a:ext cx="9144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Diagrama sistémico de problemas frecuentes en instituciones públic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59" name="Group 4"/>
          <p:cNvGrpSpPr/>
          <p:nvPr/>
        </p:nvGrpSpPr>
        <p:grpSpPr>
          <a:xfrm>
            <a:off x="304920" y="1371600"/>
            <a:ext cx="8686800" cy="4648320"/>
            <a:chOff x="304920" y="1371600"/>
            <a:chExt cx="8686800" cy="4648320"/>
          </a:xfrm>
        </p:grpSpPr>
        <p:sp>
          <p:nvSpPr>
            <p:cNvPr id="560" name="Text Box 5"/>
            <p:cNvSpPr/>
            <p:nvPr/>
          </p:nvSpPr>
          <p:spPr>
            <a:xfrm>
              <a:off x="6053400" y="5293440"/>
              <a:ext cx="2788200" cy="39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0000"/>
                  </a:solidFill>
                  <a:latin typeface="Arial"/>
                </a:rPr>
                <a:t>PROCESOS Y ESTRATEG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6"/>
            <p:cNvSpPr/>
            <p:nvPr/>
          </p:nvSpPr>
          <p:spPr>
            <a:xfrm>
              <a:off x="734040" y="1371600"/>
              <a:ext cx="7935480" cy="1303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7"/>
            <p:cNvSpPr/>
            <p:nvPr/>
          </p:nvSpPr>
          <p:spPr>
            <a:xfrm>
              <a:off x="4165560" y="3021840"/>
              <a:ext cx="1394280" cy="91296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Baja calidad y eficacia en el servicio públ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8"/>
            <p:cNvSpPr/>
            <p:nvPr/>
          </p:nvSpPr>
          <p:spPr>
            <a:xfrm>
              <a:off x="1055520" y="1848600"/>
              <a:ext cx="1394280" cy="6523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resiones del entorno polít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9"/>
            <p:cNvSpPr/>
            <p:nvPr/>
          </p:nvSpPr>
          <p:spPr>
            <a:xfrm>
              <a:off x="2666520" y="1848600"/>
              <a:ext cx="1284480" cy="6523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Restricciones normativ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0"/>
            <p:cNvSpPr/>
            <p:nvPr/>
          </p:nvSpPr>
          <p:spPr>
            <a:xfrm>
              <a:off x="4165560" y="1848600"/>
              <a:ext cx="1394280" cy="6523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Restricción presupuesta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1"/>
            <p:cNvSpPr/>
            <p:nvPr/>
          </p:nvSpPr>
          <p:spPr>
            <a:xfrm>
              <a:off x="5776560" y="1848600"/>
              <a:ext cx="1284480" cy="6523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inanciadores descont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2"/>
            <p:cNvSpPr/>
            <p:nvPr/>
          </p:nvSpPr>
          <p:spPr>
            <a:xfrm>
              <a:off x="7275960" y="1848600"/>
              <a:ext cx="1181520" cy="6523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Rumores de desprestig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13"/>
            <p:cNvSpPr/>
            <p:nvPr/>
          </p:nvSpPr>
          <p:spPr>
            <a:xfrm flipH="1">
              <a:off x="6954120" y="2305440"/>
              <a:ext cx="42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14"/>
            <p:cNvSpPr/>
            <p:nvPr/>
          </p:nvSpPr>
          <p:spPr>
            <a:xfrm flipH="1">
              <a:off x="5452920" y="2241000"/>
              <a:ext cx="42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15"/>
            <p:cNvSpPr/>
            <p:nvPr/>
          </p:nvSpPr>
          <p:spPr>
            <a:xfrm>
              <a:off x="3843360" y="2370240"/>
              <a:ext cx="42948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16"/>
            <p:cNvSpPr/>
            <p:nvPr/>
          </p:nvSpPr>
          <p:spPr>
            <a:xfrm>
              <a:off x="2557080" y="3021840"/>
              <a:ext cx="1286280" cy="8593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tratación de ejecu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nadecu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17"/>
            <p:cNvSpPr/>
            <p:nvPr/>
          </p:nvSpPr>
          <p:spPr>
            <a:xfrm>
              <a:off x="2342520" y="2241000"/>
              <a:ext cx="0" cy="9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18"/>
            <p:cNvSpPr/>
            <p:nvPr/>
          </p:nvSpPr>
          <p:spPr>
            <a:xfrm flipV="1">
              <a:off x="3738960" y="3542760"/>
              <a:ext cx="533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19"/>
            <p:cNvSpPr/>
            <p:nvPr/>
          </p:nvSpPr>
          <p:spPr>
            <a:xfrm>
              <a:off x="3307680" y="4325040"/>
              <a:ext cx="1287000" cy="65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lima laboral inadecu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20"/>
            <p:cNvSpPr/>
            <p:nvPr/>
          </p:nvSpPr>
          <p:spPr>
            <a:xfrm>
              <a:off x="735840" y="4325040"/>
              <a:ext cx="2249640" cy="65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flicto entre “antiguos” y “nuevos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21"/>
            <p:cNvSpPr/>
            <p:nvPr/>
          </p:nvSpPr>
          <p:spPr>
            <a:xfrm>
              <a:off x="2664720" y="3674520"/>
              <a:ext cx="0" cy="78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22"/>
            <p:cNvSpPr/>
            <p:nvPr/>
          </p:nvSpPr>
          <p:spPr>
            <a:xfrm>
              <a:off x="2878560" y="4456440"/>
              <a:ext cx="53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23"/>
            <p:cNvSpPr/>
            <p:nvPr/>
          </p:nvSpPr>
          <p:spPr>
            <a:xfrm flipV="1">
              <a:off x="4380120" y="3803760"/>
              <a:ext cx="0" cy="6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24"/>
            <p:cNvSpPr/>
            <p:nvPr/>
          </p:nvSpPr>
          <p:spPr>
            <a:xfrm>
              <a:off x="628560" y="3022920"/>
              <a:ext cx="1611000" cy="9136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nevaluabilidad e inamovilidad de trabajad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25"/>
            <p:cNvSpPr/>
            <p:nvPr/>
          </p:nvSpPr>
          <p:spPr>
            <a:xfrm flipV="1">
              <a:off x="1591920" y="2761200"/>
              <a:ext cx="0" cy="3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26"/>
            <p:cNvSpPr/>
            <p:nvPr/>
          </p:nvSpPr>
          <p:spPr>
            <a:xfrm>
              <a:off x="1591920" y="2761560"/>
              <a:ext cx="300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7"/>
            <p:cNvSpPr/>
            <p:nvPr/>
          </p:nvSpPr>
          <p:spPr>
            <a:xfrm>
              <a:off x="4595040" y="2761560"/>
              <a:ext cx="0" cy="3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28"/>
            <p:cNvSpPr/>
            <p:nvPr/>
          </p:nvSpPr>
          <p:spPr>
            <a:xfrm flipH="1">
              <a:off x="2019960" y="2418480"/>
              <a:ext cx="857880" cy="73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29"/>
            <p:cNvSpPr/>
            <p:nvPr/>
          </p:nvSpPr>
          <p:spPr>
            <a:xfrm>
              <a:off x="2020320" y="3674520"/>
              <a:ext cx="0" cy="5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30"/>
            <p:cNvSpPr/>
            <p:nvPr/>
          </p:nvSpPr>
          <p:spPr>
            <a:xfrm>
              <a:off x="5884200" y="3022920"/>
              <a:ext cx="1286280" cy="858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arencia de indicadores  de gest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31"/>
            <p:cNvSpPr/>
            <p:nvPr/>
          </p:nvSpPr>
          <p:spPr>
            <a:xfrm flipV="1">
              <a:off x="6525360" y="237024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32"/>
            <p:cNvSpPr/>
            <p:nvPr/>
          </p:nvSpPr>
          <p:spPr>
            <a:xfrm>
              <a:off x="7277760" y="3021840"/>
              <a:ext cx="1499040" cy="8190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rocesos con-fusos y sistemas desarticul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33"/>
            <p:cNvSpPr/>
            <p:nvPr/>
          </p:nvSpPr>
          <p:spPr>
            <a:xfrm>
              <a:off x="5238000" y="2370240"/>
              <a:ext cx="0" cy="3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34"/>
            <p:cNvSpPr/>
            <p:nvPr/>
          </p:nvSpPr>
          <p:spPr>
            <a:xfrm>
              <a:off x="7490520" y="3674520"/>
              <a:ext cx="0" cy="5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35"/>
            <p:cNvSpPr/>
            <p:nvPr/>
          </p:nvSpPr>
          <p:spPr>
            <a:xfrm flipH="1">
              <a:off x="5345640" y="4195800"/>
              <a:ext cx="214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36"/>
            <p:cNvSpPr/>
            <p:nvPr/>
          </p:nvSpPr>
          <p:spPr>
            <a:xfrm flipV="1">
              <a:off x="5345640" y="3803400"/>
              <a:ext cx="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37"/>
            <p:cNvSpPr/>
            <p:nvPr/>
          </p:nvSpPr>
          <p:spPr>
            <a:xfrm>
              <a:off x="5238000" y="2761560"/>
              <a:ext cx="246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38"/>
            <p:cNvSpPr/>
            <p:nvPr/>
          </p:nvSpPr>
          <p:spPr>
            <a:xfrm>
              <a:off x="7704360" y="2761560"/>
              <a:ext cx="0" cy="3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39"/>
            <p:cNvSpPr/>
            <p:nvPr/>
          </p:nvSpPr>
          <p:spPr>
            <a:xfrm>
              <a:off x="4916160" y="4325040"/>
              <a:ext cx="857520" cy="65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Bajos sala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40"/>
            <p:cNvSpPr/>
            <p:nvPr/>
          </p:nvSpPr>
          <p:spPr>
            <a:xfrm>
              <a:off x="5452920" y="2109960"/>
              <a:ext cx="21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41"/>
            <p:cNvSpPr/>
            <p:nvPr/>
          </p:nvSpPr>
          <p:spPr>
            <a:xfrm>
              <a:off x="5666760" y="2109960"/>
              <a:ext cx="0" cy="23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42"/>
            <p:cNvSpPr/>
            <p:nvPr/>
          </p:nvSpPr>
          <p:spPr>
            <a:xfrm flipH="1">
              <a:off x="4487760" y="4716720"/>
              <a:ext cx="53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43"/>
            <p:cNvSpPr/>
            <p:nvPr/>
          </p:nvSpPr>
          <p:spPr>
            <a:xfrm>
              <a:off x="6203520" y="4325040"/>
              <a:ext cx="2361600" cy="65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fusión en su misión, servicios, usuarios y estrateg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44"/>
            <p:cNvSpPr/>
            <p:nvPr/>
          </p:nvSpPr>
          <p:spPr>
            <a:xfrm flipH="1">
              <a:off x="519120" y="2370240"/>
              <a:ext cx="75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45"/>
            <p:cNvSpPr/>
            <p:nvPr/>
          </p:nvSpPr>
          <p:spPr>
            <a:xfrm>
              <a:off x="519480" y="2370240"/>
              <a:ext cx="0" cy="27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46"/>
            <p:cNvSpPr/>
            <p:nvPr/>
          </p:nvSpPr>
          <p:spPr>
            <a:xfrm>
              <a:off x="519480" y="510804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47"/>
            <p:cNvSpPr/>
            <p:nvPr/>
          </p:nvSpPr>
          <p:spPr>
            <a:xfrm flipV="1">
              <a:off x="6310800" y="48466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48"/>
            <p:cNvSpPr/>
            <p:nvPr/>
          </p:nvSpPr>
          <p:spPr>
            <a:xfrm flipV="1">
              <a:off x="7586280" y="3695400"/>
              <a:ext cx="0" cy="72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49"/>
            <p:cNvSpPr/>
            <p:nvPr/>
          </p:nvSpPr>
          <p:spPr>
            <a:xfrm flipV="1">
              <a:off x="6310800" y="3768480"/>
              <a:ext cx="0" cy="68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50"/>
            <p:cNvSpPr/>
            <p:nvPr/>
          </p:nvSpPr>
          <p:spPr>
            <a:xfrm flipH="1">
              <a:off x="7061040" y="3413160"/>
              <a:ext cx="32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51"/>
            <p:cNvSpPr/>
            <p:nvPr/>
          </p:nvSpPr>
          <p:spPr>
            <a:xfrm>
              <a:off x="3736440" y="3674520"/>
              <a:ext cx="0" cy="78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52"/>
            <p:cNvSpPr/>
            <p:nvPr/>
          </p:nvSpPr>
          <p:spPr>
            <a:xfrm>
              <a:off x="1484640" y="3803760"/>
              <a:ext cx="0" cy="6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53"/>
            <p:cNvSpPr/>
            <p:nvPr/>
          </p:nvSpPr>
          <p:spPr>
            <a:xfrm>
              <a:off x="4137120" y="5367960"/>
              <a:ext cx="1208160" cy="3913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rrup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54"/>
            <p:cNvSpPr/>
            <p:nvPr/>
          </p:nvSpPr>
          <p:spPr>
            <a:xfrm flipV="1">
              <a:off x="4701600" y="3803400"/>
              <a:ext cx="0" cy="16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55"/>
            <p:cNvSpPr/>
            <p:nvPr/>
          </p:nvSpPr>
          <p:spPr>
            <a:xfrm>
              <a:off x="3242880" y="3695760"/>
              <a:ext cx="0" cy="1888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56"/>
            <p:cNvSpPr/>
            <p:nvPr/>
          </p:nvSpPr>
          <p:spPr>
            <a:xfrm>
              <a:off x="3242880" y="5583960"/>
              <a:ext cx="10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57"/>
            <p:cNvSpPr/>
            <p:nvPr/>
          </p:nvSpPr>
          <p:spPr>
            <a:xfrm>
              <a:off x="5130720" y="4846680"/>
              <a:ext cx="0" cy="65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58"/>
            <p:cNvSpPr/>
            <p:nvPr/>
          </p:nvSpPr>
          <p:spPr>
            <a:xfrm>
              <a:off x="6096240" y="3803760"/>
              <a:ext cx="0" cy="16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59"/>
            <p:cNvSpPr/>
            <p:nvPr/>
          </p:nvSpPr>
          <p:spPr>
            <a:xfrm flipH="1">
              <a:off x="5237640" y="5498280"/>
              <a:ext cx="8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60"/>
            <p:cNvSpPr/>
            <p:nvPr/>
          </p:nvSpPr>
          <p:spPr>
            <a:xfrm>
              <a:off x="4165560" y="1458000"/>
              <a:ext cx="1287000" cy="39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00"/>
                  </a:solidFill>
                  <a:latin typeface="Arial"/>
                </a:rPr>
                <a:t>ENTOR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61"/>
            <p:cNvSpPr/>
            <p:nvPr/>
          </p:nvSpPr>
          <p:spPr>
            <a:xfrm>
              <a:off x="304920" y="2891520"/>
              <a:ext cx="36460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62"/>
            <p:cNvSpPr/>
            <p:nvPr/>
          </p:nvSpPr>
          <p:spPr>
            <a:xfrm>
              <a:off x="304920" y="2891520"/>
              <a:ext cx="0" cy="31280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63"/>
            <p:cNvSpPr/>
            <p:nvPr/>
          </p:nvSpPr>
          <p:spPr>
            <a:xfrm flipV="1">
              <a:off x="3951000" y="2891160"/>
              <a:ext cx="0" cy="11732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64"/>
            <p:cNvSpPr/>
            <p:nvPr/>
          </p:nvSpPr>
          <p:spPr>
            <a:xfrm>
              <a:off x="304920" y="6019920"/>
              <a:ext cx="55764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65"/>
            <p:cNvSpPr/>
            <p:nvPr/>
          </p:nvSpPr>
          <p:spPr>
            <a:xfrm flipH="1">
              <a:off x="3951000" y="4064760"/>
              <a:ext cx="19303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66"/>
            <p:cNvSpPr/>
            <p:nvPr/>
          </p:nvSpPr>
          <p:spPr>
            <a:xfrm flipV="1">
              <a:off x="5881320" y="4064760"/>
              <a:ext cx="0" cy="19548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67"/>
            <p:cNvSpPr/>
            <p:nvPr/>
          </p:nvSpPr>
          <p:spPr>
            <a:xfrm>
              <a:off x="734040" y="5498280"/>
              <a:ext cx="1286280" cy="39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00"/>
                  </a:solidFill>
                  <a:latin typeface="Arial"/>
                </a:rPr>
                <a:t>PERSON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68"/>
            <p:cNvSpPr/>
            <p:nvPr/>
          </p:nvSpPr>
          <p:spPr>
            <a:xfrm flipV="1">
              <a:off x="5988600" y="3934800"/>
              <a:ext cx="0" cy="19548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69"/>
            <p:cNvSpPr/>
            <p:nvPr/>
          </p:nvSpPr>
          <p:spPr>
            <a:xfrm>
              <a:off x="5988600" y="5889600"/>
              <a:ext cx="28954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70"/>
            <p:cNvSpPr/>
            <p:nvPr/>
          </p:nvSpPr>
          <p:spPr>
            <a:xfrm flipV="1">
              <a:off x="8884440" y="2891520"/>
              <a:ext cx="0" cy="29980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71"/>
            <p:cNvSpPr/>
            <p:nvPr/>
          </p:nvSpPr>
          <p:spPr>
            <a:xfrm>
              <a:off x="5774040" y="2891520"/>
              <a:ext cx="31100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72"/>
            <p:cNvSpPr/>
            <p:nvPr/>
          </p:nvSpPr>
          <p:spPr>
            <a:xfrm>
              <a:off x="5774040" y="3934800"/>
              <a:ext cx="2145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73"/>
            <p:cNvSpPr/>
            <p:nvPr/>
          </p:nvSpPr>
          <p:spPr>
            <a:xfrm flipV="1">
              <a:off x="5774040" y="2891160"/>
              <a:ext cx="0" cy="104292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74"/>
            <p:cNvSpPr/>
            <p:nvPr/>
          </p:nvSpPr>
          <p:spPr>
            <a:xfrm>
              <a:off x="2342520" y="3152880"/>
              <a:ext cx="32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75"/>
            <p:cNvSpPr/>
            <p:nvPr/>
          </p:nvSpPr>
          <p:spPr>
            <a:xfrm>
              <a:off x="2020320" y="4195800"/>
              <a:ext cx="15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76"/>
            <p:cNvSpPr/>
            <p:nvPr/>
          </p:nvSpPr>
          <p:spPr>
            <a:xfrm>
              <a:off x="3522240" y="419580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77"/>
            <p:cNvSpPr/>
            <p:nvPr/>
          </p:nvSpPr>
          <p:spPr>
            <a:xfrm flipV="1">
              <a:off x="7919280" y="237024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78"/>
            <p:cNvSpPr/>
            <p:nvPr/>
          </p:nvSpPr>
          <p:spPr>
            <a:xfrm>
              <a:off x="1377360" y="237024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79"/>
            <p:cNvSpPr/>
            <p:nvPr/>
          </p:nvSpPr>
          <p:spPr>
            <a:xfrm>
              <a:off x="5238000" y="5629320"/>
              <a:ext cx="375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80"/>
            <p:cNvSpPr/>
            <p:nvPr/>
          </p:nvSpPr>
          <p:spPr>
            <a:xfrm flipV="1">
              <a:off x="8991720" y="2241000"/>
              <a:ext cx="0" cy="338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81"/>
            <p:cNvSpPr/>
            <p:nvPr/>
          </p:nvSpPr>
          <p:spPr>
            <a:xfrm flipH="1">
              <a:off x="8240760" y="2241000"/>
              <a:ext cx="75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82"/>
            <p:cNvSpPr/>
            <p:nvPr/>
          </p:nvSpPr>
          <p:spPr>
            <a:xfrm>
              <a:off x="3093120" y="3768480"/>
              <a:ext cx="2520" cy="147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83"/>
            <p:cNvSpPr/>
            <p:nvPr/>
          </p:nvSpPr>
          <p:spPr>
            <a:xfrm>
              <a:off x="3093120" y="5238000"/>
              <a:ext cx="35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84"/>
            <p:cNvSpPr/>
            <p:nvPr/>
          </p:nvSpPr>
          <p:spPr>
            <a:xfrm flipV="1">
              <a:off x="6631920" y="4846320"/>
              <a:ext cx="0" cy="3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85"/>
            <p:cNvSpPr/>
            <p:nvPr/>
          </p:nvSpPr>
          <p:spPr>
            <a:xfrm>
              <a:off x="5023440" y="237024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86"/>
            <p:cNvSpPr/>
            <p:nvPr/>
          </p:nvSpPr>
          <p:spPr>
            <a:xfrm flipH="1">
              <a:off x="5452920" y="3540240"/>
              <a:ext cx="53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86 Marcador de fecha"/>
          <p:cNvSpPr/>
          <p:nvPr/>
        </p:nvSpPr>
        <p:spPr>
          <a:xfrm>
            <a:off x="2771640" y="638172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87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0729-FEF5-4543-A751-5970CB6A1B4F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88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Ver la complejidad implica ver sistémicamente. Una mirada exclusivamente analítica es ineficaz para un directivo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Century Gothic"/>
              </a:rPr>
              <a:t>ANEXO: PAUTA PRÁCTICA DE ANÁLISIS ESTRATÉGICO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898989"/>
              </a:solidFill>
              <a:latin typeface="Century Gothic"/>
            </a:endParaRPr>
          </a:p>
        </p:txBody>
      </p:sp>
      <p:sp>
        <p:nvSpPr>
          <p:cNvPr id="648" name="5 Marcador de fecha"/>
          <p:cNvSpPr/>
          <p:nvPr/>
        </p:nvSpPr>
        <p:spPr>
          <a:xfrm>
            <a:off x="2771640" y="638172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D9E6-EBEE-4B4E-B027-8D254559A6A6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7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5056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Propósitos I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5327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6240" indent="-336240">
              <a:spcBef>
                <a:spcPts val="550"/>
              </a:spcBef>
              <a:buClr>
                <a:srgbClr val="cc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cc0000"/>
                </a:solidFill>
                <a:latin typeface="Century Gothic"/>
              </a:rPr>
              <a:t>(*) ¿Qué VP entrega la Organización X?;  a su juicio, ¿la hace una diferencia relevante para el país?; ¿es sustantivamente valiosa?, ¿dónde está específicamente la “agregación” de valor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Qué beneficios y costos específicos enfrentan los diversos clientes, comunidad, fiscalizados? , ¿cómo se pueden maximizar o minimizar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Cómo agrega valor a nivel de productos/servicios y de impacto final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Qué percepción tienen los clientes, los ciudadanos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Cuál es la agregación de valor de los últimos 6 años?¿Hay “progreso” en la agregación de VP ?, ¿en qué sentido? ¿Hay alguna acción puntual/proceso/ función especialmente destacable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3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8813-800A-4852-9E15-859B5C3547F2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5056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Propósitos II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6043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Debería ajustarse o enfatizarse en algún sentido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Hay alguna línea de desarrollo que agrega más Valor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Hay algún indicador relevante que dé cuenta de la agregación de valor público? (costos, beneficios, tendencias…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entury Gothic"/>
              </a:rPr>
              <a:t>¿Cuál es la causalidad de la generación de valor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entury Gothic"/>
              </a:rPr>
              <a:t>¿Qué espacios de ganancia en materias de calidad de servicio existen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entury Gothic"/>
              </a:rPr>
              <a:t>¿Qué espacios de ganancia en confianza existen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54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8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AC4D-A78E-426A-8790-47FE88F8243C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61760" y="549360"/>
            <a:ext cx="792468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Gestión del Entorno I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cc0000"/>
                </a:solidFill>
                <a:latin typeface="Century Gothic"/>
              </a:rPr>
              <a:t>(*)¿Qué complejidades/demandas enfrenta la organización X en relación a su entorno/</a:t>
            </a:r>
            <a:r>
              <a:rPr b="1" i="1" lang="es-CL" sz="2200" spc="-1" strike="noStrike">
                <a:solidFill>
                  <a:srgbClr val="cc0000"/>
                </a:solidFill>
                <a:latin typeface="Century Gothic"/>
              </a:rPr>
              <a:t>stakeholders</a:t>
            </a:r>
            <a:r>
              <a:rPr b="1" lang="es-CL" sz="2200" spc="-1" strike="noStrike">
                <a:solidFill>
                  <a:srgbClr val="cc0000"/>
                </a:solidFill>
                <a:latin typeface="Century Gothic"/>
              </a:rPr>
              <a:t> claves?, ¿cómo se debería gestionar dicha situación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76080" indent="-259920">
              <a:spcBef>
                <a:spcPts val="524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99"/>
                </a:solidFill>
                <a:latin typeface="Century Gothic"/>
              </a:rPr>
              <a:t>¿Cuáles son los “</a:t>
            </a:r>
            <a:r>
              <a:rPr b="1" i="1" lang="es-CL" sz="2100" spc="-1" strike="noStrike">
                <a:solidFill>
                  <a:srgbClr val="000099"/>
                </a:solidFill>
                <a:latin typeface="Century Gothic"/>
              </a:rPr>
              <a:t>stakeholders clave</a:t>
            </a:r>
            <a:r>
              <a:rPr b="1" lang="es-CL" sz="2100" spc="-1" strike="noStrike">
                <a:solidFill>
                  <a:srgbClr val="000099"/>
                </a:solidFill>
                <a:latin typeface="Century Gothic"/>
              </a:rPr>
              <a:t>”, más a allá de la ciudadanía,  y qué valor esperan de la organización? ¿Cómo la dicha organización ha sido efectiva en esa agregación de Valor?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1" marL="676080" indent="-259920">
              <a:spcBef>
                <a:spcPts val="524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99"/>
                </a:solidFill>
                <a:latin typeface="Century Gothic"/>
              </a:rPr>
              <a:t>¿Ha gestionado la dicha organización suficientemente las Alianzas, y las capacidades externas que requiere para cumplir sus propósitos?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1" marL="676080" indent="-259920">
              <a:spcBef>
                <a:spcPts val="524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99"/>
                </a:solidFill>
                <a:latin typeface="Century Gothic"/>
              </a:rPr>
              <a:t>¿Cuenta esta organización con suficiente legitimidad e influencia en su entorno relevante?¿Qué debería hacer?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3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3A91-4880-41E6-8E70-3A76B61786F2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92468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Gestión del Entorno II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99"/>
                </a:solidFill>
                <a:latin typeface="Century Gothic"/>
              </a:rPr>
              <a:t>¿Cuáles son las implicaciones del estado actual (o cambios anticipados) en el entorno de la organización? 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99"/>
                </a:solidFill>
                <a:latin typeface="Century Gothic"/>
              </a:rPr>
              <a:t>¿cómo afecta el entorno a las capacidades de la organización para alcanzar su propósito?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99"/>
                </a:solidFill>
                <a:latin typeface="Century Gothic"/>
              </a:rPr>
              <a:t>¿Debe la organización adaptar o revisar sus metas y propósitos?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99"/>
                </a:solidFill>
                <a:latin typeface="Century Gothic"/>
              </a:rPr>
              <a:t>¿cómo deben adaptarse las capacidades organizacionales para reflejar los cambios del entorno?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99"/>
                </a:solidFill>
                <a:latin typeface="Century Gothic"/>
              </a:rPr>
              <a:t>¿cómo debe la organización vincularse con actores externos clave, instituciones y electores? 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8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DDF1-2410-4D65-BB66-2995D82F91E4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92468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Gestión del Entorno III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99"/>
                </a:solidFill>
                <a:latin typeface="Century Gothic"/>
              </a:rPr>
              <a:t>¿Cuáles son las tendencias actuales y de mediano plazo que pueden afectar a la organización en el futuro?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99"/>
                </a:solidFill>
                <a:latin typeface="Century Gothic"/>
              </a:rPr>
              <a:t>Tecnología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99"/>
                </a:solidFill>
                <a:latin typeface="Century Gothic"/>
              </a:rPr>
              <a:t>Leyes/Política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99"/>
                </a:solidFill>
                <a:latin typeface="Century Gothic"/>
              </a:rPr>
              <a:t>Valores Sociales/Culturales del país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99"/>
                </a:solidFill>
                <a:latin typeface="Century Gothic"/>
              </a:rPr>
              <a:t>Cambios sociales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99"/>
                </a:solidFill>
                <a:latin typeface="Century Gothic"/>
              </a:rPr>
              <a:t>Factores económicos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3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44D4-4F8F-4695-B008-F443EE6869E8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Supone que los </a:t>
            </a:r>
            <a:r>
              <a:rPr b="1" lang="es-ES" sz="3600" spc="-1" strike="noStrike">
                <a:solidFill>
                  <a:srgbClr val="00a3d6"/>
                </a:solidFill>
                <a:latin typeface="Calibri"/>
              </a:rPr>
              <a:t>propósitos son nítidos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n las pautas normativas (Leyes, discursos o declaraciones de las “autoridades”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nfatiza más en la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“administración”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(objetivos y procedimientos definidos)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que en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“la gestión”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(respuesta a objetivos declarados, procedimientos amplios)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A8EA-D235-4939-9AFC-AA7AC5083754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"/>
          <p:cNvSpPr/>
          <p:nvPr/>
        </p:nvSpPr>
        <p:spPr>
          <a:xfrm>
            <a:off x="0" y="333360"/>
            <a:ext cx="9144000" cy="792000"/>
          </a:xfrm>
          <a:prstGeom prst="roundRect">
            <a:avLst>
              <a:gd name="adj" fmla="val 21667"/>
            </a:avLst>
          </a:prstGeom>
          <a:solidFill>
            <a:srgbClr val="edd3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ODELO TRADI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Capacidad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cc0000"/>
                </a:solidFill>
                <a:latin typeface="Century Gothic"/>
              </a:rPr>
              <a:t>(*) ¿Existe  congruencia entre las capacidades de todo tipo (cualitativa y cuantitativamente) con los propósitos de la organización?  (Personas, Sistemas, conocimientos, infraestructura, organización…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Es viable técnica y operativamente el desarrollo de largo plazo de la organización dada las demandas  actuales y las tendencias del entorno que enfrenta?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Se enfrenta algún riesgo interno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Cuáles son los espacios de capacidades más necesitados de desarrollo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8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F1F1-63D2-4CD9-BE38-53E897F8A36C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9001080" cy="40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l directivo debe cumplir sus mandatos con eficacia y eficiencia; tiende a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suponer </a:t>
            </a:r>
            <a:r>
              <a:rPr b="1" lang="es-ES" sz="4000" spc="-1" strike="noStrike">
                <a:solidFill>
                  <a:srgbClr val="00a3d6"/>
                </a:solidFill>
                <a:latin typeface="Calibri"/>
              </a:rPr>
              <a:t>conocimiento experto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(se conocen la respuestas, no requiere participación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ás “burocracia”, menos “emprendimiento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Las fuerzas son: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descendentes y </a:t>
            </a:r>
            <a:r>
              <a:rPr b="1" lang="es-ES" sz="4000" spc="-1" strike="noStrike">
                <a:solidFill>
                  <a:srgbClr val="00a3d6"/>
                </a:solidFill>
                <a:latin typeface="Calibri"/>
              </a:rPr>
              <a:t>hacia adentro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iende a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no abrir reflexión sobre propósitos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6AEC-2BB4-4BAE-A5FE-7A38A65B48D6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solidFill>
            <a:srgbClr val="edd3b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ODELO TRADICIONA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Gothic"/>
              </a:rPr>
              <a:t>Mark Moor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4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5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5A61-AD4A-4A56-8C47-663174E62AE8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1573200" y="2286000"/>
            <a:ext cx="421812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04:25:03Z</dcterms:created>
  <dc:creator>cuc</dc:creator>
  <dc:description/>
  <dc:language>en-US</dc:language>
  <cp:lastModifiedBy>paula</cp:lastModifiedBy>
  <dcterms:modified xsi:type="dcterms:W3CDTF">2012-03-05T13:39:15Z</dcterms:modified>
  <cp:revision>246</cp:revision>
  <dc:subject/>
  <dc:title>Diapositiva 1</dc:title>
</cp:coreProperties>
</file>