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64E6-764A-41E7-B66C-E473B443CF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F4BE-CB35-42EB-A7EB-F1CB0F9561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39B0-C830-4197-BC7D-108D034611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03A9-7DEA-4A28-9FA2-0201BF93BF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80E2-4FDD-47B2-BD97-2CD8FB5CEA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9AAB-B9AE-4DC4-95D6-E29E4CB3DB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4BF3-B245-47E0-BD4A-96FAD8F414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7962-3BE0-4938-A237-3DFDF88A8D2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43A9-8410-47D7-BAC8-4EDF3FE109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4D76-0E74-454A-A04D-6B0C472F369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7D50-609C-4E81-B8E1-2F310191F0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E3DA-1DAC-45A9-8382-7CDED4F082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50B0-1474-4550-931B-F1FEAC6C45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5977-9C64-4905-9198-E26DE7FFDA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7380-2006-47B9-83C1-E631C1D8A0A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44FB-7A1E-47D3-9F02-C94B681171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2165-551E-4426-8FFD-F5967D90DC2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.      En síntesis, cuál era el desafío relevante y prioritario de Ruckelshaus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.      Identifique el listado de actores, sus intereses  y sus posiciones relativas, que están en el entorno relevante de la EPA y señale cómo  determinan a las definiciones estratégicas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ii.      ¿Cuáles fueron las amenazas-restricciones y las oportunidades observadas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v.      En síntesis, explique cuál fue la estrategia y sus atributos (ventajas, desventajas) de la misma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.      ¿Qué ventajas/desventajas desde el punto de vista de los ecologistas, industriales, organización, gobierno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i.      ¿Qué otra misión habría usted señalado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viii.      ¿Qué hizo R. respecto a los siguiente atributos deseables (como señala el texto) de una estrategia en el sector público?)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.      Sustantivamente relevante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.      Viable políticamente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3.      Operativamente factible y suficientemente cla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8715-3951-4A0E-9F08-CA95482003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0B76-E389-44DA-84A5-107F9A3BA4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9059-A5EC-43D0-835B-A6B20CEB54E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8BE9-D566-42E5-B763-1F7CBAD8E7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54DA-E47E-4D29-A228-160D1837F3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2376-9FFA-48BF-B907-1A39ADC0C7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6453-003E-49DF-96CA-36193D6154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602F-3F1B-4DFB-BC1A-A01CF87FAF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6036-246D-4166-B18A-AAFE9139AC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A87C-3083-468A-9247-0C68ACD829F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48D9-2C66-42A4-B399-B2B1C41085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2A22-7A45-4203-AA83-4E807D9997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2D9B-24F0-4AFC-A6D0-D51A91A97E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2C64-8B7B-4DBF-92CF-65F2B3EF6D7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B73B-1D93-4A53-A604-88D95B62BD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4BD5-1D0C-48B9-BBC8-BE96A8A44F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E11A-4DAD-468B-96A1-14EF0F215E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9D70-7CF4-4C12-B655-7CE82FDDA9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8BD9-3C2C-48AF-A4DE-7013AE62DE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715A-2787-417A-9977-AC55E365D8A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CF16-0AA1-4A44-A428-6B7869DB19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9D86-EDEC-4C22-86E0-85B944C912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E600-05D4-4C06-A427-4CB3AB5CD78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0238-92FD-497B-9C4E-3560774BC6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E312-8597-4D39-A3BE-1032CF7134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A326-468E-471C-8022-1A1F7E81F0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A529-57B4-49F9-861B-099B5E4E7E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6868-B417-4426-B926-6AD6EF7B17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BC8A-F4FF-4ED5-9D98-D38D24D8A1F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A1E0-1D42-4CD1-A435-BD89C2B3D1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531D-349F-4347-B969-611EC4C503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BA96-36A9-4287-8E00-399EFAA864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33DF-84EF-4CCF-B5B4-CCDB38CA52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3773-9989-4C42-AAC0-ACA3632C13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6C83-CE5C-4C4F-879B-A984514350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E60A-E1F5-4B90-BD57-FDF9BCB3FC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AE2C-DF04-43BA-ADA2-79522EC6F8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B540-F397-474C-ADAC-44FCFAF32E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8420-9826-4E59-AA8A-C376C59048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1CB7-E911-4122-AFB5-239447FE8A8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8251-CBE6-416D-BB4C-96B5BA7990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8100-FAC6-46AF-8B30-CACA0AD2A7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0331-61C4-41E5-BBEB-C727039D089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80B6-1298-4500-B802-392F353CE4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EFCA-4C8E-4EA4-981F-0CAA1EFD84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22B6-12CE-4AAA-8926-35D84A88869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6250-FDF3-4724-9F1E-A3DBA15EFA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EB45-E520-4267-AC6B-1596BEF995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95AE-E75A-4DDB-87A0-05F66858DC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8A33-FA75-4ED1-986D-3C92450C85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0D6F-7955-4FA4-85F9-39FD53FA51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8642-DE19-4812-8045-DBA37BAE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552-A1BC-4B03-B241-39B31377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989-51A3-4510-8E8F-68896426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D39-E963-4C53-9410-EFC697C1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48E0-9074-47FF-B28B-E3A69FB6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3F1E-E4A6-4AF6-ABC0-8018D7FD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E7CB-423A-4BE7-BA0F-A8D5C8DD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5885-C8CA-45C3-964C-E7BD044C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5C57-0EE1-423F-A0AA-2507C68F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787F-3E01-4255-8D09-0F27A50C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02FD-3148-4922-87F6-AA626EDB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90B-B983-425F-A4F8-8AC1A875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89EC-0417-4B05-8F7B-46D485E4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77E4-FBCF-4178-8CAA-25FD4FF0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7ACB-44F3-4D0A-BC40-3620D1DE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9D0E-1DE7-4608-99BA-8F744B8C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94F7-32D6-4C4A-AC3F-2185DD4B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87687-D6F2-4C77-98E4-BF6B9169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42916-C6F0-47DF-89CF-492B2083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BF3C1-2E8F-422E-8B37-12D20493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DB232-84B8-4BC0-BFB3-FC73BD52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09518-B16A-47EC-B5FB-277055FD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F51-0F79-4A30-ABF0-EC25583A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F6F9-F3FE-4443-9F5C-5CA5691B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7B60D-942A-45A3-9CAF-B35F98AC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760E8-4EE8-4DB6-85D6-F5300CB3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A189D-0604-4B05-A411-BC2F8225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32913-83F8-444F-B404-9E4D44A4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96A4D-747D-42B1-B34D-91722CDF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DE90B-A160-485A-8528-E1FD6481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9B1E8-EA88-4DAE-A58D-CE094CD4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77AC6-20E5-47EE-A4E3-A9489061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66666-8325-40B5-BFFD-19D6BF7C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66D1-8C05-4B2A-9AC2-4352B2BF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ACE58-800C-4DF3-BC0B-AC237490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41462-79FF-4E58-8886-38354054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F4843-70D6-4B4D-85BD-378B672C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9D25F-DAD2-4274-BD1A-C9B9939C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B8FF6-51C8-4229-8C16-1BFB225F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1050C-6083-46C8-969E-FAE820EB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7D84D-D715-4077-91BF-C3A11DDD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7429C-20EE-4185-8187-90FF01F3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7D951-3355-4F12-9905-65628BD2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842-CA14-499D-A89E-F7DE3E0B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E22-DEDB-412A-8543-2062E6ED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BF03-35A1-46AC-A3F7-129939D0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2B3F-A2E4-492E-8775-D7A9F79D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C34D-4BEF-4D5C-8068-BF2DC54A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Carlos Urriola\Escritorio\My Dropbox\A.3.2 CSP\E. Documentos\Imagenes\Logos\CSP3.bmp"/>
          <p:cNvPicPr/>
          <p:nvPr/>
        </p:nvPicPr>
        <p:blipFill>
          <a:blip r:embed="rId2"/>
          <a:srcRect l="0" t="23605" r="6653" b="0"/>
          <a:stretch/>
        </p:blipFill>
        <p:spPr>
          <a:xfrm>
            <a:off x="5148360" y="0"/>
            <a:ext cx="3995640" cy="73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Carlos Urriola\Escritorio\My Dropbox\A.3.2 CSP\E. Documentos\Imagenes\Logos\CSP-color+bajada.bmp"/>
          <p:cNvPicPr/>
          <p:nvPr/>
        </p:nvPicPr>
        <p:blipFill>
          <a:blip r:embed="rId3"/>
          <a:stretch/>
        </p:blipFill>
        <p:spPr>
          <a:xfrm>
            <a:off x="34920" y="6448320"/>
            <a:ext cx="1838160" cy="297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C:\Documents and Settings\Carlos Urriola\Escritorio\My Dropbox\A.3.2 CSP\E. Documentos\Imagenes\Logos\CSP3.bmp"/>
          <p:cNvPicPr/>
          <p:nvPr/>
        </p:nvPicPr>
        <p:blipFill>
          <a:blip r:embed="rId4"/>
          <a:stretch/>
        </p:blipFill>
        <p:spPr>
          <a:xfrm>
            <a:off x="7650000" y="6237360"/>
            <a:ext cx="1494000" cy="62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771280" y="6381360"/>
            <a:ext cx="10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4360" y="6381360"/>
            <a:ext cx="1042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BBBE-BCA5-4CBA-88AD-F3A3BBEA4503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:\Documents and Settings\Carlos Urriola\Escritorio\My Dropbox\A.3.2 CSP\E. Documentos\Imagenes\Logos\CSP3.bmp"/>
          <p:cNvPicPr/>
          <p:nvPr/>
        </p:nvPicPr>
        <p:blipFill>
          <a:blip r:embed="rId2"/>
          <a:srcRect l="0" t="23605" r="6653" b="0"/>
          <a:stretch/>
        </p:blipFill>
        <p:spPr>
          <a:xfrm>
            <a:off x="5148360" y="0"/>
            <a:ext cx="3995640" cy="736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Carlos Urriola\Escritorio\My Dropbox\A.3.2 CSP\E. Documentos\Imagenes\Logos\CSP-color+bajada.bmp"/>
          <p:cNvPicPr/>
          <p:nvPr/>
        </p:nvPicPr>
        <p:blipFill>
          <a:blip r:embed="rId3"/>
          <a:stretch/>
        </p:blipFill>
        <p:spPr>
          <a:xfrm>
            <a:off x="34920" y="6448320"/>
            <a:ext cx="1838160" cy="297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Carlos Urriola\Escritorio\My Dropbox\A.3.2 CSP\E. Documentos\Imagenes\Logos\CSP3.bmp"/>
          <p:cNvPicPr/>
          <p:nvPr/>
        </p:nvPicPr>
        <p:blipFill>
          <a:blip r:embed="rId4"/>
          <a:stretch/>
        </p:blipFill>
        <p:spPr>
          <a:xfrm>
            <a:off x="7650000" y="6237360"/>
            <a:ext cx="1494000" cy="620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Carlos Urriola\Escritorio\My Dropbox\A.3.2 CSP\E. Documentos\Imagenes\Logos\CSP-color+bajada.bmp"/>
          <p:cNvPicPr/>
          <p:nvPr/>
        </p:nvPicPr>
        <p:blipFill>
          <a:blip r:embed="rId5"/>
          <a:stretch/>
        </p:blipFill>
        <p:spPr>
          <a:xfrm>
            <a:off x="1892160" y="5300640"/>
            <a:ext cx="5359680" cy="86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Carlos Urriola\Escritorio\My Dropbox\A.3.2 CSP\E. Documentos\Imagenes\Logos\CSP3.bmp"/>
          <p:cNvPicPr/>
          <p:nvPr/>
        </p:nvPicPr>
        <p:blipFill>
          <a:blip r:embed="rId6"/>
          <a:srcRect l="6653" t="0" r="0" b="0"/>
          <a:stretch/>
        </p:blipFill>
        <p:spPr>
          <a:xfrm>
            <a:off x="0" y="0"/>
            <a:ext cx="3529080" cy="90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Carlos Urriola\Escritorio\My Dropbox\A.3.2 CSP\E. Documentos\Imagenes\Logos\CSP3.bmp"/>
          <p:cNvPicPr/>
          <p:nvPr/>
        </p:nvPicPr>
        <p:blipFill>
          <a:blip r:embed="rId7"/>
          <a:srcRect l="0" t="0" r="6653" b="0"/>
          <a:stretch/>
        </p:blipFill>
        <p:spPr>
          <a:xfrm>
            <a:off x="5516640" y="0"/>
            <a:ext cx="3627360" cy="907920"/>
          </a:xfrm>
          <a:prstGeom prst="rect">
            <a:avLst/>
          </a:prstGeom>
          <a:ln w="0">
            <a:noFill/>
          </a:ln>
        </p:spPr>
      </p:pic>
      <p:sp>
        <p:nvSpPr>
          <p:cNvPr id="50" name="9 CuadroTexto"/>
          <p:cNvSpPr/>
          <p:nvPr/>
        </p:nvSpPr>
        <p:spPr>
          <a:xfrm>
            <a:off x="0" y="5934240"/>
            <a:ext cx="1998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0" y="6237360"/>
            <a:ext cx="19368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343320" y="6381720"/>
            <a:ext cx="2457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740360" y="6308640"/>
            <a:ext cx="10429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455C-5D43-4176-B50D-86A24E309960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C:\Documents and Settings\Carlos Urriola\Escritorio\My Dropbox\A.3.2 CSP\E. Documentos\Imagenes\Logos\CSP3.bmp"/>
          <p:cNvPicPr/>
          <p:nvPr/>
        </p:nvPicPr>
        <p:blipFill>
          <a:blip r:embed="rId2"/>
          <a:srcRect l="0" t="23605" r="6653" b="0"/>
          <a:stretch/>
        </p:blipFill>
        <p:spPr>
          <a:xfrm>
            <a:off x="5148360" y="0"/>
            <a:ext cx="3995640" cy="736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Carlos Urriola\Escritorio\My Dropbox\A.3.2 CSP\E. Documentos\Imagenes\Logos\CSP-color+bajada.bmp"/>
          <p:cNvPicPr/>
          <p:nvPr/>
        </p:nvPicPr>
        <p:blipFill>
          <a:blip r:embed="rId3"/>
          <a:stretch/>
        </p:blipFill>
        <p:spPr>
          <a:xfrm>
            <a:off x="34920" y="6448320"/>
            <a:ext cx="1838160" cy="297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Carlos Urriola\Escritorio\My Dropbox\A.3.2 CSP\E. Documentos\Imagenes\Logos\CSP3.bmp"/>
          <p:cNvPicPr/>
          <p:nvPr/>
        </p:nvPicPr>
        <p:blipFill>
          <a:blip r:embed="rId4"/>
          <a:stretch/>
        </p:blipFill>
        <p:spPr>
          <a:xfrm>
            <a:off x="7650000" y="6237360"/>
            <a:ext cx="1494000" cy="62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771280" y="6381360"/>
            <a:ext cx="1008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624360" y="6381360"/>
            <a:ext cx="1042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EFB6-EA45-4D6D-9CA4-6A098F3B7891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C:\Documents and Settings\Carlos Urriola\Escritorio\My Dropbox\A.3.2 CSP\E. Documentos\Imagenes\Logos\CSP3.bmp"/>
          <p:cNvPicPr/>
          <p:nvPr/>
        </p:nvPicPr>
        <p:blipFill>
          <a:blip r:embed="rId2"/>
          <a:srcRect l="0" t="23605" r="6653" b="0"/>
          <a:stretch/>
        </p:blipFill>
        <p:spPr>
          <a:xfrm>
            <a:off x="5148360" y="0"/>
            <a:ext cx="3995640" cy="736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Carlos Urriola\Escritorio\My Dropbox\A.3.2 CSP\E. Documentos\Imagenes\Logos\CSP-color+bajada.bmp"/>
          <p:cNvPicPr/>
          <p:nvPr/>
        </p:nvPicPr>
        <p:blipFill>
          <a:blip r:embed="rId3"/>
          <a:stretch/>
        </p:blipFill>
        <p:spPr>
          <a:xfrm>
            <a:off x="34920" y="6448320"/>
            <a:ext cx="1838160" cy="297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Documents and Settings\Carlos Urriola\Escritorio\My Dropbox\A.3.2 CSP\E. Documentos\Imagenes\Logos\CSP3.bmp"/>
          <p:cNvPicPr/>
          <p:nvPr/>
        </p:nvPicPr>
        <p:blipFill>
          <a:blip r:embed="rId4"/>
          <a:stretch/>
        </p:blipFill>
        <p:spPr>
          <a:xfrm>
            <a:off x="7650000" y="6237360"/>
            <a:ext cx="1494000" cy="620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480C-C653-4AEC-91B0-C022C55DEC16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inostro@dii.uchile.cl" TargetMode="External"/><Relationship Id="rId2" Type="http://schemas.openxmlformats.org/officeDocument/2006/relationships/hyperlink" Target="http://www.sistemaspublicos.cl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7520" y="1655640"/>
            <a:ext cx="8548560" cy="18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16349"/>
                </a:solidFill>
                <a:latin typeface="Century Gothic"/>
              </a:rPr>
              <a:t>Enfoque Tradicional, Creación de Valor Público y </a:t>
            </a:r>
            <a:r>
              <a:rPr b="1" i="1" lang="es-ES" sz="4400" spc="-1" strike="noStrike">
                <a:solidFill>
                  <a:srgbClr val="d16349"/>
                </a:solidFill>
                <a:latin typeface="Century Gothic"/>
              </a:rPr>
              <a:t>New Public Managemen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20560" y="3578040"/>
            <a:ext cx="72518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898989"/>
                </a:solidFill>
                <a:latin typeface="Century Gothic"/>
              </a:rPr>
              <a:t>                   </a:t>
            </a:r>
            <a:r>
              <a:rPr b="1" lang="es-ES_tradnl" sz="1400" spc="-1" strike="noStrike">
                <a:solidFill>
                  <a:srgbClr val="898989"/>
                </a:solidFill>
                <a:latin typeface="Century Gothic"/>
              </a:rPr>
              <a:t>Curso: Introducción a la </a:t>
            </a:r>
            <a:r>
              <a:rPr b="1" lang="es-ES" sz="1400" spc="-1" strike="noStrike">
                <a:solidFill>
                  <a:srgbClr val="898989"/>
                </a:solidFill>
                <a:latin typeface="Century Gothic"/>
              </a:rPr>
              <a:t>Gestión Pública; Ministerio de Energia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898989"/>
                </a:solidFill>
                <a:latin typeface="Century Gothic"/>
              </a:rPr>
              <a:t>Profesor: José Inostroza, </a:t>
            </a:r>
            <a:r>
              <a:rPr b="0" lang="es-ES_tradnl" sz="1100" spc="-1" strike="noStrike" u="sng">
                <a:solidFill>
                  <a:srgbClr val="00a3d6"/>
                </a:solidFill>
                <a:uFillTx/>
                <a:latin typeface="Century Gothic"/>
                <a:hlinkClick r:id="rId1"/>
              </a:rPr>
              <a:t>jinostro@dii.uchile.cl</a:t>
            </a:r>
            <a:r>
              <a:rPr b="1" lang="es-ES_tradnl" sz="1100" spc="-1" strike="noStrike">
                <a:solidFill>
                  <a:srgbClr val="898989"/>
                </a:solidFill>
                <a:latin typeface="Century Gothic"/>
              </a:rPr>
              <a:t>; @jinostro, </a:t>
            </a:r>
            <a:r>
              <a:rPr b="0" lang="es-ES_tradnl" sz="1100" spc="-1" strike="noStrike" u="sng">
                <a:solidFill>
                  <a:srgbClr val="00a3d6"/>
                </a:solidFill>
                <a:uFillTx/>
                <a:latin typeface="Century Gothic"/>
                <a:hlinkClick r:id="rId2"/>
              </a:rPr>
              <a:t>www.sistemaspublicos.cl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100" spc="-1" strike="noStrike">
                <a:solidFill>
                  <a:srgbClr val="898989"/>
                </a:solidFill>
                <a:latin typeface="Century Gothic"/>
              </a:rPr>
              <a:t>Moore, Mark: “Gestión Estratégica y Creación de Valor en el Sector Público”. Paidos, 1998. 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100" spc="-1" strike="noStrike">
                <a:solidFill>
                  <a:srgbClr val="898989"/>
                </a:solidFill>
                <a:latin typeface="Century Gothic"/>
              </a:rPr>
              <a:t> </a:t>
            </a:r>
            <a:r>
              <a:rPr b="1" i="1" lang="es-ES" sz="1100" spc="-1" strike="noStrike">
                <a:solidFill>
                  <a:srgbClr val="898989"/>
                </a:solidFill>
                <a:latin typeface="Century Gothic"/>
              </a:rPr>
              <a:t>Kelly, G. y Muers, S., “Creating Public Value. An analytical framework for public service reform”, Strategy Unit, Cabinet Office UK, 2002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9" name="Picture 2" descr="C:\Documents and Settings\Carlos Urriola\Escritorio\My Dropbox\A.3.2 CSP\E. Documentos\Imagenes\Logos\CSP-color+bajada.bmp"/>
          <p:cNvPicPr/>
          <p:nvPr/>
        </p:nvPicPr>
        <p:blipFill>
          <a:blip r:embed="rId3"/>
          <a:stretch/>
        </p:blipFill>
        <p:spPr>
          <a:xfrm>
            <a:off x="1892160" y="5300640"/>
            <a:ext cx="5359680" cy="865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Documents and Settings\Carlos Urriola\Escritorio\My Dropbox\A.3.2 CSP\E. Documentos\Imagenes\Logos\CSP3.bmp"/>
          <p:cNvPicPr/>
          <p:nvPr/>
        </p:nvPicPr>
        <p:blipFill>
          <a:blip r:embed="rId4"/>
          <a:srcRect l="6653" t="0" r="0" b="0"/>
          <a:stretch/>
        </p:blipFill>
        <p:spPr>
          <a:xfrm>
            <a:off x="0" y="0"/>
            <a:ext cx="3529080" cy="907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Carlos Urriola\Escritorio\My Dropbox\A.3.2 CSP\E. Documentos\Imagenes\Logos\CSP3.bmp"/>
          <p:cNvPicPr/>
          <p:nvPr/>
        </p:nvPicPr>
        <p:blipFill>
          <a:blip r:embed="rId5"/>
          <a:stretch/>
        </p:blipFill>
        <p:spPr>
          <a:xfrm>
            <a:off x="7650000" y="5973840"/>
            <a:ext cx="1494000" cy="884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C:\Documents and Settings\Carlos Urriola\Escritorio\My Dropbox\A.3.2 CSP\E. Documentos\Imagenes\Logos\CSP3.bmp"/>
          <p:cNvPicPr/>
          <p:nvPr/>
        </p:nvPicPr>
        <p:blipFill>
          <a:blip r:embed="rId6"/>
          <a:srcRect l="0" t="0" r="6653" b="0"/>
          <a:stretch/>
        </p:blipFill>
        <p:spPr>
          <a:xfrm>
            <a:off x="5516640" y="0"/>
            <a:ext cx="3627360" cy="907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Documents and Settings\Carlos Urriola\Escritorio\My Dropbox\A.3.2 CSP\E. Documentos\Imagenes\Logos\CSP3.bmp"/>
          <p:cNvPicPr/>
          <p:nvPr/>
        </p:nvPicPr>
        <p:blipFill>
          <a:blip r:embed="rId7"/>
          <a:stretch/>
        </p:blipFill>
        <p:spPr>
          <a:xfrm>
            <a:off x="0" y="5973840"/>
            <a:ext cx="1465200" cy="884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entury Gothic"/>
              </a:rPr>
              <a:t>¿QUÉ ES EL VALOR PÚBLICO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898989"/>
              </a:solidFill>
              <a:latin typeface="Century Gothic"/>
            </a:endParaRPr>
          </a:p>
        </p:txBody>
      </p:sp>
      <p:sp>
        <p:nvSpPr>
          <p:cNvPr id="251" name="3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4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5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130A-FF74-420F-9F48-D93FFFD19850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3480"/>
            <a:ext cx="9144000" cy="93492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03600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 “ </a:t>
            </a:r>
            <a:r>
              <a:rPr b="1" lang="es-ES" sz="4000" spc="-1" strike="noStrike">
                <a:solidFill>
                  <a:srgbClr val="c00000"/>
                </a:solidFill>
                <a:latin typeface="Calibri"/>
              </a:rPr>
              <a:t>Valor agregad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que produce el sector público”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990720" indent="-533520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veniente de los  “beneficios percibidos” por (a) ciudadanos/comunidad y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(b) usuarios/consumidores /clientes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990720" indent="-5335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contando los costos” en los que se incurr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990720" indent="-5335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a “Valor Presente”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0292-97C7-4B11-A5B8-D3D7B5B5AECB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20680"/>
            <a:ext cx="9144000" cy="90792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55640" indent="-755640" algn="just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Los beneficio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ueden darse a nivel de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roductos o servicios  (outputs): Ej .Vacuna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Impactos o resultados (outcomes) Ej. Tasa de enfermedad específica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nfianza: (Ejs.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Filtración de info en Banco Central, Caso CORFO/Inverlink,  Crisis sanitarias (ESB/´vaca loca’), Corrupción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755640" indent="-755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Componentes de la </a:t>
            </a:r>
            <a:r>
              <a:rPr b="1" lang="es-CL" sz="3200" spc="-1" strike="noStrike">
                <a:solidFill>
                  <a:srgbClr val="c00000"/>
                </a:solidFill>
                <a:latin typeface="Calibri"/>
              </a:rPr>
              <a:t>Confianza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Percepción de eficacia/desempeño (aunque causalidad es compleja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spcBef>
                <a:spcPts val="700"/>
              </a:spcBef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Percepción de integridad, ética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086480" indent="-661320" algn="just">
              <a:lnSpc>
                <a:spcPct val="100000"/>
              </a:lnSpc>
              <a:spcBef>
                <a:spcPts val="700"/>
              </a:spcBef>
              <a:buClr>
                <a:srgbClr val="00a3d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Percepción de transparencia/sinceridad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DE93-90F3-49B5-9977-E757C2C5C831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524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n los costos, también se refiere a :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20000"/>
              </a:lnSpc>
              <a:spcBef>
                <a:spcPts val="700"/>
              </a:spcBef>
              <a:buClr>
                <a:srgbClr val="00a3d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stos monetarios y NO monetarios. Ejs. de NO monetarios:  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pérdida de confianza, pérdida de libertad, medidas coercitivas, perdida de intimida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20000"/>
              </a:lnSpc>
              <a:spcBef>
                <a:spcPts val="499"/>
              </a:spcBef>
              <a:buClr>
                <a:srgbClr val="00a3d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irectos, Indirectos y de Oportunidad (¿Qué se podría hacer alternativamente con los recursos utilizados?)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5238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6098-D18D-4DF2-9988-6D817F94751C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260280"/>
            <a:ext cx="7924680" cy="7812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000" y="1628280"/>
            <a:ext cx="8820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52388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n ambos casos  -beneficios y costos - el criterio para su definición son las </a:t>
            </a:r>
            <a:r>
              <a:rPr b="1" lang="es-ES" sz="2800" spc="-1" strike="noStrike">
                <a:solidFill>
                  <a:srgbClr val="00a3d6"/>
                </a:solidFill>
                <a:latin typeface="Calibri"/>
              </a:rPr>
              <a:t>“preferencias públicas”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generadas en procesos colectivos (Ej. ley, grupo de ciudadanos, medios de comunicación)-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y también las </a:t>
            </a:r>
            <a:r>
              <a:rPr b="1" lang="es-ES" sz="2800" spc="-1" strike="noStrike">
                <a:solidFill>
                  <a:srgbClr val="00a3d6"/>
                </a:solidFill>
                <a:latin typeface="Calibri"/>
              </a:rPr>
              <a:t>“preferencias privadas”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expresadas por los usuarios/clientes/beneficiarios de los servicios público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C25A-BD53-4701-8D86-A9C087AEE285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j0233018"/>
          <p:cNvPicPr/>
          <p:nvPr/>
        </p:nvPicPr>
        <p:blipFill>
          <a:blip r:embed="rId1"/>
          <a:stretch/>
        </p:blipFill>
        <p:spPr>
          <a:xfrm>
            <a:off x="0" y="260280"/>
            <a:ext cx="2093760" cy="1633680"/>
          </a:xfrm>
          <a:prstGeom prst="rect">
            <a:avLst/>
          </a:prstGeom>
          <a:ln w="0">
            <a:noFill/>
          </a:ln>
        </p:spPr>
      </p:pic>
      <p:sp>
        <p:nvSpPr>
          <p:cNvPr id="273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" dur="1" fill="hold"/>
                                  <p:tgtEl>
                                    <p:spTgt spid="2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70812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RIGEN DE LAS PREFERENCIA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76" name="Rectangle 4"/>
          <p:cNvGrpSpPr/>
          <p:nvPr/>
        </p:nvGrpSpPr>
        <p:grpSpPr>
          <a:xfrm>
            <a:off x="5602320" y="2779560"/>
            <a:ext cx="3120840" cy="1756080"/>
            <a:chOff x="5602320" y="2779560"/>
            <a:chExt cx="3120840" cy="1756080"/>
          </a:xfrm>
        </p:grpSpPr>
        <p:pic>
          <p:nvPicPr>
            <p:cNvPr id="277" name="Rectangle 4" descr=""/>
            <p:cNvPicPr/>
            <p:nvPr/>
          </p:nvPicPr>
          <p:blipFill>
            <a:blip r:embed="rId1"/>
            <a:stretch/>
          </p:blipFill>
          <p:spPr>
            <a:xfrm>
              <a:off x="5602320" y="2779560"/>
              <a:ext cx="312084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638680" y="2819520"/>
              <a:ext cx="2971800" cy="16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Valor Públ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Oval 5"/>
          <p:cNvGrpSpPr/>
          <p:nvPr/>
        </p:nvGrpSpPr>
        <p:grpSpPr>
          <a:xfrm>
            <a:off x="407880" y="2505240"/>
            <a:ext cx="2517840" cy="2536560"/>
            <a:chOff x="407880" y="2505240"/>
            <a:chExt cx="2517840" cy="2536560"/>
          </a:xfrm>
        </p:grpSpPr>
        <p:pic>
          <p:nvPicPr>
            <p:cNvPr id="280" name="Oval 5" descr=""/>
            <p:cNvPicPr/>
            <p:nvPr/>
          </p:nvPicPr>
          <p:blipFill>
            <a:blip r:embed="rId2"/>
            <a:stretch/>
          </p:blipFill>
          <p:spPr>
            <a:xfrm>
              <a:off x="407880" y="2505240"/>
              <a:ext cx="2517840" cy="25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82640" y="2889360"/>
              <a:ext cx="1647720" cy="16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Clientes/Usua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Oval 6"/>
          <p:cNvGrpSpPr/>
          <p:nvPr/>
        </p:nvGrpSpPr>
        <p:grpSpPr>
          <a:xfrm>
            <a:off x="3316320" y="2603520"/>
            <a:ext cx="1938240" cy="2444760"/>
            <a:chOff x="3316320" y="2603520"/>
            <a:chExt cx="1938240" cy="2444760"/>
          </a:xfrm>
        </p:grpSpPr>
        <p:pic>
          <p:nvPicPr>
            <p:cNvPr id="283" name="Oval 6" descr=""/>
            <p:cNvPicPr/>
            <p:nvPr/>
          </p:nvPicPr>
          <p:blipFill>
            <a:blip r:embed="rId3"/>
            <a:stretch/>
          </p:blipFill>
          <p:spPr>
            <a:xfrm>
              <a:off x="3316320" y="2603520"/>
              <a:ext cx="193824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611520" y="2975040"/>
              <a:ext cx="1273320" cy="16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Comunid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Manda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7"/>
          <p:cNvSpPr/>
          <p:nvPr/>
        </p:nvSpPr>
        <p:spPr>
          <a:xfrm>
            <a:off x="5181480" y="342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33526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2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6110-6154-4145-86BB-0D15EE2D4262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8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9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348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64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100000"/>
              </a:lnSpc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a3d6"/>
                </a:solidFill>
                <a:latin typeface="Calibri"/>
              </a:rPr>
              <a:t>Fuerte componente subjetivo (preferencia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-8128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a3d6"/>
                </a:solidFill>
                <a:latin typeface="Calibri"/>
              </a:rPr>
              <a:t>Valor final NO se define en gabinete, sino por ciudadanos/usuarios/cliente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812880" indent="-8128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ayores esfuerzos e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“procesos de identificación y valoración”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 preferencias públicas (profundiza la democracia) y las preferencias privada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focus groups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nsejos consultivos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áginas web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municación con las autoridades políticas y representantes de las comunidad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ncuestas de satisfacción de usuarios..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4CBD-B330-41A0-8D40-1F1C4C93A4A5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2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70" dur="1" fill="hold"/>
                                  <p:tgtEl>
                                    <p:spTgt spid="29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2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29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73" dur="1" fill="hold"/>
                                  <p:tgtEl>
                                    <p:spTgt spid="29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74" dur="1" fill="hold"/>
                                  <p:tgtEl>
                                    <p:spTgt spid="29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826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ÁMBITOS BÁSICOS D0NDE MEDI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96" name="Rectangle 3"/>
          <p:cNvGrpSpPr/>
          <p:nvPr/>
        </p:nvGrpSpPr>
        <p:grpSpPr>
          <a:xfrm>
            <a:off x="1438200" y="4896000"/>
            <a:ext cx="6499440" cy="1822320"/>
            <a:chOff x="1438200" y="4896000"/>
            <a:chExt cx="6499440" cy="1822320"/>
          </a:xfrm>
        </p:grpSpPr>
        <p:pic>
          <p:nvPicPr>
            <p:cNvPr id="297" name="Rectangle 3" descr=""/>
            <p:cNvPicPr/>
            <p:nvPr/>
          </p:nvPicPr>
          <p:blipFill>
            <a:blip r:embed="rId1"/>
            <a:stretch/>
          </p:blipFill>
          <p:spPr>
            <a:xfrm>
              <a:off x="1438200" y="4896000"/>
              <a:ext cx="64994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560600" y="4941720"/>
              <a:ext cx="610056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5400" spc="-1" strike="noStrike">
                  <a:solidFill>
                    <a:srgbClr val="000000"/>
                  </a:solidFill>
                  <a:latin typeface="Arial"/>
                </a:rPr>
                <a:t>VALOR PÚBLIC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Oval 4"/>
          <p:cNvGrpSpPr/>
          <p:nvPr/>
        </p:nvGrpSpPr>
        <p:grpSpPr>
          <a:xfrm>
            <a:off x="-30240" y="1523880"/>
            <a:ext cx="3443400" cy="2225880"/>
            <a:chOff x="-30240" y="1523880"/>
            <a:chExt cx="3443400" cy="2225880"/>
          </a:xfrm>
        </p:grpSpPr>
        <p:pic>
          <p:nvPicPr>
            <p:cNvPr id="300" name="Oval 4" descr=""/>
            <p:cNvPicPr/>
            <p:nvPr/>
          </p:nvPicPr>
          <p:blipFill>
            <a:blip r:embed="rId2"/>
            <a:stretch/>
          </p:blipFill>
          <p:spPr>
            <a:xfrm>
              <a:off x="-30240" y="1523880"/>
              <a:ext cx="344340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476280" y="1863720"/>
              <a:ext cx="229536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RODUCTOS/SERVIC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Oval 5"/>
          <p:cNvGrpSpPr/>
          <p:nvPr/>
        </p:nvGrpSpPr>
        <p:grpSpPr>
          <a:xfrm>
            <a:off x="3316320" y="1523880"/>
            <a:ext cx="3035160" cy="2225880"/>
            <a:chOff x="3316320" y="1523880"/>
            <a:chExt cx="3035160" cy="2225880"/>
          </a:xfrm>
        </p:grpSpPr>
        <p:pic>
          <p:nvPicPr>
            <p:cNvPr id="303" name="Oval 5" descr=""/>
            <p:cNvPicPr/>
            <p:nvPr/>
          </p:nvPicPr>
          <p:blipFill>
            <a:blip r:embed="rId3"/>
            <a:stretch/>
          </p:blipFill>
          <p:spPr>
            <a:xfrm>
              <a:off x="3316320" y="1523880"/>
              <a:ext cx="303516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773520" y="1863720"/>
              <a:ext cx="204948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IMPAC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Oval 6"/>
          <p:cNvGrpSpPr/>
          <p:nvPr/>
        </p:nvGrpSpPr>
        <p:grpSpPr>
          <a:xfrm>
            <a:off x="6351480" y="1414440"/>
            <a:ext cx="2792520" cy="2408400"/>
            <a:chOff x="6351480" y="1414440"/>
            <a:chExt cx="2792520" cy="2408400"/>
          </a:xfrm>
        </p:grpSpPr>
        <p:pic>
          <p:nvPicPr>
            <p:cNvPr id="306" name="Oval 6" descr=""/>
            <p:cNvPicPr/>
            <p:nvPr/>
          </p:nvPicPr>
          <p:blipFill>
            <a:blip r:embed="rId4"/>
            <a:stretch/>
          </p:blipFill>
          <p:spPr>
            <a:xfrm>
              <a:off x="6351480" y="1414440"/>
              <a:ext cx="279252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762600" y="1779480"/>
              <a:ext cx="1886040" cy="16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entury Gothic"/>
                </a:rPr>
                <a:t>CONFIAN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Line 7"/>
          <p:cNvSpPr/>
          <p:nvPr/>
        </p:nvSpPr>
        <p:spPr>
          <a:xfrm>
            <a:off x="2195640" y="3789360"/>
            <a:ext cx="936360" cy="863640"/>
          </a:xfrm>
          <a:prstGeom prst="line">
            <a:avLst/>
          </a:prstGeom>
          <a:ln w="130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8"/>
          <p:cNvSpPr/>
          <p:nvPr/>
        </p:nvSpPr>
        <p:spPr>
          <a:xfrm flipH="1">
            <a:off x="4716000" y="3809880"/>
            <a:ext cx="1800" cy="771480"/>
          </a:xfrm>
          <a:prstGeom prst="line">
            <a:avLst/>
          </a:prstGeom>
          <a:ln w="130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 flipH="1">
            <a:off x="6535800" y="3716280"/>
            <a:ext cx="557280" cy="936720"/>
          </a:xfrm>
          <a:prstGeom prst="line">
            <a:avLst/>
          </a:prstGeom>
          <a:ln w="130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2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87E2-FE11-440E-B1ED-7E2EB3D88A93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0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1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30080" y="259920"/>
            <a:ext cx="7150320" cy="11430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RIVADO VS PÚBLIC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8820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nálogamente a como ocurre en el sector privado se podría hacer un esfuerzo de </a:t>
            </a:r>
            <a:r>
              <a:rPr b="1" i="1" lang="es-ES" sz="2400" spc="-1" strike="noStrike">
                <a:solidFill>
                  <a:srgbClr val="00a3d6"/>
                </a:solidFill>
                <a:latin typeface="Calibri"/>
              </a:rPr>
              <a:t>estimación en un periodo futuro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i="1" lang="es-ES" sz="2400" spc="-1" strike="noStrike">
                <a:solidFill>
                  <a:srgbClr val="00a3d6"/>
                </a:solidFill>
                <a:latin typeface="Calibri"/>
              </a:rPr>
              <a:t>traerlo a valor presente</a:t>
            </a:r>
            <a:r>
              <a:rPr b="1" lang="es-ES" sz="2400" spc="-1" strike="noStrike">
                <a:solidFill>
                  <a:srgbClr val="00a3d6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¿Cuánto vale una organización pública?= flujo de beneficios-costos, a valor present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n muchos casos, los beneficios y costos, no pueden ser medidos monetariamente, pero es intrínseco a esta aproximación generar </a:t>
            </a:r>
            <a:r>
              <a:rPr b="1" i="1" lang="es-ES" sz="2400" spc="-1" strike="noStrike">
                <a:solidFill>
                  <a:srgbClr val="00a3d6"/>
                </a:solidFill>
                <a:latin typeface="Calibri"/>
              </a:rPr>
              <a:t>esfuerzos crecientes</a:t>
            </a:r>
            <a:r>
              <a:rPr b="1" lang="es-ES" sz="2400" spc="-1" strike="noStrike">
                <a:solidFill>
                  <a:srgbClr val="00a3d6"/>
                </a:solidFill>
                <a:latin typeface="Calibri"/>
              </a:rPr>
              <a:t> de cuantificación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en aquellos ámbitos donde sea posible. Con el tiempo se crearán indicador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1121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1327-49B1-450C-A9E2-65365D88C7CD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j0233018"/>
          <p:cNvPicPr/>
          <p:nvPr/>
        </p:nvPicPr>
        <p:blipFill>
          <a:blip r:embed="rId1"/>
          <a:stretch/>
        </p:blipFill>
        <p:spPr>
          <a:xfrm>
            <a:off x="0" y="260280"/>
            <a:ext cx="2093760" cy="1633680"/>
          </a:xfrm>
          <a:prstGeom prst="rect">
            <a:avLst/>
          </a:prstGeom>
          <a:ln w="0">
            <a:noFill/>
          </a:ln>
        </p:spPr>
      </p:pic>
      <p:sp>
        <p:nvSpPr>
          <p:cNvPr id="318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748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 concepto de VP es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análogo al de Valor Privado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: valor para dueños y valor para clientes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ero difiere de manera importante por la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dificultad de la métrica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. El valor público no es completamente reducible a $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demás el VP en rigor debiera considerar el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efecto coordinación y descoordinación interagencias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(varios servicios actuando: “una gran empresa”)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7560-CC5F-4E2A-B688-B836D95FC185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348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6" name="AutoShape 4"/>
          <p:cNvGrpSpPr/>
          <p:nvPr/>
        </p:nvGrpSpPr>
        <p:grpSpPr>
          <a:xfrm>
            <a:off x="901800" y="4462560"/>
            <a:ext cx="2421000" cy="1798560"/>
            <a:chOff x="901800" y="4462560"/>
            <a:chExt cx="2421000" cy="1798560"/>
          </a:xfrm>
        </p:grpSpPr>
        <p:pic>
          <p:nvPicPr>
            <p:cNvPr id="197" name="AutoShape 4" descr=""/>
            <p:cNvPicPr/>
            <p:nvPr/>
          </p:nvPicPr>
          <p:blipFill>
            <a:blip r:embed="rId1"/>
            <a:stretch/>
          </p:blipFill>
          <p:spPr>
            <a:xfrm>
              <a:off x="901800" y="4462560"/>
              <a:ext cx="24210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1052640" y="4589640"/>
              <a:ext cx="2070000" cy="14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 Black"/>
                </a:rPr>
                <a:t>Desmontand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 Black"/>
                </a:rPr>
                <a:t>Paradigm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AutoShape 5" descr=""/>
          <p:cNvPicPr/>
          <p:nvPr/>
        </p:nvPicPr>
        <p:blipFill>
          <a:blip r:embed="rId2"/>
          <a:stretch/>
        </p:blipFill>
        <p:spPr>
          <a:xfrm>
            <a:off x="3176640" y="3432240"/>
            <a:ext cx="1919160" cy="1334880"/>
          </a:xfrm>
          <a:prstGeom prst="rect">
            <a:avLst/>
          </a:prstGeom>
          <a:ln w="0">
            <a:noFill/>
          </a:ln>
        </p:spPr>
      </p:pic>
      <p:grpSp>
        <p:nvGrpSpPr>
          <p:cNvPr id="200" name="AutoShape 6"/>
          <p:cNvGrpSpPr/>
          <p:nvPr/>
        </p:nvGrpSpPr>
        <p:grpSpPr>
          <a:xfrm>
            <a:off x="4498920" y="1878120"/>
            <a:ext cx="4243320" cy="2522520"/>
            <a:chOff x="4498920" y="1878120"/>
            <a:chExt cx="4243320" cy="2522520"/>
          </a:xfrm>
        </p:grpSpPr>
        <p:pic>
          <p:nvPicPr>
            <p:cNvPr id="201" name="AutoShape 6" descr=""/>
            <p:cNvPicPr/>
            <p:nvPr/>
          </p:nvPicPr>
          <p:blipFill>
            <a:blip r:embed="rId3"/>
            <a:stretch/>
          </p:blipFill>
          <p:spPr>
            <a:xfrm>
              <a:off x="4498920" y="1878120"/>
              <a:ext cx="42433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687920" y="2033640"/>
              <a:ext cx="38718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 Black"/>
                </a:rPr>
                <a:t>Nuevo Enfoque, Nuevo Rol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 Black"/>
                </a:rPr>
                <a:t>Creación de Valor Públ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18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0C7C-D74A-4E68-B3FC-4175E2FA21A0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7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8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49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or otra parte, en el caso del VP los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ciudadanos (dueños) son clientes y usuarios también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ambién son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proveedores y empleados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(ej. Funcionarios de salud y educación)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-780120"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a comunidad de dueños también considera a las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generaciones futura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78012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1CC0-FC1F-4918-A1C3-589026E13272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348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n el sector público el </a:t>
            </a:r>
            <a:r>
              <a:rPr b="1" lang="es-ES" sz="2800" spc="-1" strike="noStrike">
                <a:solidFill>
                  <a:srgbClr val="00a3d6"/>
                </a:solidFill>
                <a:latin typeface="Calibri"/>
              </a:rPr>
              <a:t>trato </a:t>
            </a:r>
            <a:r>
              <a:rPr b="1" lang="es-ES" sz="3600" spc="-1" strike="noStrike">
                <a:solidFill>
                  <a:srgbClr val="00a3d6"/>
                </a:solidFill>
                <a:latin typeface="Calibri"/>
              </a:rPr>
              <a:t>equitativo </a:t>
            </a:r>
            <a:r>
              <a:rPr b="1" lang="es-ES" sz="2800" spc="-1" strike="noStrike">
                <a:solidFill>
                  <a:srgbClr val="00a3d6"/>
                </a:solidFill>
                <a:latin typeface="Calibri"/>
              </a:rPr>
              <a:t>es muy relevante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. Valoración de los usuarios depende también del trato a otro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El VP es </a:t>
            </a:r>
            <a:r>
              <a:rPr b="1" lang="es-CL" sz="2800" spc="-1" strike="noStrike">
                <a:solidFill>
                  <a:srgbClr val="00a3d6"/>
                </a:solidFill>
                <a:latin typeface="Calibri"/>
              </a:rPr>
              <a:t>más intensivo en demandar cambios en normas sociales y códigos de comportamiento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(COPRODUCCIÓN)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conducción bajo alcoho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higiene y prevención (salud pública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lactancia materna y salud infanti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Programas contra la pobrez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F483-C7D9-4C54-8E3E-F48007F19FE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686800" cy="8348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ALOR PÚBLICO: CONCEP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33" name="Picture 4" descr="j0233018"/>
          <p:cNvPicPr/>
          <p:nvPr/>
        </p:nvPicPr>
        <p:blipFill>
          <a:blip r:embed="rId1"/>
          <a:stretch/>
        </p:blipFill>
        <p:spPr>
          <a:xfrm>
            <a:off x="0" y="260280"/>
            <a:ext cx="2093760" cy="1368360"/>
          </a:xfrm>
          <a:prstGeom prst="rect">
            <a:avLst/>
          </a:prstGeom>
          <a:ln w="0">
            <a:noFill/>
          </a:ln>
        </p:spPr>
      </p:pic>
      <p:sp>
        <p:nvSpPr>
          <p:cNvPr id="334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" dur="1" fill="hold"/>
                                  <p:tgtEl>
                                    <p:spTgt spid="3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97" dur="1" fill="hold"/>
                                  <p:tgtEl>
                                    <p:spTgt spid="3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98" dur="1" fill="hold"/>
                                  <p:tgtEl>
                                    <p:spTgt spid="3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99" dur="1" fill="hold"/>
                                  <p:tgtEl>
                                    <p:spTgt spid="3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  <p:animClr clrSpc="rgb">
                                <p:cBhvr>
                                  <p:cTn id="100" dur="1" fill="hold"/>
                                  <p:tgtEl>
                                    <p:spTgt spid="33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623960"/>
            <a:ext cx="7772400" cy="18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entury Gothic"/>
              </a:rPr>
              <a:t>La Estrategia Organizativa en el Sector Públic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77880" y="315576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entury Gothic"/>
              </a:rPr>
              <a:t>Enfoque ESTRATEGICO de Creación de Valor Públic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4302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Caso 2: “William Ruckelshaus y la Agencia de Protección Ambiental” </a:t>
            </a:r>
            <a:br>
              <a:rPr sz="3200"/>
            </a:b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( Moore, 1998; p 108 y ss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Se arman grupos (proyectos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Lectura individual (20´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Discusión del caso en grupo (30´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Cuáles son los antecedentes básicos? (actores/intereses/tendencias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Cuál es el valor público asociado a la agencia de la EPA? (aplique conceptos clase pasada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Cuáles son las motivaciones del gobierno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Cuáles son los “desafíos clave” de Ruckleshaus? ¿Cuáles son los “ámbitos donde debe gestionar” R.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Cuáles son las estratégicas que adopta? ¿Qué características/ventajas tiene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Gothic"/>
              </a:rPr>
              <a:t>¿Agrega Valor Público la gestión de R., cómo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7AB0-C218-4663-A17C-0EBE51A33D1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44880" y="333360"/>
            <a:ext cx="6999120" cy="13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4733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Modelo Analítico Básico (Mark Moore)</a:t>
            </a:r>
            <a:br>
              <a:rPr sz="2400"/>
            </a:b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Diagnóstico de la Posición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Estratégica de una Organiza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1763640" y="3068640"/>
            <a:ext cx="2675160" cy="2279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6451560" y="1878120"/>
            <a:ext cx="251316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 Propósito/V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179280" y="1341360"/>
            <a:ext cx="211608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E. Polí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Super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E. 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6616800" y="3889440"/>
            <a:ext cx="23763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 Capa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Procesos Sustantivos y de Ap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Sistemas de evaluación 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RR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Fin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331920" y="5888160"/>
            <a:ext cx="4252680" cy="398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aximizar Valor Público que c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0"/>
          <p:cNvSpPr/>
          <p:nvPr/>
        </p:nvSpPr>
        <p:spPr>
          <a:xfrm flipV="1">
            <a:off x="1914480" y="3852360"/>
            <a:ext cx="2266920" cy="196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4"/>
          <p:cNvGrpSpPr/>
          <p:nvPr/>
        </p:nvGrpSpPr>
        <p:grpSpPr>
          <a:xfrm>
            <a:off x="2879640" y="2392200"/>
            <a:ext cx="2732040" cy="2189160"/>
            <a:chOff x="2879640" y="2392200"/>
            <a:chExt cx="2732040" cy="2189160"/>
          </a:xfrm>
        </p:grpSpPr>
        <p:sp>
          <p:nvSpPr>
            <p:cNvPr id="351" name="Oval 4"/>
            <p:cNvSpPr/>
            <p:nvPr/>
          </p:nvSpPr>
          <p:spPr>
            <a:xfrm>
              <a:off x="2879640" y="2392200"/>
              <a:ext cx="2732040" cy="2189160"/>
            </a:xfrm>
            <a:prstGeom prst="ellipse">
              <a:avLst/>
            </a:pr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2"/>
            <p:cNvSpPr/>
            <p:nvPr/>
          </p:nvSpPr>
          <p:spPr>
            <a:xfrm>
              <a:off x="4134600" y="2781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5"/>
          <p:cNvGrpSpPr/>
          <p:nvPr/>
        </p:nvGrpSpPr>
        <p:grpSpPr>
          <a:xfrm>
            <a:off x="3610080" y="3371760"/>
            <a:ext cx="2917800" cy="1889280"/>
            <a:chOff x="3610080" y="3371760"/>
            <a:chExt cx="2917800" cy="1889280"/>
          </a:xfrm>
        </p:grpSpPr>
        <p:sp>
          <p:nvSpPr>
            <p:cNvPr id="354" name="Oval 5"/>
            <p:cNvSpPr/>
            <p:nvPr/>
          </p:nvSpPr>
          <p:spPr>
            <a:xfrm>
              <a:off x="3610080" y="3371760"/>
              <a:ext cx="2917800" cy="18892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3"/>
            <p:cNvSpPr/>
            <p:nvPr/>
          </p:nvSpPr>
          <p:spPr>
            <a:xfrm>
              <a:off x="5337720" y="4240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16"/>
          <p:cNvSpPr/>
          <p:nvPr/>
        </p:nvSpPr>
        <p:spPr>
          <a:xfrm>
            <a:off x="2268360" y="1982880"/>
            <a:ext cx="4248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18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5B6D-082B-4F21-A456-0ECD1922297A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16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1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9246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20BA-1810-46D5-82AD-3161152BE5CB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"/>
          <p:cNvSpPr/>
          <p:nvPr/>
        </p:nvSpPr>
        <p:spPr>
          <a:xfrm>
            <a:off x="0" y="447840"/>
            <a:ext cx="9144000" cy="14302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Caso 3: Mahoney y el Park Pl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5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12880" y="1412640"/>
            <a:ext cx="8331120" cy="21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CL" sz="4400" spc="-1" strike="noStrike">
                <a:solidFill>
                  <a:srgbClr val="000000"/>
                </a:solidFill>
                <a:latin typeface="Century Gothic"/>
              </a:rPr>
              <a:t>D</a:t>
            </a: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el análisis anterior, ¿Cómo deben ser las estrategias efectivas en la gestión pública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7 Triángulo isósceles"/>
          <p:cNvGrpSpPr/>
          <p:nvPr/>
        </p:nvGrpSpPr>
        <p:grpSpPr>
          <a:xfrm>
            <a:off x="2352600" y="1755720"/>
            <a:ext cx="4145040" cy="2852640"/>
            <a:chOff x="2352600" y="1755720"/>
            <a:chExt cx="4145040" cy="2852640"/>
          </a:xfrm>
        </p:grpSpPr>
        <p:pic>
          <p:nvPicPr>
            <p:cNvPr id="367" name="7 Triángulo isósceles" descr=""/>
            <p:cNvPicPr/>
            <p:nvPr/>
          </p:nvPicPr>
          <p:blipFill>
            <a:blip r:embed="rId1"/>
            <a:stretch/>
          </p:blipFill>
          <p:spPr>
            <a:xfrm>
              <a:off x="2352600" y="1755720"/>
              <a:ext cx="414504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405240" y="3157560"/>
              <a:ext cx="20160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9 CuadroTexto"/>
          <p:cNvSpPr/>
          <p:nvPr/>
        </p:nvSpPr>
        <p:spPr>
          <a:xfrm>
            <a:off x="108000" y="4525920"/>
            <a:ext cx="30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Calibri"/>
              </a:rPr>
              <a:t>(B) Políticamente Suste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0 CuadroTexto"/>
          <p:cNvSpPr/>
          <p:nvPr/>
        </p:nvSpPr>
        <p:spPr>
          <a:xfrm>
            <a:off x="2700360" y="9255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Calibri"/>
              </a:rPr>
              <a:t>(A) Sustantivamente Val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11 CuadroTexto"/>
          <p:cNvSpPr/>
          <p:nvPr/>
        </p:nvSpPr>
        <p:spPr>
          <a:xfrm>
            <a:off x="6084720" y="3878280"/>
            <a:ext cx="30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Calibri"/>
              </a:rPr>
              <a:t>(C) Técnicamente Fact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2 Flecha curvada hacia la izquierda"/>
          <p:cNvSpPr/>
          <p:nvPr/>
        </p:nvSpPr>
        <p:spPr>
          <a:xfrm>
            <a:off x="4427640" y="3157560"/>
            <a:ext cx="936360" cy="1297080"/>
          </a:xfrm>
          <a:custGeom>
            <a:avLst/>
            <a:gdLst>
              <a:gd name="textAreaLeft" fmla="*/ 125280 w 936360"/>
              <a:gd name="textAreaRight" fmla="*/ 811080 w 936360"/>
              <a:gd name="textAreaTop" fmla="*/ 236520 h 1297080"/>
              <a:gd name="textAreaBottom" fmla="*/ 9435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76" stAng="-5400000" swAng="5400000"/>
                <a:lnTo>
                  <a:pt x="21600" y="11775"/>
                </a:lnTo>
                <a:arcTo wR="21600" hR="7876" stAng="0" swAng="3281729"/>
                <a:lnTo>
                  <a:pt x="5400" y="21350"/>
                </a:lnTo>
                <a:lnTo>
                  <a:pt x="0" y="17701"/>
                </a:lnTo>
                <a:lnTo>
                  <a:pt x="5400" y="13551"/>
                </a:lnTo>
                <a:lnTo>
                  <a:pt x="5400" y="15501"/>
                </a:lnTo>
                <a:arcTo wR="21600" hR="7876" stAng="3281729" swAng="-2962412"/>
                <a:lnTo>
                  <a:pt x="20928" y="9825"/>
                </a:lnTo>
                <a:arcTo wR="21600" hR="7876" stAng="-319318" swAng="-5080682"/>
                <a:close/>
              </a:path>
              <a:path fill="darkenLess" w="21600" h="21600">
                <a:moveTo>
                  <a:pt x="0" y="0"/>
                </a:moveTo>
                <a:arcTo wR="21600" hR="7876" stAng="-5400000" swAng="5400000"/>
                <a:lnTo>
                  <a:pt x="21600" y="11775"/>
                </a:lnTo>
                <a:arcTo wR="21600" hR="7876" stAng="0" swAng="-319318"/>
                <a:lnTo>
                  <a:pt x="20928" y="9825"/>
                </a:lnTo>
                <a:arcTo wR="21600" hR="7876" stAng="-319318" swAng="-5080682"/>
                <a:close/>
              </a:path>
            </a:pathLst>
          </a:cu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15 Flecha curvada hacia abajo"/>
          <p:cNvSpPr/>
          <p:nvPr/>
        </p:nvSpPr>
        <p:spPr>
          <a:xfrm rot="17814000">
            <a:off x="3310560" y="2763000"/>
            <a:ext cx="1527120" cy="852480"/>
          </a:xfrm>
          <a:custGeom>
            <a:avLst/>
            <a:gdLst>
              <a:gd name="textAreaLeft" fmla="*/ 301680 w 1527120"/>
              <a:gd name="textAreaRight" fmla="*/ 1118880 w 1527120"/>
              <a:gd name="textAreaTop" fmla="*/ 114120 h 852480"/>
              <a:gd name="textAreaBottom" fmla="*/ 738360 h 85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39" hR="21600" stAng="10800000" swAng="5400000"/>
                <a:lnTo>
                  <a:pt x="11554" y="0"/>
                </a:lnTo>
                <a:arcTo wR="8539" hR="21600" stAng="-5400000" swAng="3411009"/>
                <a:lnTo>
                  <a:pt x="21329" y="16200"/>
                </a:lnTo>
                <a:lnTo>
                  <a:pt x="18586" y="21600"/>
                </a:lnTo>
                <a:lnTo>
                  <a:pt x="15300" y="16200"/>
                </a:lnTo>
                <a:lnTo>
                  <a:pt x="16807" y="16200"/>
                </a:lnTo>
                <a:arcTo wR="8539" hR="21600" stAng="-1988991" swAng="-3167662"/>
                <a:lnTo>
                  <a:pt x="10047" y="339"/>
                </a:lnTo>
                <a:arcTo wR="8539" hR="21600" stAng="-5643347" swAng="-5156653"/>
                <a:close/>
              </a:path>
              <a:path fill="darkenLess" w="21600" h="21600">
                <a:moveTo>
                  <a:pt x="0" y="21600"/>
                </a:moveTo>
                <a:arcTo wR="8539" hR="21600" stAng="10800000" swAng="5400000"/>
                <a:lnTo>
                  <a:pt x="8539" y="0"/>
                </a:lnTo>
                <a:arcTo wR="8539" hR="21600" stAng="-5400000" swAng="243347"/>
                <a:lnTo>
                  <a:pt x="10047" y="339"/>
                </a:lnTo>
                <a:arcTo wR="8539" hR="21600" stAng="-5643347" swAng="-5156653"/>
                <a:close/>
              </a:path>
            </a:pathLst>
          </a:custGeom>
          <a:solidFill>
            <a:srgbClr val="00b05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840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Preguntas clave: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44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Cuál es el valor público que la organización genera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Cuál es Visión de la Organización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Cuáles son los Valores / Historia e ideas clav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Son la Misión y las metas específicas las adecuada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95EA-73FB-4585-8D69-3EE7ECEC5F4F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64072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tarea central del ejecutivo público es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rear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Valor público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.... pero ello demanda primero identificar cuál es ese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Valor.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....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y ese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Valor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, a diferencia del caso de las organizaciones privadas no necesariamente es unidimensional, no es fácil de medir.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.... de hecho existen serias dificultades traducir las preferencias de los mandantes en un mandato claro e incontrovertible.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.... y por otra parte los clientes o receptores de los “servicios de la organización” tampoco tienen formas simples y directas de manifestar sus preferencias .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 modo que el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ejecutivo público NO tiene alternativa que formular un concepto de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Valor Público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 partir de múltiple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fuentes imperfecta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mandatos estatutarios, técnicas analíticas, consultas a clientes, etc.), entre las cuales el proceso de deliberación política es probablemente la más importante, e ir ajustándolo a través de un proceso de prueba y erro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5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221D-D6CE-4A32-B4EE-8A2FA8872BAA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4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560" y="1714680"/>
            <a:ext cx="8893080" cy="45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es son los hechos básicos?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 es el problema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es fueron las primeras aproximacione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es son las restricciones/dificultade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ómo se solucionó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 es al aprendizaje general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8092-2BF6-42AD-AB2A-786C70F17B9C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0" y="236520"/>
            <a:ext cx="9144000" cy="14302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Caso 1: Un caso de imaginación (innovación) ger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5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583920"/>
            <a:ext cx="9144000" cy="6872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Pero, hay pistas..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valor público está enraizado en los valores y preferencias de los individuo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s múltiples preferencias de los ciudadanos son mediadas por el sistema representativo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teresa tanto la producción de bienes públicos (orientado a grupos específicos), como el que la producción se haga de manera ordenada, equitativa y confiable (trust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eficiencia y la calidad del servicio son altamente valorada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 deseable la utilización de métodos analíticos para evidenciar la generación de valor ( especialmente ante agentes representativos relevantes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carácter cambiante del mundo demanda capacidad de adaptació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A614-22C8-49E1-ABB3-4E0FA562561F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2216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entury Gothic"/>
              </a:rPr>
              <a:t>Preguntas clav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32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Qué se perdería si esta organización no existiera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Qué otras formas existen para hacer lo que esta organización hoy día hace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A quién realmente sirvo? (Focalización)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Cuál es la causalidad de la generación de valor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Qué espacios de ganancia en materias de calidad de servicio existe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¿Qué espacios de ganancia de confianza existe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48B5-D95F-48B9-9FF9-E71DFFDC535F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192320"/>
            <a:ext cx="8229600" cy="14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Century Gothic"/>
              </a:rPr>
              <a:t>Entorno: Gestión de </a:t>
            </a:r>
            <a:r>
              <a:rPr b="1" i="1" lang="es-ES_tradnl" sz="4800" spc="-1" strike="noStrike">
                <a:solidFill>
                  <a:srgbClr val="000000"/>
                </a:solidFill>
                <a:latin typeface="Century Gothic"/>
              </a:rPr>
              <a:t>Stakeholders</a:t>
            </a:r>
            <a:r>
              <a:rPr b="1" lang="es-ES_tradnl" sz="5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Oval 3"/>
          <p:cNvSpPr/>
          <p:nvPr/>
        </p:nvSpPr>
        <p:spPr>
          <a:xfrm>
            <a:off x="5292720" y="2679840"/>
            <a:ext cx="182880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4978080" y="47563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alibri"/>
              </a:rPr>
              <a:t>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98748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entury Gothic"/>
              </a:rPr>
              <a:t>Preguntas clave</a:t>
            </a: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8920" y="1562040"/>
            <a:ext cx="8713800" cy="453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¿Cuáles son las implicaciones del estado actual (o cambios anticipados) en el entorno de la organización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¿cómo afecta el entorno las capacidades de la organización para alcanzar su propósito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¿Debe la organización adaptar o revisar sus metas y propósito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¿cómo deben adaptarse las capacidades organizacionales para reflejar los cambios del entorno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¿cómo debe la organización vincularse con actores externos clave, instituciones y electores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17FC-B804-469D-B541-79B860ABA5BB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42884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¿Cuáles  son los roles, posiciones e intereses de los distintos actores (</a:t>
            </a:r>
            <a:r>
              <a:rPr b="1" i="1" lang="es-ES_tradnl" sz="3200" spc="-1" strike="noStrike">
                <a:solidFill>
                  <a:srgbClr val="000000"/>
                </a:solidFill>
                <a:latin typeface="Century Gothic"/>
              </a:rPr>
              <a:t>stakeholders</a:t>
            </a: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) y sus implicancia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lien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Proveedo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Poder legislativ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Agencias evaluadoras/supervisora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rupos asociados o defenso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rupos de emplead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Prens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Otros actores influyent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373C-591D-4D89-AC4F-8FB2D98146A1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13716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¿Cuáles son las tendencias actuales y de mediano plazo que pueden afectar a la organización en el futuro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1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Tecnologí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Polític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Valores/Cultur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Economí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27BD-F4BF-49D7-983F-8278B63D6D69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192320"/>
            <a:ext cx="8229600" cy="148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entury Gothic"/>
              </a:rPr>
              <a:t>El Entorno Político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371600" y="36446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898989"/>
              </a:solidFill>
              <a:latin typeface="Century Gothic"/>
            </a:endParaRPr>
          </a:p>
        </p:txBody>
      </p:sp>
      <p:pic>
        <p:nvPicPr>
          <p:cNvPr id="413" name="Picture 4" descr="j0233018"/>
          <p:cNvPicPr/>
          <p:nvPr/>
        </p:nvPicPr>
        <p:blipFill>
          <a:blip r:embed="rId1"/>
          <a:stretch/>
        </p:blipFill>
        <p:spPr>
          <a:xfrm>
            <a:off x="0" y="5226120"/>
            <a:ext cx="209376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solidFill>
            <a:srgbClr val="edd3b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Es necesario hacer </a:t>
            </a:r>
            <a:r>
              <a:rPr b="1" lang="es-ES_tradnl" sz="3600" spc="-1" strike="noStrike">
                <a:solidFill>
                  <a:srgbClr val="d16349"/>
                </a:solidFill>
                <a:latin typeface="Century Gothic"/>
              </a:rPr>
              <a:t>gestión activa </a:t>
            </a:r>
            <a:r>
              <a:rPr b="1" lang="es-ES_tradnl" sz="3200" spc="-1" strike="noStrike">
                <a:solidFill>
                  <a:srgbClr val="000000"/>
                </a:solidFill>
                <a:latin typeface="Century Gothic"/>
              </a:rPr>
              <a:t>del entorno político cuando ....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24000" y="1573200"/>
            <a:ext cx="8496000" cy="528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fectúa rendición de cuentas rutinaria (reportes a DIPRES o SEGPRES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 necesita apoyo para innovaciones o </a:t>
            </a:r>
            <a:r>
              <a:rPr b="1" lang="es-CL" sz="2600" spc="-1" strike="noStrike">
                <a:solidFill>
                  <a:srgbClr val="000000"/>
                </a:solidFill>
                <a:latin typeface="Calibri"/>
              </a:rPr>
              <a:t>cambios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: lo que implica mostrar que la iniciativa se ajusta a las concepciones de valor público del agente externo respectivo. En general aquí se abre la necesidad de gestionar la activación de grupos de apoyo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 requiere alcanzar coordinación interagencia. Ejemplos: CORFO-PYME o CORFO-Prochile. Otro ejemplo reciente: CORFO - Banco del Estado. Coordinación vía un superior, lo que no siempre es posibl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 requiere coproducción descentralizada (persuación masiv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E1CE-F398-4BEB-A884-EFCB524F79E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477360"/>
            <a:ext cx="9144000" cy="129852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Gestión política se refiere a la tarea de construir apoyo y legitimidad para ciertos propósit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5280" y="2172960"/>
            <a:ext cx="8136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llo involucra construir un clima de tolerancia, apoyo activo o asistencia operativa para un gestor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na política o una estrategia integral entre aquellos que, estando fuera del alcance de la autoridad del ejecutivo, son necesarios para aportar asistencia o proveer de apoyo o autoridad a la iniciativa del directivo público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5D00-8E11-4585-A00B-46B1EAE428D3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955000" cy="9810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ctores Políticos…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jecutivos políticos: aquellos que contratan a los directivos (ministros y subsecretarios, etc.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ervisores legislativo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isterio de Hacienda, Contraloría, SEGPRES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¡¡¡Y LOS ASESORES DE TODOS ELLOS!!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dios de Comunicación: son quienes dibujan la cancha en  la cual la  discusión se va a dar. Ejemplo: CASO Seremi de Educación, Hospital Curepto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upos de Interé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idos Político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ros grupos organizados (empresarios, org. de trabajadores, etc.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ibunal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FB15-8F3A-4721-B8C3-B451B2D48AB9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6043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¿Cuál es el principal supuesto de la doctrina tradicional de las funciones del sector público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0" y="3498840"/>
            <a:ext cx="9144000" cy="2997360"/>
          </a:xfrm>
          <a:prstGeom prst="wedgeRectCallout">
            <a:avLst>
              <a:gd name="adj1" fmla="val -518"/>
              <a:gd name="adj2" fmla="val -7769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d16349"/>
                </a:solidFill>
                <a:latin typeface="Arial Black"/>
              </a:rPr>
              <a:t>(1)El funcionario debe hacer lo que está mandatado expresamente por las normas, y esto es siempre muy cla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d16349"/>
                </a:solidFill>
                <a:latin typeface="Arial Black"/>
              </a:rPr>
              <a:t>(2) La Misión es ser fiel al mandato formal y producirlo eficient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5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5994-13AB-4C48-8016-22181AA9A015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entury Gothic"/>
              </a:rPr>
              <a:t>Técnicas de Gestión Polític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romoción activa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Gestión del Desarrollo de la política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egociación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Deliberación pública, aprendizaje social y liderazgo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Marketing y Comunicación Estratégica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E0D3-A61D-4E94-A208-34BFE4EE765D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entury Gothic"/>
              </a:rPr>
              <a:t>Énfasis 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entury Gothic"/>
              </a:rPr>
              <a:t>Una organización pública, robusta y con proyecciones, para maximizar el cumplimiento de sus mandatos más nobles, debe necesariamente pasar por una </a:t>
            </a:r>
            <a:r>
              <a:rPr b="1" lang="es-CL" sz="2800" spc="-1" strike="noStrike">
                <a:solidFill>
                  <a:srgbClr val="cc0000"/>
                </a:solidFill>
                <a:latin typeface="Century Gothic"/>
              </a:rPr>
              <a:t>pequeña revolución de enfoque</a:t>
            </a:r>
            <a:r>
              <a:rPr b="1" lang="es-CL" sz="2800" spc="-1" strike="noStrike">
                <a:solidFill>
                  <a:srgbClr val="000099"/>
                </a:solidFill>
                <a:latin typeface="Century Gothic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5280" indent="-305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entury Gothic"/>
              </a:rPr>
              <a:t>pero no como mero formalismo, moda o sistema, herramienta gerencial, sino como </a:t>
            </a:r>
            <a:r>
              <a:rPr b="1" lang="es-CL" sz="2800" spc="-1" strike="noStrike">
                <a:solidFill>
                  <a:srgbClr val="cc0000"/>
                </a:solidFill>
                <a:latin typeface="Century Gothic"/>
              </a:rPr>
              <a:t>ACTITUD y CONCEPTUALIZACIÓN compartida</a:t>
            </a:r>
            <a:r>
              <a:rPr b="1" lang="es-CL" sz="2800" spc="-1" strike="noStrike">
                <a:solidFill>
                  <a:srgbClr val="000099"/>
                </a:solidFill>
                <a:latin typeface="Century Gothic"/>
              </a:rPr>
              <a:t> en la comunidad de funcionarios y directivos.</a:t>
            </a:r>
            <a:r>
              <a:rPr b="0" lang="es-CL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28AB-4E7F-4182-8E5F-D22BF00E6149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4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792468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entury Gothic"/>
              </a:rPr>
              <a:t>Énfasis I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Un buen gerente o profesional liderando organizaciones/proyectos debería </a:t>
            </a:r>
            <a:r>
              <a:rPr b="1" lang="es-CL" sz="2200" spc="-1" strike="noStrike">
                <a:solidFill>
                  <a:srgbClr val="ff0000"/>
                </a:solidFill>
                <a:latin typeface="Century Gothic"/>
              </a:rPr>
              <a:t>INTEGRAR PERMANENTE y CREATIVAMENTE </a:t>
            </a: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estas dimensiones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Una institución pública </a:t>
            </a:r>
            <a:r>
              <a:rPr b="1" lang="es-CL" sz="2200" spc="-1" strike="noStrike">
                <a:solidFill>
                  <a:srgbClr val="ff0000"/>
                </a:solidFill>
                <a:latin typeface="Century Gothic"/>
              </a:rPr>
              <a:t>EXCELENTE</a:t>
            </a: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 se parece más a una institución privada excelente que a una pública mediocre </a:t>
            </a:r>
            <a:r>
              <a:rPr b="1" lang="es-CL" sz="2200" spc="-1" strike="noStrike">
                <a:solidFill>
                  <a:srgbClr val="0070c0"/>
                </a:solidFill>
                <a:latin typeface="Century Gothic"/>
              </a:rPr>
              <a:t>(</a:t>
            </a:r>
            <a:r>
              <a:rPr b="1" i="1" lang="en-US" sz="2000" spc="-1" strike="noStrike">
                <a:solidFill>
                  <a:srgbClr val="0070c0"/>
                </a:solidFill>
                <a:latin typeface="Century Gothic"/>
              </a:rPr>
              <a:t>Collins, J.,  “Good to Great and the Social Sectors”, 2005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entury Gothic"/>
              </a:rPr>
              <a:t>En el fondo, una reflexión/acción sistemática con este enfoque contribuye a la </a:t>
            </a:r>
            <a:r>
              <a:rPr b="1" lang="en-US" sz="2200" spc="-1" strike="noStrike">
                <a:solidFill>
                  <a:srgbClr val="ff0000"/>
                </a:solidFill>
                <a:latin typeface="Century Gothic"/>
              </a:rPr>
              <a:t>INNOVACIÓN y MEJORAMIENTO CONTINUO EN LA ORGANIZACIÓN</a:t>
            </a:r>
            <a:r>
              <a:rPr b="1" lang="en-US" sz="2200" spc="-1" strike="noStrike">
                <a:solidFill>
                  <a:srgbClr val="000099"/>
                </a:solidFill>
                <a:latin typeface="Century Gothic"/>
              </a:rPr>
              <a:t>, en un proceso AUTOsustentado…(</a:t>
            </a:r>
            <a:r>
              <a:rPr b="1" i="1" lang="en-US" sz="2000" spc="-1" strike="noStrike">
                <a:solidFill>
                  <a:srgbClr val="0070c0"/>
                </a:solidFill>
                <a:latin typeface="Century Gothic"/>
              </a:rPr>
              <a:t>H. Maturana, concepto de Autopoiesis en De Máquinas y Seres Vivos, 1972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El </a:t>
            </a:r>
            <a:r>
              <a:rPr b="1" lang="es-CL" sz="2200" spc="-1" strike="noStrike">
                <a:solidFill>
                  <a:srgbClr val="ff0000"/>
                </a:solidFill>
                <a:latin typeface="Century Gothic"/>
              </a:rPr>
              <a:t>enfoque NO es un instrumento</a:t>
            </a:r>
            <a:r>
              <a:rPr b="1" lang="es-CL" sz="2200" spc="-1" strike="noStrike">
                <a:solidFill>
                  <a:srgbClr val="000099"/>
                </a:solidFill>
                <a:latin typeface="Century Gothic"/>
              </a:rPr>
              <a:t>, pero contribuye a orientar las definiciones básicas de los instrumentos de gestión (Planificación Estratégica, Control, Procesos, Mejoramiento Continuo, TICs, Análisis de Riesgos…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F64B-FDFF-47FE-9EFC-E981C196A131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4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5d1d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24000" y="268200"/>
          <a:ext cx="8640720" cy="6180120"/>
        </p:xfrm>
        <a:graphic>
          <a:graphicData uri="http://schemas.openxmlformats.org/drawingml/2006/table">
            <a:tbl>
              <a:tblPr/>
              <a:tblGrid>
                <a:gridCol w="1800000"/>
                <a:gridCol w="2160720"/>
                <a:gridCol w="2160360"/>
                <a:gridCol w="2519640"/>
              </a:tblGrid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men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radi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ew Public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Valor Públ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11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Quién define interés/p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utor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l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lientes/usuario y la comunidad ciudadana de un modo deliber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90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Foco de medición de desempeñ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p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puts/Outp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puts/Outputs/Outcomes…Confianza (cla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90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Account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trol Administrativo/Político Jerárqu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tractualismo/Mecanismos de Mercado/cl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teriores+énfasis en control so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11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Preferencias de entrega/prod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dministración Púb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rcado Priv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últip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Valoración Ética de lo púb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obrevaloración del Estado/Monopolio de BB Públ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rítico del Estado monopó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lorización de lo público y su singularidad, pero no restringido a lo esta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446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D74E-0F98-4E38-B021-F20588362048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6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Sistemas Complejos: </a:t>
            </a: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o las falsas seguridades del mecanicismo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¿Qué es un sistema complicado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¿Qué es un sistema complejo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La autorganización administrativa pervive con fuerza a las “modernizaciones” ¿Por qué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Ver la complejidad implica ver sistémicamente. Una mirada exclusivamente analítica es ineficaz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Las 10 características de los sistemas complejos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Moore rebate una tendencia reduccionista o simplificadora de esta doctrin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Propone un tránsito de un enfoque (A) burocrático a uno (B)  de “emprendedor público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19" name="AutoShape 4"/>
          <p:cNvGrpSpPr/>
          <p:nvPr/>
        </p:nvGrpSpPr>
        <p:grpSpPr>
          <a:xfrm>
            <a:off x="-365040" y="378000"/>
            <a:ext cx="4900680" cy="6499080"/>
            <a:chOff x="-365040" y="378000"/>
            <a:chExt cx="4900680" cy="6499080"/>
          </a:xfrm>
        </p:grpSpPr>
        <p:pic>
          <p:nvPicPr>
            <p:cNvPr id="220" name="AutoShape 4" descr=""/>
            <p:cNvPicPr/>
            <p:nvPr/>
          </p:nvPicPr>
          <p:blipFill>
            <a:blip r:embed="rId1"/>
            <a:stretch/>
          </p:blipFill>
          <p:spPr>
            <a:xfrm>
              <a:off x="-365040" y="378000"/>
              <a:ext cx="4900680" cy="649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880920" y="404640"/>
              <a:ext cx="2413080" cy="57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00"/>
                  </a:solidFill>
                  <a:latin typeface="Arial Black"/>
                </a:rPr>
                <a:t>Enfoqu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00"/>
                  </a:solidFill>
                  <a:latin typeface="Arial Black"/>
                </a:rPr>
                <a:t>descend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AutoShape 5"/>
          <p:cNvGrpSpPr/>
          <p:nvPr/>
        </p:nvGrpSpPr>
        <p:grpSpPr>
          <a:xfrm>
            <a:off x="4102200" y="450720"/>
            <a:ext cx="4822560" cy="6162840"/>
            <a:chOff x="4102200" y="450720"/>
            <a:chExt cx="4822560" cy="6162840"/>
          </a:xfrm>
        </p:grpSpPr>
        <p:pic>
          <p:nvPicPr>
            <p:cNvPr id="223" name="AutoShape 5" descr=""/>
            <p:cNvPicPr/>
            <p:nvPr/>
          </p:nvPicPr>
          <p:blipFill>
            <a:blip r:embed="rId2"/>
            <a:stretch/>
          </p:blipFill>
          <p:spPr>
            <a:xfrm>
              <a:off x="4102200" y="450720"/>
              <a:ext cx="482256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327640" y="1362240"/>
              <a:ext cx="2376360" cy="52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00"/>
                  </a:solidFill>
                  <a:latin typeface="Arial Black"/>
                </a:rPr>
                <a:t>Enfoqu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00"/>
                  </a:solidFill>
                  <a:latin typeface="Arial Black"/>
                </a:rPr>
                <a:t>ascend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8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E702-2E45-437E-A5B2-4DBA168CF1DD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6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1. Gran Cantidad de Elementos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2.Cantidad de elementos no basta… estos interactúan dinámicamente entre sí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3. Las interacciones son múltiples…como redes neuronales.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4.Efectos-estimulos no son lineales. Pequeños estímulos pueden generar grandes efectos sistémicos(!)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5. Normalmente, interacciones son de corto alcance. La cercanía es clave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6. Las interacciones generan retroalimentaciones (amplificaciones o inhibiciones)…las recurrencias son serias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7. Los sistemas complejos son abiertos…interactúan con el entorno (en rigor, todo es un sistema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8. Los sistemas complejos no tienen un equilibrio estático, es dinámico. Mantener el equilibrio implica energía constante…(atención con liderazgo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9. Los sistemas complejos, tienen historia…que explica el presente </a:t>
            </a:r>
            <a:br>
              <a:rPr sz="4400"/>
            </a:b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Century Gothic"/>
              </a:rPr>
              <a:t>path</a:t>
            </a: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entury Gothic"/>
              </a:rPr>
              <a:t>dependence</a:t>
            </a: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10. Cada parte del sistema es relativamente ignorante de toda la información del sistema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9144000" cy="792000"/>
          </a:xfrm>
          <a:prstGeom prst="rect">
            <a:avLst/>
          </a:prstGeom>
          <a:solidFill>
            <a:srgbClr val="edd3b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ODELO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RADICION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03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cribe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cómo deben entende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llevar a cabo su trabajo los funcionarios público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nfrenta el </a:t>
            </a:r>
            <a:r>
              <a:rPr b="1" lang="es-ES" sz="4000" spc="-1" strike="noStrike">
                <a:solidFill>
                  <a:srgbClr val="00a3d6"/>
                </a:solidFill>
                <a:latin typeface="Calibri"/>
              </a:rPr>
              <a:t>riesgo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que los directivos públicos conduzcan la administración según intereses distinto a los público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one énfasis en el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control de procedimientos y la verticalidad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8718-49D3-4D39-82BE-6A2B1A16E5CB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1197000"/>
            <a:ext cx="9144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Diagrama sistémico de problemas frecuentes en instituciones públic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304920" y="2892600"/>
            <a:ext cx="5576760" cy="3127320"/>
            <a:chOff x="304920" y="2892600"/>
            <a:chExt cx="5576760" cy="3127320"/>
          </a:xfrm>
        </p:grpSpPr>
        <p:sp>
          <p:nvSpPr>
            <p:cNvPr id="468" name="Text Box 5"/>
            <p:cNvSpPr/>
            <p:nvPr/>
          </p:nvSpPr>
          <p:spPr>
            <a:xfrm>
              <a:off x="4165560" y="3022560"/>
              <a:ext cx="1393920" cy="91296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a calidad y eficacia en el servicio públ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6"/>
            <p:cNvSpPr/>
            <p:nvPr/>
          </p:nvSpPr>
          <p:spPr>
            <a:xfrm>
              <a:off x="2557440" y="3022560"/>
              <a:ext cx="1285920" cy="8589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tratación de ejecu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adecu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7"/>
            <p:cNvSpPr/>
            <p:nvPr/>
          </p:nvSpPr>
          <p:spPr>
            <a:xfrm flipV="1">
              <a:off x="3738600" y="3543480"/>
              <a:ext cx="534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8"/>
            <p:cNvSpPr/>
            <p:nvPr/>
          </p:nvSpPr>
          <p:spPr>
            <a:xfrm>
              <a:off x="3308400" y="4325760"/>
              <a:ext cx="128592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lima laboral inadecu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"/>
            <p:cNvSpPr/>
            <p:nvPr/>
          </p:nvSpPr>
          <p:spPr>
            <a:xfrm>
              <a:off x="736560" y="4325760"/>
              <a:ext cx="224964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flicto entre “antiguos” y “nuevos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>
              <a:off x="2664000" y="3675240"/>
              <a:ext cx="0" cy="78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11"/>
            <p:cNvSpPr/>
            <p:nvPr/>
          </p:nvSpPr>
          <p:spPr>
            <a:xfrm>
              <a:off x="2878200" y="4456080"/>
              <a:ext cx="53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2"/>
            <p:cNvSpPr/>
            <p:nvPr/>
          </p:nvSpPr>
          <p:spPr>
            <a:xfrm flipV="1">
              <a:off x="437976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3"/>
            <p:cNvSpPr/>
            <p:nvPr/>
          </p:nvSpPr>
          <p:spPr>
            <a:xfrm>
              <a:off x="628560" y="3022560"/>
              <a:ext cx="1611360" cy="9144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evaluabilidad e inamovilidad de trabajad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4"/>
            <p:cNvSpPr/>
            <p:nvPr/>
          </p:nvSpPr>
          <p:spPr>
            <a:xfrm>
              <a:off x="2021040" y="367524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5"/>
            <p:cNvSpPr/>
            <p:nvPr/>
          </p:nvSpPr>
          <p:spPr>
            <a:xfrm>
              <a:off x="4916520" y="4325760"/>
              <a:ext cx="85716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os sala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6"/>
            <p:cNvSpPr/>
            <p:nvPr/>
          </p:nvSpPr>
          <p:spPr>
            <a:xfrm flipH="1">
              <a:off x="4487760" y="4716360"/>
              <a:ext cx="53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7"/>
            <p:cNvSpPr/>
            <p:nvPr/>
          </p:nvSpPr>
          <p:spPr>
            <a:xfrm>
              <a:off x="3736800" y="3675240"/>
              <a:ext cx="0" cy="78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8"/>
            <p:cNvSpPr/>
            <p:nvPr/>
          </p:nvSpPr>
          <p:spPr>
            <a:xfrm>
              <a:off x="148428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19"/>
            <p:cNvSpPr/>
            <p:nvPr/>
          </p:nvSpPr>
          <p:spPr>
            <a:xfrm>
              <a:off x="4137120" y="5369040"/>
              <a:ext cx="1208160" cy="390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rrup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20"/>
            <p:cNvSpPr/>
            <p:nvPr/>
          </p:nvSpPr>
          <p:spPr>
            <a:xfrm flipV="1">
              <a:off x="4702320" y="3803400"/>
              <a:ext cx="0" cy="16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1"/>
            <p:cNvSpPr/>
            <p:nvPr/>
          </p:nvSpPr>
          <p:spPr>
            <a:xfrm>
              <a:off x="3243240" y="3695760"/>
              <a:ext cx="0" cy="188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22"/>
            <p:cNvSpPr/>
            <p:nvPr/>
          </p:nvSpPr>
          <p:spPr>
            <a:xfrm>
              <a:off x="3243240" y="5584680"/>
              <a:ext cx="10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3"/>
            <p:cNvSpPr/>
            <p:nvPr/>
          </p:nvSpPr>
          <p:spPr>
            <a:xfrm>
              <a:off x="5130720" y="4846680"/>
              <a:ext cx="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4"/>
            <p:cNvSpPr/>
            <p:nvPr/>
          </p:nvSpPr>
          <p:spPr>
            <a:xfrm>
              <a:off x="304920" y="2892600"/>
              <a:ext cx="36464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25"/>
            <p:cNvSpPr/>
            <p:nvPr/>
          </p:nvSpPr>
          <p:spPr>
            <a:xfrm>
              <a:off x="304920" y="2892600"/>
              <a:ext cx="0" cy="31273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6"/>
            <p:cNvSpPr/>
            <p:nvPr/>
          </p:nvSpPr>
          <p:spPr>
            <a:xfrm flipV="1">
              <a:off x="3951360" y="2892600"/>
              <a:ext cx="0" cy="11728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>
              <a:off x="304920" y="6019920"/>
              <a:ext cx="55767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8"/>
            <p:cNvSpPr/>
            <p:nvPr/>
          </p:nvSpPr>
          <p:spPr>
            <a:xfrm flipH="1">
              <a:off x="3951360" y="4065480"/>
              <a:ext cx="1930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9"/>
            <p:cNvSpPr/>
            <p:nvPr/>
          </p:nvSpPr>
          <p:spPr>
            <a:xfrm flipV="1">
              <a:off x="5881680" y="4065120"/>
              <a:ext cx="0" cy="19544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30"/>
            <p:cNvSpPr/>
            <p:nvPr/>
          </p:nvSpPr>
          <p:spPr>
            <a:xfrm>
              <a:off x="733320" y="5497560"/>
              <a:ext cx="128772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PERSO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31"/>
            <p:cNvSpPr/>
            <p:nvPr/>
          </p:nvSpPr>
          <p:spPr>
            <a:xfrm>
              <a:off x="2343240" y="315288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32"/>
            <p:cNvSpPr/>
            <p:nvPr/>
          </p:nvSpPr>
          <p:spPr>
            <a:xfrm>
              <a:off x="2021040" y="4195800"/>
              <a:ext cx="150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33"/>
            <p:cNvSpPr/>
            <p:nvPr/>
          </p:nvSpPr>
          <p:spPr>
            <a:xfrm>
              <a:off x="3522600" y="419580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33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3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DFB1-CEA2-4C92-A2C7-B9E2A5441008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3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1219320"/>
            <a:ext cx="9144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Diagrama sistémico de problemas frecuentes en instituciones públic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02" name="Group 4"/>
          <p:cNvGrpSpPr/>
          <p:nvPr/>
        </p:nvGrpSpPr>
        <p:grpSpPr>
          <a:xfrm>
            <a:off x="304920" y="2892240"/>
            <a:ext cx="8578800" cy="3127680"/>
            <a:chOff x="304920" y="2892240"/>
            <a:chExt cx="8578800" cy="3127680"/>
          </a:xfrm>
        </p:grpSpPr>
        <p:sp>
          <p:nvSpPr>
            <p:cNvPr id="503" name="Text Box 5"/>
            <p:cNvSpPr/>
            <p:nvPr/>
          </p:nvSpPr>
          <p:spPr>
            <a:xfrm>
              <a:off x="6053040" y="5294160"/>
              <a:ext cx="2789280" cy="3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0000"/>
                  </a:solidFill>
                  <a:latin typeface="Arial"/>
                </a:rPr>
                <a:t>PROCESOS Y ESTRATEG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6"/>
            <p:cNvSpPr/>
            <p:nvPr/>
          </p:nvSpPr>
          <p:spPr>
            <a:xfrm>
              <a:off x="4165560" y="3022560"/>
              <a:ext cx="1393920" cy="91296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a calidad y eficacia en el servicio públ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7"/>
            <p:cNvSpPr/>
            <p:nvPr/>
          </p:nvSpPr>
          <p:spPr>
            <a:xfrm>
              <a:off x="2557440" y="3022560"/>
              <a:ext cx="1285920" cy="8589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tratación de ejecu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adecu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8"/>
            <p:cNvSpPr/>
            <p:nvPr/>
          </p:nvSpPr>
          <p:spPr>
            <a:xfrm flipV="1">
              <a:off x="3738600" y="3543480"/>
              <a:ext cx="534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9"/>
            <p:cNvSpPr/>
            <p:nvPr/>
          </p:nvSpPr>
          <p:spPr>
            <a:xfrm>
              <a:off x="3308400" y="4325760"/>
              <a:ext cx="128592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lima laboral inadecu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0"/>
            <p:cNvSpPr/>
            <p:nvPr/>
          </p:nvSpPr>
          <p:spPr>
            <a:xfrm>
              <a:off x="736560" y="4325760"/>
              <a:ext cx="224964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flicto entre “antiguos” y “nuevos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1"/>
            <p:cNvSpPr/>
            <p:nvPr/>
          </p:nvSpPr>
          <p:spPr>
            <a:xfrm>
              <a:off x="2664000" y="3675240"/>
              <a:ext cx="0" cy="78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2"/>
            <p:cNvSpPr/>
            <p:nvPr/>
          </p:nvSpPr>
          <p:spPr>
            <a:xfrm>
              <a:off x="2878200" y="4456080"/>
              <a:ext cx="53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3"/>
            <p:cNvSpPr/>
            <p:nvPr/>
          </p:nvSpPr>
          <p:spPr>
            <a:xfrm flipV="1">
              <a:off x="437976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4"/>
            <p:cNvSpPr/>
            <p:nvPr/>
          </p:nvSpPr>
          <p:spPr>
            <a:xfrm>
              <a:off x="628560" y="3022560"/>
              <a:ext cx="1611360" cy="9144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evaluabilidad e inamovilidad de trabajad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5"/>
            <p:cNvSpPr/>
            <p:nvPr/>
          </p:nvSpPr>
          <p:spPr>
            <a:xfrm>
              <a:off x="2021040" y="367524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6"/>
            <p:cNvSpPr/>
            <p:nvPr/>
          </p:nvSpPr>
          <p:spPr>
            <a:xfrm>
              <a:off x="5883120" y="3022560"/>
              <a:ext cx="1287720" cy="8589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rencia de indicadores  de gest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7"/>
            <p:cNvSpPr/>
            <p:nvPr/>
          </p:nvSpPr>
          <p:spPr>
            <a:xfrm>
              <a:off x="7277040" y="3022560"/>
              <a:ext cx="1500120" cy="8193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rocesos con-fusos y sistemas desarticul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8"/>
            <p:cNvSpPr/>
            <p:nvPr/>
          </p:nvSpPr>
          <p:spPr>
            <a:xfrm>
              <a:off x="7489800" y="367524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9"/>
            <p:cNvSpPr/>
            <p:nvPr/>
          </p:nvSpPr>
          <p:spPr>
            <a:xfrm flipH="1">
              <a:off x="5344920" y="4195800"/>
              <a:ext cx="214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20"/>
            <p:cNvSpPr/>
            <p:nvPr/>
          </p:nvSpPr>
          <p:spPr>
            <a:xfrm flipV="1">
              <a:off x="5345280" y="380340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21"/>
            <p:cNvSpPr/>
            <p:nvPr/>
          </p:nvSpPr>
          <p:spPr>
            <a:xfrm>
              <a:off x="4916520" y="4325760"/>
              <a:ext cx="85716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os sala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2"/>
            <p:cNvSpPr/>
            <p:nvPr/>
          </p:nvSpPr>
          <p:spPr>
            <a:xfrm flipH="1">
              <a:off x="4487760" y="4716360"/>
              <a:ext cx="53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23"/>
            <p:cNvSpPr/>
            <p:nvPr/>
          </p:nvSpPr>
          <p:spPr>
            <a:xfrm>
              <a:off x="6203880" y="4325760"/>
              <a:ext cx="2360520" cy="6508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fusión en su misión, servicios, usuarios y estrateg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24"/>
            <p:cNvSpPr/>
            <p:nvPr/>
          </p:nvSpPr>
          <p:spPr>
            <a:xfrm flipV="1">
              <a:off x="7586640" y="3695400"/>
              <a:ext cx="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25"/>
            <p:cNvSpPr/>
            <p:nvPr/>
          </p:nvSpPr>
          <p:spPr>
            <a:xfrm flipV="1">
              <a:off x="6310440" y="3768480"/>
              <a:ext cx="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6"/>
            <p:cNvSpPr/>
            <p:nvPr/>
          </p:nvSpPr>
          <p:spPr>
            <a:xfrm flipH="1">
              <a:off x="7061040" y="3413160"/>
              <a:ext cx="32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7"/>
            <p:cNvSpPr/>
            <p:nvPr/>
          </p:nvSpPr>
          <p:spPr>
            <a:xfrm>
              <a:off x="3736800" y="3675240"/>
              <a:ext cx="0" cy="78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8"/>
            <p:cNvSpPr/>
            <p:nvPr/>
          </p:nvSpPr>
          <p:spPr>
            <a:xfrm>
              <a:off x="148428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9"/>
            <p:cNvSpPr/>
            <p:nvPr/>
          </p:nvSpPr>
          <p:spPr>
            <a:xfrm>
              <a:off x="4137120" y="5369040"/>
              <a:ext cx="1208160" cy="390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rrup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30"/>
            <p:cNvSpPr/>
            <p:nvPr/>
          </p:nvSpPr>
          <p:spPr>
            <a:xfrm flipV="1">
              <a:off x="4702320" y="3803400"/>
              <a:ext cx="0" cy="16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31"/>
            <p:cNvSpPr/>
            <p:nvPr/>
          </p:nvSpPr>
          <p:spPr>
            <a:xfrm>
              <a:off x="3243240" y="3695760"/>
              <a:ext cx="0" cy="188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2"/>
            <p:cNvSpPr/>
            <p:nvPr/>
          </p:nvSpPr>
          <p:spPr>
            <a:xfrm>
              <a:off x="3243240" y="5584680"/>
              <a:ext cx="10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3"/>
            <p:cNvSpPr/>
            <p:nvPr/>
          </p:nvSpPr>
          <p:spPr>
            <a:xfrm>
              <a:off x="5130720" y="4846680"/>
              <a:ext cx="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34"/>
            <p:cNvSpPr/>
            <p:nvPr/>
          </p:nvSpPr>
          <p:spPr>
            <a:xfrm>
              <a:off x="6095880" y="3803760"/>
              <a:ext cx="0" cy="16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5"/>
            <p:cNvSpPr/>
            <p:nvPr/>
          </p:nvSpPr>
          <p:spPr>
            <a:xfrm flipH="1">
              <a:off x="5238360" y="5497560"/>
              <a:ext cx="85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6"/>
            <p:cNvSpPr/>
            <p:nvPr/>
          </p:nvSpPr>
          <p:spPr>
            <a:xfrm>
              <a:off x="304920" y="2892600"/>
              <a:ext cx="36464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7"/>
            <p:cNvSpPr/>
            <p:nvPr/>
          </p:nvSpPr>
          <p:spPr>
            <a:xfrm>
              <a:off x="304920" y="2892600"/>
              <a:ext cx="0" cy="31273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38"/>
            <p:cNvSpPr/>
            <p:nvPr/>
          </p:nvSpPr>
          <p:spPr>
            <a:xfrm flipV="1">
              <a:off x="3951360" y="2892600"/>
              <a:ext cx="0" cy="11728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9"/>
            <p:cNvSpPr/>
            <p:nvPr/>
          </p:nvSpPr>
          <p:spPr>
            <a:xfrm>
              <a:off x="304920" y="6019920"/>
              <a:ext cx="55767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40"/>
            <p:cNvSpPr/>
            <p:nvPr/>
          </p:nvSpPr>
          <p:spPr>
            <a:xfrm flipH="1">
              <a:off x="3951360" y="4065480"/>
              <a:ext cx="1930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41"/>
            <p:cNvSpPr/>
            <p:nvPr/>
          </p:nvSpPr>
          <p:spPr>
            <a:xfrm flipV="1">
              <a:off x="5881680" y="4065120"/>
              <a:ext cx="0" cy="19544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42"/>
            <p:cNvSpPr/>
            <p:nvPr/>
          </p:nvSpPr>
          <p:spPr>
            <a:xfrm>
              <a:off x="733320" y="5497560"/>
              <a:ext cx="128772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PERSO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43"/>
            <p:cNvSpPr/>
            <p:nvPr/>
          </p:nvSpPr>
          <p:spPr>
            <a:xfrm flipV="1">
              <a:off x="5987880" y="3935520"/>
              <a:ext cx="0" cy="1954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44"/>
            <p:cNvSpPr/>
            <p:nvPr/>
          </p:nvSpPr>
          <p:spPr>
            <a:xfrm>
              <a:off x="5987880" y="5889600"/>
              <a:ext cx="28958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45"/>
            <p:cNvSpPr/>
            <p:nvPr/>
          </p:nvSpPr>
          <p:spPr>
            <a:xfrm flipV="1">
              <a:off x="8883720" y="2892240"/>
              <a:ext cx="0" cy="2997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46"/>
            <p:cNvSpPr/>
            <p:nvPr/>
          </p:nvSpPr>
          <p:spPr>
            <a:xfrm>
              <a:off x="5773680" y="2892600"/>
              <a:ext cx="31100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47"/>
            <p:cNvSpPr/>
            <p:nvPr/>
          </p:nvSpPr>
          <p:spPr>
            <a:xfrm>
              <a:off x="5773680" y="3935520"/>
              <a:ext cx="2142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48"/>
            <p:cNvSpPr/>
            <p:nvPr/>
          </p:nvSpPr>
          <p:spPr>
            <a:xfrm flipV="1">
              <a:off x="5773680" y="2892240"/>
              <a:ext cx="0" cy="10429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49"/>
            <p:cNvSpPr/>
            <p:nvPr/>
          </p:nvSpPr>
          <p:spPr>
            <a:xfrm>
              <a:off x="2343240" y="315288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50"/>
            <p:cNvSpPr/>
            <p:nvPr/>
          </p:nvSpPr>
          <p:spPr>
            <a:xfrm>
              <a:off x="2021040" y="4195800"/>
              <a:ext cx="150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51"/>
            <p:cNvSpPr/>
            <p:nvPr/>
          </p:nvSpPr>
          <p:spPr>
            <a:xfrm>
              <a:off x="3522600" y="419580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52"/>
            <p:cNvSpPr/>
            <p:nvPr/>
          </p:nvSpPr>
          <p:spPr>
            <a:xfrm>
              <a:off x="3092400" y="3768840"/>
              <a:ext cx="3240" cy="14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53"/>
            <p:cNvSpPr/>
            <p:nvPr/>
          </p:nvSpPr>
          <p:spPr>
            <a:xfrm>
              <a:off x="3092400" y="5238720"/>
              <a:ext cx="354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54"/>
            <p:cNvSpPr/>
            <p:nvPr/>
          </p:nvSpPr>
          <p:spPr>
            <a:xfrm flipV="1">
              <a:off x="6632640" y="484632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55"/>
            <p:cNvSpPr/>
            <p:nvPr/>
          </p:nvSpPr>
          <p:spPr>
            <a:xfrm flipH="1">
              <a:off x="5452920" y="3540240"/>
              <a:ext cx="53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55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5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514F-2E63-4E2C-86F3-5AD4BB4D7DEC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5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1219320"/>
            <a:ext cx="9144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Diagrama sistémico de problemas frecuentes en instituciones públic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59" name="Group 4"/>
          <p:cNvGrpSpPr/>
          <p:nvPr/>
        </p:nvGrpSpPr>
        <p:grpSpPr>
          <a:xfrm>
            <a:off x="304920" y="1371600"/>
            <a:ext cx="8686800" cy="4648320"/>
            <a:chOff x="304920" y="1371600"/>
            <a:chExt cx="8686800" cy="4648320"/>
          </a:xfrm>
        </p:grpSpPr>
        <p:sp>
          <p:nvSpPr>
            <p:cNvPr id="560" name="Text Box 5"/>
            <p:cNvSpPr/>
            <p:nvPr/>
          </p:nvSpPr>
          <p:spPr>
            <a:xfrm>
              <a:off x="6053400" y="5293440"/>
              <a:ext cx="2788200" cy="39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0000"/>
                  </a:solidFill>
                  <a:latin typeface="Arial"/>
                </a:rPr>
                <a:t>PROCESOS Y ESTRATEG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6"/>
            <p:cNvSpPr/>
            <p:nvPr/>
          </p:nvSpPr>
          <p:spPr>
            <a:xfrm>
              <a:off x="734040" y="1371600"/>
              <a:ext cx="7935480" cy="1303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7"/>
            <p:cNvSpPr/>
            <p:nvPr/>
          </p:nvSpPr>
          <p:spPr>
            <a:xfrm>
              <a:off x="4165560" y="3021840"/>
              <a:ext cx="1394280" cy="91296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a calidad y eficacia en el servicio públ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8"/>
            <p:cNvSpPr/>
            <p:nvPr/>
          </p:nvSpPr>
          <p:spPr>
            <a:xfrm>
              <a:off x="1055520" y="1848600"/>
              <a:ext cx="1394280" cy="652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resiones del entorno polí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9"/>
            <p:cNvSpPr/>
            <p:nvPr/>
          </p:nvSpPr>
          <p:spPr>
            <a:xfrm>
              <a:off x="2666520" y="1848600"/>
              <a:ext cx="1284480" cy="652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Restricciones norm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0"/>
            <p:cNvSpPr/>
            <p:nvPr/>
          </p:nvSpPr>
          <p:spPr>
            <a:xfrm>
              <a:off x="4165560" y="1848600"/>
              <a:ext cx="1394280" cy="652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Restricción presupuest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1"/>
            <p:cNvSpPr/>
            <p:nvPr/>
          </p:nvSpPr>
          <p:spPr>
            <a:xfrm>
              <a:off x="5776560" y="1848600"/>
              <a:ext cx="1284480" cy="652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inanciadores descont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2"/>
            <p:cNvSpPr/>
            <p:nvPr/>
          </p:nvSpPr>
          <p:spPr>
            <a:xfrm>
              <a:off x="7275960" y="1848600"/>
              <a:ext cx="1181520" cy="652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Rumores de desprestig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13"/>
            <p:cNvSpPr/>
            <p:nvPr/>
          </p:nvSpPr>
          <p:spPr>
            <a:xfrm flipH="1">
              <a:off x="6954120" y="2305440"/>
              <a:ext cx="42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14"/>
            <p:cNvSpPr/>
            <p:nvPr/>
          </p:nvSpPr>
          <p:spPr>
            <a:xfrm flipH="1">
              <a:off x="5452920" y="2241000"/>
              <a:ext cx="42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5"/>
            <p:cNvSpPr/>
            <p:nvPr/>
          </p:nvSpPr>
          <p:spPr>
            <a:xfrm>
              <a:off x="3843360" y="2370240"/>
              <a:ext cx="42948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6"/>
            <p:cNvSpPr/>
            <p:nvPr/>
          </p:nvSpPr>
          <p:spPr>
            <a:xfrm>
              <a:off x="2557080" y="3021840"/>
              <a:ext cx="1286280" cy="859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tratación de ejecu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adecu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17"/>
            <p:cNvSpPr/>
            <p:nvPr/>
          </p:nvSpPr>
          <p:spPr>
            <a:xfrm>
              <a:off x="2342520" y="2241000"/>
              <a:ext cx="0" cy="9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18"/>
            <p:cNvSpPr/>
            <p:nvPr/>
          </p:nvSpPr>
          <p:spPr>
            <a:xfrm flipV="1">
              <a:off x="3738960" y="3542760"/>
              <a:ext cx="533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19"/>
            <p:cNvSpPr/>
            <p:nvPr/>
          </p:nvSpPr>
          <p:spPr>
            <a:xfrm>
              <a:off x="3307680" y="4325040"/>
              <a:ext cx="1287000" cy="65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lima laboral inadecu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20"/>
            <p:cNvSpPr/>
            <p:nvPr/>
          </p:nvSpPr>
          <p:spPr>
            <a:xfrm>
              <a:off x="735840" y="4325040"/>
              <a:ext cx="2249640" cy="65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flicto entre “antiguos” y “nuevos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1"/>
            <p:cNvSpPr/>
            <p:nvPr/>
          </p:nvSpPr>
          <p:spPr>
            <a:xfrm>
              <a:off x="2664720" y="3674520"/>
              <a:ext cx="0" cy="78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22"/>
            <p:cNvSpPr/>
            <p:nvPr/>
          </p:nvSpPr>
          <p:spPr>
            <a:xfrm>
              <a:off x="2878560" y="4456440"/>
              <a:ext cx="53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23"/>
            <p:cNvSpPr/>
            <p:nvPr/>
          </p:nvSpPr>
          <p:spPr>
            <a:xfrm flipV="1">
              <a:off x="438012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24"/>
            <p:cNvSpPr/>
            <p:nvPr/>
          </p:nvSpPr>
          <p:spPr>
            <a:xfrm>
              <a:off x="628560" y="3022920"/>
              <a:ext cx="1611000" cy="913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nevaluabilidad e inamovilidad de trabajad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25"/>
            <p:cNvSpPr/>
            <p:nvPr/>
          </p:nvSpPr>
          <p:spPr>
            <a:xfrm flipV="1">
              <a:off x="1591920" y="276120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26"/>
            <p:cNvSpPr/>
            <p:nvPr/>
          </p:nvSpPr>
          <p:spPr>
            <a:xfrm>
              <a:off x="1591920" y="2761560"/>
              <a:ext cx="300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7"/>
            <p:cNvSpPr/>
            <p:nvPr/>
          </p:nvSpPr>
          <p:spPr>
            <a:xfrm>
              <a:off x="4595040" y="276156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28"/>
            <p:cNvSpPr/>
            <p:nvPr/>
          </p:nvSpPr>
          <p:spPr>
            <a:xfrm flipH="1">
              <a:off x="2019960" y="2418480"/>
              <a:ext cx="857880" cy="73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29"/>
            <p:cNvSpPr/>
            <p:nvPr/>
          </p:nvSpPr>
          <p:spPr>
            <a:xfrm>
              <a:off x="2020320" y="3674520"/>
              <a:ext cx="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30"/>
            <p:cNvSpPr/>
            <p:nvPr/>
          </p:nvSpPr>
          <p:spPr>
            <a:xfrm>
              <a:off x="5884200" y="3022920"/>
              <a:ext cx="1286280" cy="858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rencia de indicadores  de gest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31"/>
            <p:cNvSpPr/>
            <p:nvPr/>
          </p:nvSpPr>
          <p:spPr>
            <a:xfrm flipV="1">
              <a:off x="6525360" y="237024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32"/>
            <p:cNvSpPr/>
            <p:nvPr/>
          </p:nvSpPr>
          <p:spPr>
            <a:xfrm>
              <a:off x="7277760" y="3021840"/>
              <a:ext cx="1499040" cy="8190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rocesos con-fusos y sistemas desarticul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33"/>
            <p:cNvSpPr/>
            <p:nvPr/>
          </p:nvSpPr>
          <p:spPr>
            <a:xfrm>
              <a:off x="5238000" y="237024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34"/>
            <p:cNvSpPr/>
            <p:nvPr/>
          </p:nvSpPr>
          <p:spPr>
            <a:xfrm>
              <a:off x="7490520" y="3674520"/>
              <a:ext cx="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35"/>
            <p:cNvSpPr/>
            <p:nvPr/>
          </p:nvSpPr>
          <p:spPr>
            <a:xfrm flipH="1">
              <a:off x="5345640" y="4195800"/>
              <a:ext cx="214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36"/>
            <p:cNvSpPr/>
            <p:nvPr/>
          </p:nvSpPr>
          <p:spPr>
            <a:xfrm flipV="1">
              <a:off x="5345640" y="380340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37"/>
            <p:cNvSpPr/>
            <p:nvPr/>
          </p:nvSpPr>
          <p:spPr>
            <a:xfrm>
              <a:off x="5238000" y="2761560"/>
              <a:ext cx="246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38"/>
            <p:cNvSpPr/>
            <p:nvPr/>
          </p:nvSpPr>
          <p:spPr>
            <a:xfrm>
              <a:off x="7704360" y="276156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39"/>
            <p:cNvSpPr/>
            <p:nvPr/>
          </p:nvSpPr>
          <p:spPr>
            <a:xfrm>
              <a:off x="4916160" y="4325040"/>
              <a:ext cx="857520" cy="65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jos sala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40"/>
            <p:cNvSpPr/>
            <p:nvPr/>
          </p:nvSpPr>
          <p:spPr>
            <a:xfrm>
              <a:off x="5452920" y="2109960"/>
              <a:ext cx="21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41"/>
            <p:cNvSpPr/>
            <p:nvPr/>
          </p:nvSpPr>
          <p:spPr>
            <a:xfrm>
              <a:off x="5666760" y="2109960"/>
              <a:ext cx="0" cy="23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42"/>
            <p:cNvSpPr/>
            <p:nvPr/>
          </p:nvSpPr>
          <p:spPr>
            <a:xfrm flipH="1">
              <a:off x="4487760" y="4716720"/>
              <a:ext cx="53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43"/>
            <p:cNvSpPr/>
            <p:nvPr/>
          </p:nvSpPr>
          <p:spPr>
            <a:xfrm>
              <a:off x="6203520" y="4325040"/>
              <a:ext cx="2361600" cy="65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fusión en su misión, servicios, usuarios y estrateg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44"/>
            <p:cNvSpPr/>
            <p:nvPr/>
          </p:nvSpPr>
          <p:spPr>
            <a:xfrm flipH="1">
              <a:off x="519120" y="2370240"/>
              <a:ext cx="75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45"/>
            <p:cNvSpPr/>
            <p:nvPr/>
          </p:nvSpPr>
          <p:spPr>
            <a:xfrm>
              <a:off x="519480" y="2370240"/>
              <a:ext cx="0" cy="27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46"/>
            <p:cNvSpPr/>
            <p:nvPr/>
          </p:nvSpPr>
          <p:spPr>
            <a:xfrm>
              <a:off x="519480" y="510804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47"/>
            <p:cNvSpPr/>
            <p:nvPr/>
          </p:nvSpPr>
          <p:spPr>
            <a:xfrm flipV="1">
              <a:off x="6310800" y="48466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48"/>
            <p:cNvSpPr/>
            <p:nvPr/>
          </p:nvSpPr>
          <p:spPr>
            <a:xfrm flipV="1">
              <a:off x="7586280" y="3695400"/>
              <a:ext cx="0" cy="72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49"/>
            <p:cNvSpPr/>
            <p:nvPr/>
          </p:nvSpPr>
          <p:spPr>
            <a:xfrm flipV="1">
              <a:off x="6310800" y="3768480"/>
              <a:ext cx="0" cy="68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50"/>
            <p:cNvSpPr/>
            <p:nvPr/>
          </p:nvSpPr>
          <p:spPr>
            <a:xfrm flipH="1">
              <a:off x="7061040" y="3413160"/>
              <a:ext cx="32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51"/>
            <p:cNvSpPr/>
            <p:nvPr/>
          </p:nvSpPr>
          <p:spPr>
            <a:xfrm>
              <a:off x="3736440" y="3674520"/>
              <a:ext cx="0" cy="78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52"/>
            <p:cNvSpPr/>
            <p:nvPr/>
          </p:nvSpPr>
          <p:spPr>
            <a:xfrm>
              <a:off x="1484640" y="3803760"/>
              <a:ext cx="0" cy="6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53"/>
            <p:cNvSpPr/>
            <p:nvPr/>
          </p:nvSpPr>
          <p:spPr>
            <a:xfrm>
              <a:off x="4137120" y="5367960"/>
              <a:ext cx="1208160" cy="391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rrup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54"/>
            <p:cNvSpPr/>
            <p:nvPr/>
          </p:nvSpPr>
          <p:spPr>
            <a:xfrm flipV="1">
              <a:off x="4701600" y="3803400"/>
              <a:ext cx="0" cy="16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55"/>
            <p:cNvSpPr/>
            <p:nvPr/>
          </p:nvSpPr>
          <p:spPr>
            <a:xfrm>
              <a:off x="3242880" y="3695760"/>
              <a:ext cx="0" cy="188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56"/>
            <p:cNvSpPr/>
            <p:nvPr/>
          </p:nvSpPr>
          <p:spPr>
            <a:xfrm>
              <a:off x="3242880" y="5583960"/>
              <a:ext cx="10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57"/>
            <p:cNvSpPr/>
            <p:nvPr/>
          </p:nvSpPr>
          <p:spPr>
            <a:xfrm>
              <a:off x="5130720" y="4846680"/>
              <a:ext cx="0" cy="65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58"/>
            <p:cNvSpPr/>
            <p:nvPr/>
          </p:nvSpPr>
          <p:spPr>
            <a:xfrm>
              <a:off x="6096240" y="3803760"/>
              <a:ext cx="0" cy="16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59"/>
            <p:cNvSpPr/>
            <p:nvPr/>
          </p:nvSpPr>
          <p:spPr>
            <a:xfrm flipH="1">
              <a:off x="5237640" y="5498280"/>
              <a:ext cx="8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60"/>
            <p:cNvSpPr/>
            <p:nvPr/>
          </p:nvSpPr>
          <p:spPr>
            <a:xfrm>
              <a:off x="4165560" y="1458000"/>
              <a:ext cx="128700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ENTO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61"/>
            <p:cNvSpPr/>
            <p:nvPr/>
          </p:nvSpPr>
          <p:spPr>
            <a:xfrm>
              <a:off x="304920" y="2891520"/>
              <a:ext cx="3646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62"/>
            <p:cNvSpPr/>
            <p:nvPr/>
          </p:nvSpPr>
          <p:spPr>
            <a:xfrm>
              <a:off x="304920" y="2891520"/>
              <a:ext cx="0" cy="31280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63"/>
            <p:cNvSpPr/>
            <p:nvPr/>
          </p:nvSpPr>
          <p:spPr>
            <a:xfrm flipV="1">
              <a:off x="3951000" y="2891160"/>
              <a:ext cx="0" cy="11732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64"/>
            <p:cNvSpPr/>
            <p:nvPr/>
          </p:nvSpPr>
          <p:spPr>
            <a:xfrm>
              <a:off x="304920" y="6019920"/>
              <a:ext cx="55764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65"/>
            <p:cNvSpPr/>
            <p:nvPr/>
          </p:nvSpPr>
          <p:spPr>
            <a:xfrm flipH="1">
              <a:off x="3951000" y="4064760"/>
              <a:ext cx="1930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66"/>
            <p:cNvSpPr/>
            <p:nvPr/>
          </p:nvSpPr>
          <p:spPr>
            <a:xfrm flipV="1">
              <a:off x="5881320" y="4064760"/>
              <a:ext cx="0" cy="19548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67"/>
            <p:cNvSpPr/>
            <p:nvPr/>
          </p:nvSpPr>
          <p:spPr>
            <a:xfrm>
              <a:off x="734040" y="5498280"/>
              <a:ext cx="1286280" cy="39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PERSO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68"/>
            <p:cNvSpPr/>
            <p:nvPr/>
          </p:nvSpPr>
          <p:spPr>
            <a:xfrm flipV="1">
              <a:off x="5988600" y="3934800"/>
              <a:ext cx="0" cy="19548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69"/>
            <p:cNvSpPr/>
            <p:nvPr/>
          </p:nvSpPr>
          <p:spPr>
            <a:xfrm>
              <a:off x="5988600" y="5889600"/>
              <a:ext cx="28954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70"/>
            <p:cNvSpPr/>
            <p:nvPr/>
          </p:nvSpPr>
          <p:spPr>
            <a:xfrm flipV="1">
              <a:off x="8884440" y="2891520"/>
              <a:ext cx="0" cy="2998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71"/>
            <p:cNvSpPr/>
            <p:nvPr/>
          </p:nvSpPr>
          <p:spPr>
            <a:xfrm>
              <a:off x="5774040" y="2891520"/>
              <a:ext cx="31100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72"/>
            <p:cNvSpPr/>
            <p:nvPr/>
          </p:nvSpPr>
          <p:spPr>
            <a:xfrm>
              <a:off x="5774040" y="3934800"/>
              <a:ext cx="2145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73"/>
            <p:cNvSpPr/>
            <p:nvPr/>
          </p:nvSpPr>
          <p:spPr>
            <a:xfrm flipV="1">
              <a:off x="5774040" y="2891160"/>
              <a:ext cx="0" cy="10429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74"/>
            <p:cNvSpPr/>
            <p:nvPr/>
          </p:nvSpPr>
          <p:spPr>
            <a:xfrm>
              <a:off x="2342520" y="3152880"/>
              <a:ext cx="32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75"/>
            <p:cNvSpPr/>
            <p:nvPr/>
          </p:nvSpPr>
          <p:spPr>
            <a:xfrm>
              <a:off x="2020320" y="4195800"/>
              <a:ext cx="15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76"/>
            <p:cNvSpPr/>
            <p:nvPr/>
          </p:nvSpPr>
          <p:spPr>
            <a:xfrm>
              <a:off x="3522240" y="419580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77"/>
            <p:cNvSpPr/>
            <p:nvPr/>
          </p:nvSpPr>
          <p:spPr>
            <a:xfrm flipV="1">
              <a:off x="7919280" y="237024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78"/>
            <p:cNvSpPr/>
            <p:nvPr/>
          </p:nvSpPr>
          <p:spPr>
            <a:xfrm>
              <a:off x="1377360" y="237024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79"/>
            <p:cNvSpPr/>
            <p:nvPr/>
          </p:nvSpPr>
          <p:spPr>
            <a:xfrm>
              <a:off x="5238000" y="5629320"/>
              <a:ext cx="375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80"/>
            <p:cNvSpPr/>
            <p:nvPr/>
          </p:nvSpPr>
          <p:spPr>
            <a:xfrm flipV="1">
              <a:off x="8991720" y="2241000"/>
              <a:ext cx="0" cy="338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81"/>
            <p:cNvSpPr/>
            <p:nvPr/>
          </p:nvSpPr>
          <p:spPr>
            <a:xfrm flipH="1">
              <a:off x="8240760" y="2241000"/>
              <a:ext cx="75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82"/>
            <p:cNvSpPr/>
            <p:nvPr/>
          </p:nvSpPr>
          <p:spPr>
            <a:xfrm>
              <a:off x="3093120" y="3768480"/>
              <a:ext cx="2520" cy="14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83"/>
            <p:cNvSpPr/>
            <p:nvPr/>
          </p:nvSpPr>
          <p:spPr>
            <a:xfrm>
              <a:off x="3093120" y="5238000"/>
              <a:ext cx="35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84"/>
            <p:cNvSpPr/>
            <p:nvPr/>
          </p:nvSpPr>
          <p:spPr>
            <a:xfrm flipV="1">
              <a:off x="6631920" y="484632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85"/>
            <p:cNvSpPr/>
            <p:nvPr/>
          </p:nvSpPr>
          <p:spPr>
            <a:xfrm>
              <a:off x="5023440" y="237024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86"/>
            <p:cNvSpPr/>
            <p:nvPr/>
          </p:nvSpPr>
          <p:spPr>
            <a:xfrm flipH="1">
              <a:off x="5452920" y="3540240"/>
              <a:ext cx="53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86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87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F858-2025-4AB2-9043-F024C1D30D8C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88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Century Gothic"/>
              </a:rPr>
              <a:t>Ver la complejidad implica ver sistémicamente. Una mirada exclusivamente analítica es ineficaz para un directivo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entury Gothic"/>
              </a:rPr>
              <a:t>ANEXO: PAUTA PRÁCTICA DE ANÁLISIS ESTRATÉGICO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898989"/>
              </a:solidFill>
              <a:latin typeface="Century Gothic"/>
            </a:endParaRPr>
          </a:p>
        </p:txBody>
      </p:sp>
      <p:sp>
        <p:nvSpPr>
          <p:cNvPr id="648" name="5 Marcador de fecha"/>
          <p:cNvSpPr/>
          <p:nvPr/>
        </p:nvSpPr>
        <p:spPr>
          <a:xfrm>
            <a:off x="2771640" y="638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4BEB-42E0-496D-8C23-D0CECEDED740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7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5056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Propósitos 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5327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6240" indent="-336240">
              <a:spcBef>
                <a:spcPts val="550"/>
              </a:spcBef>
              <a:buClr>
                <a:srgbClr val="cc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0000"/>
                </a:solidFill>
                <a:latin typeface="Century Gothic"/>
              </a:rPr>
              <a:t>(*) ¿Qué VP entrega la Organización X?;  a su juicio, ¿la hace una diferencia relevante para el país?; ¿es sustantivamente valiosa?, ¿dónde está específicamente la “agregación” de valor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Qué beneficios y costos específicos enfrentan los diversos clientes, comunidad, fiscalizados? , ¿cómo se pueden maximizar o minimiza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Cómo agrega valor a nivel de productos/servicios y de impacto final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Qué percepción tienen los clientes, los ciudadanos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Cuál es la agregación de valor de los últimos 6 años?¿Hay “progreso” en la agregación de VP ?, ¿en qué sentido? ¿Hay alguna acción puntual/proceso/ función especialmente destacable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3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217B-14DC-4074-8ABC-6EFB5A036D07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056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Propósitos I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604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Debería ajustarse o enfatizarse en algún sentido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Hay alguna línea de desarrollo que agrega más Valo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Hay algún indicador relevante que dé cuenta de la agregación de valor público? (costos, beneficios, tendencias…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entury Gothic"/>
              </a:rPr>
              <a:t>¿Cuál es la causalidad de la generación de valor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entury Gothic"/>
              </a:rPr>
              <a:t>¿Qué espacios de ganancia en materias de calidad de servicio existen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entury Gothic"/>
              </a:rPr>
              <a:t>¿Qué espacios de ganancia en confianza existen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54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8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FA1F-BA4C-434D-9778-651AC2A8DF85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1760" y="549360"/>
            <a:ext cx="792468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Gestión del Entorno 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0000"/>
                </a:solidFill>
                <a:latin typeface="Century Gothic"/>
              </a:rPr>
              <a:t>(*)¿Qué complejidades/demandas enfrenta la organización X en relación a su entorno/</a:t>
            </a:r>
            <a:r>
              <a:rPr b="1" i="1" lang="es-CL" sz="2200" spc="-1" strike="noStrike">
                <a:solidFill>
                  <a:srgbClr val="cc0000"/>
                </a:solidFill>
                <a:latin typeface="Century Gothic"/>
              </a:rPr>
              <a:t>stakeholders</a:t>
            </a:r>
            <a:r>
              <a:rPr b="1" lang="es-CL" sz="2200" spc="-1" strike="noStrike">
                <a:solidFill>
                  <a:srgbClr val="cc0000"/>
                </a:solidFill>
                <a:latin typeface="Century Gothic"/>
              </a:rPr>
              <a:t> claves?, ¿cómo se debería gestionar dicha situación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76080" indent="-259920">
              <a:spcBef>
                <a:spcPts val="524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99"/>
                </a:solidFill>
                <a:latin typeface="Century Gothic"/>
              </a:rPr>
              <a:t>¿Cuáles son los “</a:t>
            </a:r>
            <a:r>
              <a:rPr b="1" i="1" lang="es-CL" sz="2100" spc="-1" strike="noStrike">
                <a:solidFill>
                  <a:srgbClr val="000099"/>
                </a:solidFill>
                <a:latin typeface="Century Gothic"/>
              </a:rPr>
              <a:t>stakeholders clave</a:t>
            </a:r>
            <a:r>
              <a:rPr b="1" lang="es-CL" sz="2100" spc="-1" strike="noStrike">
                <a:solidFill>
                  <a:srgbClr val="000099"/>
                </a:solidFill>
                <a:latin typeface="Century Gothic"/>
              </a:rPr>
              <a:t>”, más a allá de la ciudadanía,  y qué valor esperan de la organización? ¿Cómo la dicha organización ha sido efectiva en esa agregación de Valor?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1" marL="676080" indent="-259920">
              <a:spcBef>
                <a:spcPts val="524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99"/>
                </a:solidFill>
                <a:latin typeface="Century Gothic"/>
              </a:rPr>
              <a:t>¿Ha gestionado la dicha organización suficientemente las Alianzas, y las capacidades externas que requiere para cumplir sus propósitos?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1" marL="676080" indent="-259920">
              <a:spcBef>
                <a:spcPts val="524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99"/>
                </a:solidFill>
                <a:latin typeface="Century Gothic"/>
              </a:rPr>
              <a:t>¿Cuenta esta organización con suficiente legitimidad e influencia en su entorno relevante?¿Qué debería hacer?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3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8419-376C-4B8E-BEC8-689A91F7EC82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92468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Gestión del Entorno I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99"/>
                </a:solidFill>
                <a:latin typeface="Century Gothic"/>
              </a:rPr>
              <a:t>¿Cuáles son las implicaciones del estado actual (o cambios anticipados) en el entorno de la organización?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99"/>
                </a:solidFill>
                <a:latin typeface="Century Gothic"/>
              </a:rPr>
              <a:t>¿cómo afecta el entorno a las capacidades de la organización para alcanzar su propósito?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99"/>
                </a:solidFill>
                <a:latin typeface="Century Gothic"/>
              </a:rPr>
              <a:t>¿Debe la organización adaptar o revisar sus metas y propósitos?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99"/>
                </a:solidFill>
                <a:latin typeface="Century Gothic"/>
              </a:rPr>
              <a:t>¿cómo deben adaptarse las capacidades organizacionales para reflejar los cambios del entorno?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99"/>
                </a:solidFill>
                <a:latin typeface="Century Gothic"/>
              </a:rPr>
              <a:t>¿cómo debe la organización vincularse con actores externos clave, instituciones y electores?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8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F663-24BB-4913-BAB6-D246AC79493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2468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Gestión del Entorno III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¿Cuáles son las tendencias actuales y de mediano plazo que pueden afectar a la organización en el futuro?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Tecnología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Leyes/Política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Valores Sociales/Culturales del país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Cambios sociales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99"/>
                </a:solidFill>
                <a:latin typeface="Century Gothic"/>
              </a:rPr>
              <a:t>Factores económicos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DB05-C1C2-4F8E-A9D9-724E89C7881D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Supone que los </a:t>
            </a:r>
            <a:r>
              <a:rPr b="1" lang="es-ES" sz="3600" spc="-1" strike="noStrike">
                <a:solidFill>
                  <a:srgbClr val="00a3d6"/>
                </a:solidFill>
                <a:latin typeface="Calibri"/>
              </a:rPr>
              <a:t>propósitos son nítidos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n las pautas normativas (Leyes, discursos o declaraciones de las “autoridades”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nfatiza más en la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“administración”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(objetivos y procedimientos definidos)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que en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“la gestión”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(respuesta a objetivos declarados, procedimientos amplios)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DF16-30F2-42B8-8BB4-61661A163F7D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"/>
          <p:cNvSpPr/>
          <p:nvPr/>
        </p:nvSpPr>
        <p:spPr>
          <a:xfrm>
            <a:off x="0" y="333360"/>
            <a:ext cx="9144000" cy="792000"/>
          </a:xfrm>
          <a:prstGeom prst="roundRect">
            <a:avLst>
              <a:gd name="adj" fmla="val 21667"/>
            </a:avLst>
          </a:prstGeom>
          <a:solidFill>
            <a:srgbClr val="edd3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Capacidad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0000"/>
                </a:solidFill>
                <a:latin typeface="Century Gothic"/>
              </a:rPr>
              <a:t>(*) ¿Existe  congruencia entre las capacidades de todo tipo (cualitativa y cuantitativamente) con los propósitos de la organización?  (Personas, Sistemas, conocimientos, infraestructura, organización…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Es viable técnica y operativamente el desarrollo de largo plazo de la organización dada las demandas  actuales y las tendencias del entorno que enfrenta?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Se enfrenta algún riesgo interno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¿Cuáles son los espacios de capacidades más necesitados de desarrollo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8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4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0D1E-3AF3-4771-95F9-CDCF4C346C8E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9001080" cy="40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 directivo debe cumplir sus mandatos con eficacia y eficiencia; tiende a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suponer </a:t>
            </a:r>
            <a:r>
              <a:rPr b="1" lang="es-ES" sz="4000" spc="-1" strike="noStrike">
                <a:solidFill>
                  <a:srgbClr val="00a3d6"/>
                </a:solidFill>
                <a:latin typeface="Calibri"/>
              </a:rPr>
              <a:t>conocimiento experto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(se conocen la respuestas, no requiere participación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ás “burocracia”, menos “emprendimiento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00a3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Las fuerzas son: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a3d6"/>
                </a:solidFill>
                <a:latin typeface="Calibri"/>
              </a:rPr>
              <a:t>descendentes y </a:t>
            </a:r>
            <a:r>
              <a:rPr b="1" lang="es-ES" sz="4000" spc="-1" strike="noStrike">
                <a:solidFill>
                  <a:srgbClr val="00a3d6"/>
                </a:solidFill>
                <a:latin typeface="Calibri"/>
              </a:rPr>
              <a:t>hacia adentro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iende a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no abrir reflexión sobre propósitos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6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E130-2BCC-4FD0-88F3-8F348AAB7D5B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solidFill>
            <a:srgbClr val="edd3b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4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5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Mark Moo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3 Marcador de fecha"/>
          <p:cNvSpPr/>
          <p:nvPr/>
        </p:nvSpPr>
        <p:spPr>
          <a:xfrm>
            <a:off x="2771640" y="63817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05/03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4 Marcador de pie de página"/>
          <p:cNvSpPr/>
          <p:nvPr/>
        </p:nvSpPr>
        <p:spPr>
          <a:xfrm>
            <a:off x="3987720" y="6381720"/>
            <a:ext cx="245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www.sistemaspublicos.cl  prof.Jose Inostroza L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5 Marcador de número de diapositiva"/>
          <p:cNvSpPr/>
          <p:nvPr/>
        </p:nvSpPr>
        <p:spPr>
          <a:xfrm>
            <a:off x="6624720" y="6381720"/>
            <a:ext cx="10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C757-F3EF-495E-A2B6-4A4E89594990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1573200" y="2286000"/>
            <a:ext cx="42181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04:25:03Z</dcterms:created>
  <dc:creator>cuc</dc:creator>
  <dc:description/>
  <dc:language>en-US</dc:language>
  <cp:lastModifiedBy>paula</cp:lastModifiedBy>
  <dcterms:modified xsi:type="dcterms:W3CDTF">2012-03-05T13:39:15Z</dcterms:modified>
  <cp:revision>246</cp:revision>
  <dc:subject/>
  <dc:title>Diapositiva 1</dc:title>
</cp:coreProperties>
</file>